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936-3AC6-4966-A5AA-574AEBB2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5C0-4D94-4F57-826C-0E785407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627-7546-403A-9C41-446BCB2F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4BA-83A7-4D83-BC08-C66EE5F2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0674-F6DF-4CAE-80DB-AF29F87D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11AE-4B2A-4702-8668-9FE059E9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65AE-DFA4-4736-B924-E0E8A82C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17F0-3723-4558-B4B1-495DBEC3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16A3-851A-486C-BEEE-716EF058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F3B2-5A07-4A19-ACFF-23E9C98C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829E-6122-4E23-9277-004A0F87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C31-1DA0-440E-904D-1A925C5E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CEC6-ADFD-47EB-8A59-2C6A56A2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6250-147E-4D54-A261-DA359174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738C-DE71-4EA2-94B9-ECAF43B1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846B-427E-46A8-B9C1-3D3235BE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7EE3-3D71-49D2-9705-A522D3FA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F45-DF6B-499D-9F77-4FAE557A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5AE-5A13-463E-8116-1D9EC4C0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63D-A0CC-41C3-A724-3B1D5B35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2D8-9AB9-4D83-8274-CFB74ED8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899-9AF4-4A48-A942-5D40BE67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633-8E24-4509-8764-9860BAED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172-FEB5-49EF-B5F8-0A327A05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38CF-04EB-40E7-9915-38A04BA93C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5B0B-8A44-4CDF-82E3-CC5850949FA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412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seño óptimo de una planta batch multiproducto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factor de tiempo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ij: Tiempo necesario en un batch para producir un 1 Kg del producto i en la etapa j.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5865840"/>
            <a:ext cx="7162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** Unidades semi-continu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1981080"/>
          <a:ext cx="67057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057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sto de los equipo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12193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 utiliza una ley de potencia para calcular el costo de cada equi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676520" y="2057400"/>
          <a:ext cx="6095880" cy="40672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a de Costo de equip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rment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j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4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cro-ultra fil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reteni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ermea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filt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00 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iz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Holding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.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h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100 cap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1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00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752480" y="6324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Volumen de mantención para recircu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95280" y="213372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nto para etapas batch como semi-continuas se debe cumplir q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ij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ij * 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ij = Tijº + Tij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Bi/R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219320" y="1447920"/>
          <a:ext cx="5572080" cy="37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57208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152280"/>
            <a:ext cx="8077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s de Optimizar el proceso b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olocar varias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 cuales pueden operar de dos diferentes form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79280" y="1844640"/>
            <a:ext cx="8686800" cy="4793400"/>
            <a:chOff x="179280" y="1844640"/>
            <a:chExt cx="8686800" cy="4793400"/>
          </a:xfrm>
        </p:grpSpPr>
        <p:grpSp>
          <p:nvGrpSpPr>
            <p:cNvPr id="272" name=""/>
            <p:cNvGrpSpPr/>
            <p:nvPr/>
          </p:nvGrpSpPr>
          <p:grpSpPr>
            <a:xfrm>
              <a:off x="179280" y="1844640"/>
              <a:ext cx="4572000" cy="4662000"/>
              <a:chOff x="179280" y="1844640"/>
              <a:chExt cx="4572000" cy="4662000"/>
            </a:xfrm>
          </p:grpSpPr>
          <p:graphicFrame>
            <p:nvGraphicFramePr>
              <p:cNvPr id="273" name=""/>
              <p:cNvGraphicFramePr/>
              <p:nvPr/>
            </p:nvGraphicFramePr>
            <p:xfrm>
              <a:off x="1246320" y="1844640"/>
              <a:ext cx="2361960" cy="2278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46320" y="1844640"/>
                        <a:ext cx="2361960" cy="22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5" name=""/>
              <p:cNvSpPr/>
              <p:nvPr/>
            </p:nvSpPr>
            <p:spPr>
              <a:xfrm>
                <a:off x="179280" y="4206600"/>
                <a:ext cx="4572000" cy="23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imultánea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Gj veces, lo cual da origen a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Gj unidades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Una vez finalizada la operación se vuelven a junta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Operar con equipos más pequeño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675320" y="1844640"/>
              <a:ext cx="4190760" cy="4793400"/>
              <a:chOff x="4675320" y="1844640"/>
              <a:chExt cx="4190760" cy="4793400"/>
            </a:xfrm>
          </p:grpSpPr>
          <p:graphicFrame>
            <p:nvGraphicFramePr>
              <p:cNvPr id="277" name=""/>
              <p:cNvGraphicFramePr/>
              <p:nvPr/>
            </p:nvGraphicFramePr>
            <p:xfrm>
              <a:off x="5208480" y="1844640"/>
              <a:ext cx="2905200" cy="2274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08480" y="1844640"/>
                        <a:ext cx="2905200" cy="227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9" name=""/>
              <p:cNvSpPr/>
              <p:nvPr/>
            </p:nvSpPr>
            <p:spPr>
              <a:xfrm>
                <a:off x="4675320" y="4206600"/>
                <a:ext cx="4190760" cy="24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Desfasada 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Mj veces para que el proceso se realice en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Mj unidades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en forma desfasada. Finalmente se unen, pero en forma desfasada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Disminuir el efecto de los procesos limitados por el tiempo (cinéticas lentas)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s de Optimizar el proceso batch (cont)</a:t>
            </a:r>
            <a:br>
              <a:rPr sz="1400"/>
            </a:br>
            <a:br>
              <a:rPr sz="1400"/>
            </a:b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.- Colocar tanques intermedio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bjetivo: Almacenamiento de productos intermedios, de volumen </a:t>
            </a:r>
            <a:r>
              <a:rPr b="1" lang="es-ES" sz="2400" spc="-1" strike="noStrike">
                <a:solidFill>
                  <a:srgbClr val="ffcc99"/>
                </a:solidFill>
                <a:latin typeface="Times New Roman"/>
              </a:rPr>
              <a:t>VTj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 entre 2 unidades que operan en forma batch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o permite el desacoplamiento del proceso, teniéndose 2 sub-procesos. Con ello se pueden tener diferentes tamaños de los batch en cada uno de los sub-procesos y también diferentes ciclos de tiempo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219320" y="3962520"/>
            <a:ext cx="7010280" cy="2152440"/>
            <a:chOff x="1219320" y="3962520"/>
            <a:chExt cx="7010280" cy="2152440"/>
          </a:xfrm>
        </p:grpSpPr>
        <p:graphicFrame>
          <p:nvGraphicFramePr>
            <p:cNvPr id="282" name=""/>
            <p:cNvGraphicFramePr/>
            <p:nvPr/>
          </p:nvGraphicFramePr>
          <p:xfrm>
            <a:off x="3200400" y="3962520"/>
            <a:ext cx="2657520" cy="215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3962520"/>
                      <a:ext cx="2657520" cy="21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1219320" y="4571640"/>
              <a:ext cx="16761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dí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72200" y="4571640"/>
              <a:ext cx="20574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litr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minut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191120" y="4419720"/>
            <a:ext cx="609480" cy="99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ión a minimiza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52480" y="1219320"/>
            <a:ext cx="5486400" cy="840240"/>
            <a:chOff x="1752480" y="1219320"/>
            <a:chExt cx="5486400" cy="840240"/>
          </a:xfrm>
        </p:grpSpPr>
        <p:sp>
          <p:nvSpPr>
            <p:cNvPr id="289" name=""/>
            <p:cNvSpPr/>
            <p:nvPr/>
          </p:nvSpPr>
          <p:spPr>
            <a:xfrm>
              <a:off x="1752480" y="137160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Min Cost =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Mj Gj aj V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  + 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cj VT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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636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76360" y="12193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0080" y="12193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1008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90720" y="2133720"/>
            <a:ext cx="74674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etapas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a etapa (Unitari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G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simultánea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desfasadas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T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os tanques intermed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aj, cj, aj, h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eficientes de co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tric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5257800"/>
            <a:ext cx="411480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n mínimo de equi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 mínimo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tidad a produc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solució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70000" y="177336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 tablas de datos (Sij, Ti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l modelo y definición de ecu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finición del 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tas de la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alores ini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macenamient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 incluy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iempo de resol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sto ópt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alores por etapa: volumen, tamaño de batch, tiempo oci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ción de tiempos oci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no hay almacenamiento intermedio, existirán unidades en paralelo si la capacidad requerida excede la cota superior del equ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almacenamiento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e unidades en paralelo es menos prob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costos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tiempos ociosos significativamente en comparación con el caso de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roblema de factores fijos puede mejorarse aún más (10-20% costos de planta) si se utilizan “Process Performance Model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888400" cy="5183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33520" y="30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165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lanta que considera unidades en paralelo y sin tanque interme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4876920"/>
            <a:ext cx="213336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0656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cc99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32000" y="1916280"/>
            <a:ext cx="6648480" cy="1191600"/>
            <a:chOff x="1332000" y="1916280"/>
            <a:chExt cx="6648480" cy="1191600"/>
          </a:xfrm>
        </p:grpSpPr>
        <p:sp>
          <p:nvSpPr>
            <p:cNvPr id="149" name=""/>
            <p:cNvSpPr/>
            <p:nvPr/>
          </p:nvSpPr>
          <p:spPr>
            <a:xfrm>
              <a:off x="2467080" y="215244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6416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6268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650960" y="2497680"/>
              <a:ext cx="5986800" cy="11520"/>
              <a:chOff x="1650960" y="2497680"/>
              <a:chExt cx="5986800" cy="11520"/>
            </a:xfrm>
          </p:grpSpPr>
          <p:cxnSp>
            <p:nvCxnSpPr>
              <p:cNvPr id="154" name=""/>
              <p:cNvCxnSpPr>
                <a:stCxn id="149" idx="3"/>
                <a:endCxn id="150" idx="1"/>
              </p:cNvCxnSpPr>
              <p:nvPr/>
            </p:nvCxnSpPr>
            <p:spPr>
              <a:xfrm>
                <a:off x="3115800" y="250740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50" idx="3"/>
                <a:endCxn id="151" idx="1"/>
              </p:cNvCxnSpPr>
              <p:nvPr/>
            </p:nvCxnSpPr>
            <p:spPr>
              <a:xfrm>
                <a:off x="44132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6" name=""/>
              <p:cNvCxnSpPr>
                <a:stCxn id="151" idx="3"/>
                <a:endCxn id="152" idx="1"/>
              </p:cNvCxnSpPr>
              <p:nvPr/>
            </p:nvCxnSpPr>
            <p:spPr>
              <a:xfrm>
                <a:off x="57110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7" name=""/>
              <p:cNvCxnSpPr>
                <a:stCxn id="152" idx="3"/>
              </p:cNvCxnSpPr>
              <p:nvPr/>
            </p:nvCxnSpPr>
            <p:spPr>
              <a:xfrm flipV="1">
                <a:off x="7008840" y="2497680"/>
                <a:ext cx="62928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8" name=""/>
              <p:cNvCxnSpPr>
                <a:endCxn id="149" idx="1"/>
              </p:cNvCxnSpPr>
              <p:nvPr/>
            </p:nvCxnSpPr>
            <p:spPr>
              <a:xfrm>
                <a:off x="1650960" y="2498040"/>
                <a:ext cx="81684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cxnSp>
          <p:nvCxnSpPr>
            <p:cNvPr id="159" name=""/>
            <p:cNvCxnSpPr/>
            <p:nvPr/>
          </p:nvCxnSpPr>
          <p:spPr>
            <a:xfrm>
              <a:off x="31323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/>
            <p:nvPr/>
          </p:nvCxnSpPr>
          <p:spPr>
            <a:xfrm>
              <a:off x="4429080" y="2252160"/>
              <a:ext cx="64980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/>
            <p:nvPr/>
          </p:nvCxnSpPr>
          <p:spPr>
            <a:xfrm>
              <a:off x="57261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/>
            <p:nvPr/>
          </p:nvCxnSpPr>
          <p:spPr>
            <a:xfrm flipV="1">
              <a:off x="7025040" y="2244240"/>
              <a:ext cx="6292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/>
            <p:nvPr/>
          </p:nvCxnSpPr>
          <p:spPr>
            <a:xfrm>
              <a:off x="1667160" y="2244240"/>
              <a:ext cx="8164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64" name=""/>
            <p:cNvGrpSpPr/>
            <p:nvPr/>
          </p:nvGrpSpPr>
          <p:grpSpPr>
            <a:xfrm>
              <a:off x="1654200" y="2777400"/>
              <a:ext cx="5986800" cy="9720"/>
              <a:chOff x="1654200" y="2777400"/>
              <a:chExt cx="5986800" cy="9720"/>
            </a:xfrm>
          </p:grpSpPr>
          <p:cxnSp>
            <p:nvCxnSpPr>
              <p:cNvPr id="165" name=""/>
              <p:cNvCxnSpPr/>
              <p:nvPr/>
            </p:nvCxnSpPr>
            <p:spPr>
              <a:xfrm>
                <a:off x="3119040" y="278532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/>
              <p:nvPr/>
            </p:nvCxnSpPr>
            <p:spPr>
              <a:xfrm>
                <a:off x="44164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7" name=""/>
              <p:cNvCxnSpPr/>
              <p:nvPr/>
            </p:nvCxnSpPr>
            <p:spPr>
              <a:xfrm>
                <a:off x="57142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/>
              <p:nvPr/>
            </p:nvCxnSpPr>
            <p:spPr>
              <a:xfrm flipV="1">
                <a:off x="7012080" y="2777400"/>
                <a:ext cx="62928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9" name=""/>
              <p:cNvCxnSpPr/>
              <p:nvPr/>
            </p:nvCxnSpPr>
            <p:spPr>
              <a:xfrm>
                <a:off x="1654200" y="2777400"/>
                <a:ext cx="81684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70" name=""/>
            <p:cNvSpPr/>
            <p:nvPr/>
          </p:nvSpPr>
          <p:spPr>
            <a:xfrm>
              <a:off x="1332000" y="1916280"/>
              <a:ext cx="325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39200" y="1920600"/>
              <a:ext cx="34128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00656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pósito (Jobshop plants):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32000" y="4941360"/>
            <a:ext cx="5576400" cy="1627560"/>
            <a:chOff x="1332000" y="4941360"/>
            <a:chExt cx="5576400" cy="1627560"/>
          </a:xfrm>
        </p:grpSpPr>
        <p:sp>
          <p:nvSpPr>
            <p:cNvPr id="174" name=""/>
            <p:cNvSpPr/>
            <p:nvPr/>
          </p:nvSpPr>
          <p:spPr>
            <a:xfrm>
              <a:off x="228420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7212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60040" y="539928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4976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>
              <a:off x="5004360" y="5813640"/>
              <a:ext cx="545400" cy="21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 flipV="1">
              <a:off x="6092640" y="5804280"/>
              <a:ext cx="5281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/>
            <p:nvPr/>
          </p:nvCxnSpPr>
          <p:spPr>
            <a:xfrm>
              <a:off x="1599480" y="5804640"/>
              <a:ext cx="68544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81" name=""/>
            <p:cNvGrpSpPr/>
            <p:nvPr/>
          </p:nvGrpSpPr>
          <p:grpSpPr>
            <a:xfrm>
              <a:off x="1611720" y="5504400"/>
              <a:ext cx="5022360" cy="10800"/>
              <a:chOff x="1611720" y="5504400"/>
              <a:chExt cx="5022360" cy="10800"/>
            </a:xfrm>
          </p:grpSpPr>
          <p:cxnSp>
            <p:nvCxnSpPr>
              <p:cNvPr id="182" name=""/>
              <p:cNvCxnSpPr/>
              <p:nvPr/>
            </p:nvCxnSpPr>
            <p:spPr>
              <a:xfrm>
                <a:off x="284076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3" name=""/>
              <p:cNvCxnSpPr/>
              <p:nvPr/>
            </p:nvCxnSpPr>
            <p:spPr>
              <a:xfrm>
                <a:off x="3928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4" name=""/>
              <p:cNvCxnSpPr/>
              <p:nvPr/>
            </p:nvCxnSpPr>
            <p:spPr>
              <a:xfrm>
                <a:off x="5017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5" name=""/>
              <p:cNvCxnSpPr/>
              <p:nvPr/>
            </p:nvCxnSpPr>
            <p:spPr>
              <a:xfrm flipV="1">
                <a:off x="6106320" y="5504400"/>
                <a:ext cx="52812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6" name=""/>
              <p:cNvCxnSpPr/>
              <p:nvPr/>
            </p:nvCxnSpPr>
            <p:spPr>
              <a:xfrm>
                <a:off x="1611720" y="5504760"/>
                <a:ext cx="68544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87" name=""/>
            <p:cNvSpPr/>
            <p:nvPr/>
          </p:nvSpPr>
          <p:spPr>
            <a:xfrm>
              <a:off x="1332000" y="5123160"/>
              <a:ext cx="271800" cy="13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1840" y="5128200"/>
              <a:ext cx="2865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74" idx="3"/>
            </p:cNvCxnSpPr>
            <p:nvPr/>
          </p:nvCxnSpPr>
          <p:spPr>
            <a:xfrm flipV="1">
              <a:off x="2827440" y="5801400"/>
              <a:ext cx="223200" cy="104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endCxn id="176" idx="1"/>
            </p:cNvCxnSpPr>
            <p:nvPr/>
          </p:nvCxnSpPr>
          <p:spPr>
            <a:xfrm>
              <a:off x="4137480" y="5802840"/>
              <a:ext cx="3229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flipV="1">
              <a:off x="3049560" y="4949280"/>
              <a:ext cx="180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 flipV="1">
              <a:off x="4153320" y="4983480"/>
              <a:ext cx="216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3063960" y="4941360"/>
              <a:ext cx="1088280" cy="39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1609560" y="6078600"/>
              <a:ext cx="66204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2802240" y="605664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 flipH="1">
              <a:off x="3897360" y="6058080"/>
              <a:ext cx="25740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/>
            <p:nvPr/>
          </p:nvCxnSpPr>
          <p:spPr>
            <a:xfrm flipH="1">
              <a:off x="6073920" y="609300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/>
            <p:nvPr/>
          </p:nvCxnSpPr>
          <p:spPr>
            <a:xfrm flipH="1">
              <a:off x="5275440" y="6118560"/>
              <a:ext cx="257040" cy="158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/>
            <p:nvPr/>
          </p:nvCxnSpPr>
          <p:spPr>
            <a:xfrm flipH="1">
              <a:off x="4156200" y="6055200"/>
              <a:ext cx="5040" cy="5140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>
              <a:off x="5289480" y="6159240"/>
              <a:ext cx="11520" cy="3805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/>
            <p:nvPr/>
          </p:nvCxnSpPr>
          <p:spPr>
            <a:xfrm flipH="1">
              <a:off x="4123440" y="6554880"/>
              <a:ext cx="1176840" cy="126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990720" y="533520"/>
          <a:ext cx="670536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6705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990720" y="3733920"/>
          <a:ext cx="6781680" cy="264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733920"/>
                    <a:ext cx="678168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1000" y="1882800"/>
            <a:ext cx="8964720" cy="266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80880" y="380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lanta sin unidades en paralelo y con tanques de almacen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209680"/>
            <a:ext cx="53352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0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3962520"/>
            <a:ext cx="20574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066680" y="838080"/>
          <a:ext cx="6477120" cy="27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8080"/>
                    <a:ext cx="647712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042920" y="4005360"/>
          <a:ext cx="6553440" cy="223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005360"/>
                    <a:ext cx="655344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16000" y="19162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adición d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nques intermedi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tre dos operaciones batch resulta beneficiosa dado que permite un significativ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horro en los costos de capital (40%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 tener que minimizarse el número de unidades en paralelo a utilizar dado que las existentes son operadas con mínimo tiempo oci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ontagna J.M., Vecchietti A.R., Iribarren O.A., Pinto J.M., Asenjo J.A (2000)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“Optimal design of protein production plants with time and size factor process models”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Biotechnol. Prog. 2000, 16, 228-23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1520" y="1198440"/>
            <a:ext cx="8918640" cy="2357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3716280"/>
            <a:ext cx="716256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bjetivo: Realizar un diseño que minimice los costos de capital para esta planta multi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du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sulina y Quimosina: extracel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teasa y Vacuna: Intracel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 de operación de cada equip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1371600"/>
          <a:ext cx="11430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1143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19320" y="13716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Ferment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eactor donde crece la biomasa produciendo el producto de interés (intra o extra celular), es operado en forma bat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881520"/>
            <a:ext cx="4114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1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Separa la biomasa, que es re- circulada y concentrada (remanente),  del medio de cultivo que pasa continuamente a formar parte del permeado. Es una operación semi-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En el caso de producto intracelular se conserva el remanente, en caso de producto extracelular se conserva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09680" y="3800520"/>
          <a:ext cx="2552760" cy="30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800520"/>
                    <a:ext cx="25527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952880" y="1447920"/>
          <a:ext cx="107496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447920"/>
                    <a:ext cx="10749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095880" y="144792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Homogeniz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En el caso de proteínas intracelulares las células se deben romper. Es una operación semicontin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1485720" y="3467160"/>
            <a:ext cx="533160" cy="60948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0040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4680" y="31240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1447920"/>
          <a:ext cx="81936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3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352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7160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2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En el caso de rompimiento celular, se utiliza para separar los desechos celulares de la mezcla de proteínas, opera de igual forma que el primer filtro, pero siempre interesa recuperar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14600" y="3733920"/>
          <a:ext cx="19810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733920"/>
                    <a:ext cx="1981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4572000" y="4724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1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que van siendo retenidas, sólo interesa recuperar el remanente. Opera en forma semi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990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447920"/>
            <a:ext cx="289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Extractor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un sistema de extracción líquido-líquido que permite separar las proteínas de otras por sus características de afinidad a una de las fases. Opera en forma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34120" y="1600200"/>
          <a:ext cx="752400" cy="19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1600200"/>
                    <a:ext cx="7524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 rot="5400000">
            <a:off x="1637640" y="400032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581280"/>
            <a:ext cx="533160" cy="60984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4680" y="3505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9051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952880" y="1600200"/>
          <a:ext cx="115272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115272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066680" y="1600200"/>
          <a:ext cx="9050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00200"/>
                    <a:ext cx="9050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19810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1600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2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eliminando agua, opera de igual forma que el 1º ultrafil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2362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16002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Cromatografía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la etapa que permite purificar hasta el grado deseado la proteína de interés. Opera en forma 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3880" y="380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todología aplic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14300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los factores de tamaño, Si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j: Tamaño necesario de una operación batch dada  para producir un 1 Kg del producto i en la etapa j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81080" y="2819520"/>
          <a:ext cx="5257800" cy="34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52578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251460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** Etapas gobernadas por la ciné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los equipos batc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484280"/>
            <a:ext cx="769608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icrofiltro o Ultrafil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permeado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  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Homogenizador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homogeneizad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¼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tr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extract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1/3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equipos semi-continuo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2057400"/>
            <a:ext cx="739152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e define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Rj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que es una velocidad de proces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omogenizadores: capacidad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de suspensión /hor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ltros: Area de filtración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Aj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Rj = Dij * Bi /  </a:t>
            </a:r>
            <a:r>
              <a:rPr b="0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D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amaño del equipo semi-continuo j para procesar en 1 hora 1 kilogramo del producto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Bi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Masa del batch a proces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iempo que debe operar el equipo j para procesar un batch del producto 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08:19:18Z</dcterms:created>
  <dc:creator>Maria Elena Lienqueo C.</dc:creator>
  <dc:description/>
  <dc:language>en-US</dc:language>
  <cp:lastModifiedBy>Maria Elena Lienqueo C.</cp:lastModifiedBy>
  <dcterms:modified xsi:type="dcterms:W3CDTF">2004-11-15T04:01:03Z</dcterms:modified>
  <cp:revision>34</cp:revision>
  <dc:subject/>
  <dc:title>Presentación de PowerPoint</dc:title>
</cp:coreProperties>
</file>