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7.wmf" ContentType="image/x-wmf"/>
  <Override PartName="/ppt/media/image13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11.wmf" ContentType="image/x-wmf"/>
  <Override PartName="/ppt/media/image3.png" ContentType="image/png"/>
  <Override PartName="/ppt/media/image21.wmf" ContentType="image/x-wmf"/>
  <Override PartName="/ppt/media/image5.png" ContentType="image/png"/>
  <Override PartName="/ppt/media/image19.png" ContentType="image/png"/>
  <Override PartName="/ppt/media/image1.png" ContentType="image/png"/>
  <Override PartName="/ppt/media/image18.wmf" ContentType="image/x-wmf"/>
  <Override PartName="/ppt/media/image20.wmf" ContentType="image/x-wmf"/>
  <Override PartName="/ppt/media/image16.png" ContentType="image/png"/>
  <Override PartName="/ppt/media/image15.png" ContentType="image/png"/>
  <Override PartName="/ppt/media/image14.png" ContentType="image/png"/>
  <Override PartName="/ppt/media/image6.png" ContentType="image/png"/>
  <Override PartName="/ppt/media/image10.wmf" ContentType="image/x-wmf"/>
  <Override PartName="/ppt/media/image2.png" ContentType="image/png"/>
  <Override PartName="/ppt/media/image7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embeddings/oleObject3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8924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417B-3CCB-4F7E-9D55-966BE05C1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652D-984C-4604-8325-F1A20FE9B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32EF-9692-45DA-8038-869CCDB37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3CB9-A0A1-44DA-B174-DA23CAA32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93745-5502-47AE-B4DE-5A2CD00C8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596E1-7E33-4D05-B25C-D594CC406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01C3F-9552-47EF-8126-3B5DAE374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59011-FAE9-44D0-B452-385589E9E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B0731-9369-41E1-8C69-5ED258941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C5B77-189B-4F60-97CE-A98D4FE5F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239BB-8072-49B5-9460-6BC75AFF5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B1FD-4EF1-4B24-BA59-5C1A22A56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D7033-1D50-48BB-98F4-C620AC996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FBDDB-186E-4C15-938F-251CFB69D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796E9-B29F-4D44-BE0F-68761322A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106AA-05A9-4543-A225-8D4D6D192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192EA-090B-4961-B319-005D0CC27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07EC-5F55-4A16-94C8-D78E14501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5506-DDB9-40D1-96A5-9B3654880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DEE7-7EFC-4F1E-A253-CEB9F8CA0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1D43-7B72-4599-B0AE-7DA509C2F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D1DE-30F6-4AB0-B30A-E80562EC2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42FD-3C50-4922-B33C-87318C905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B5A0-C521-4945-8328-B715E28C7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24849-2C80-4023-B358-8A1B699DF94F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31790-E5AB-4069-A91F-68F7587965BD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3000" y="1412640"/>
            <a:ext cx="7772400" cy="381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Diseño óptimo de una planta batch multiproducto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Producción de proteínas recombinantes</a:t>
            </a:r>
            <a:br>
              <a:rPr sz="4000"/>
            </a:b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Definición de factor de tiempo: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Tij: Tiempo necesario en un batch para producir un 1 Kg del producto i en la etapa j.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52280" y="5865840"/>
            <a:ext cx="71629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** Unidades semi-continu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685800" y="1981080"/>
          <a:ext cx="6705720" cy="3672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6705720" cy="36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osto de los equipos: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523880" y="1219320"/>
            <a:ext cx="6248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e utiliza una ley de potencia para calcular el costo de cada equip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1676520" y="2057400"/>
          <a:ext cx="6095880" cy="4067280"/>
        </p:xfrm>
        <a:graphic>
          <a:graphicData uri="http://schemas.openxmlformats.org/drawingml/2006/table">
            <a:tbl>
              <a:tblPr/>
              <a:tblGrid>
                <a:gridCol w="2031840"/>
                <a:gridCol w="2031840"/>
                <a:gridCol w="2032200"/>
              </a:tblGrid>
              <a:tr h="3988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abla de Costo de equipo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Unida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amañ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ost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ermentado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j (m</a:t>
                      </a:r>
                      <a:r>
                        <a:rPr b="0" lang="es-ES" sz="18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3400 V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0.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4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icro-ultra filtr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 </a:t>
                      </a:r>
                      <a:r>
                        <a:rPr b="0" lang="es-ES" sz="1800" spc="-1" strike="noStrike" baseline="-25000">
                          <a:solidFill>
                            <a:srgbClr val="ffffff"/>
                          </a:solidFill>
                          <a:latin typeface="Times New Roman"/>
                        </a:rPr>
                        <a:t>retenido</a:t>
                      </a: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(m</a:t>
                      </a:r>
                      <a:r>
                        <a:rPr b="0" lang="es-ES" sz="18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 </a:t>
                      </a:r>
                      <a:r>
                        <a:rPr b="0" lang="es-ES" sz="1800" spc="-1" strike="noStrike" baseline="-25000">
                          <a:solidFill>
                            <a:srgbClr val="ffffff"/>
                          </a:solidFill>
                          <a:latin typeface="Times New Roman"/>
                        </a:rPr>
                        <a:t>permeado</a:t>
                      </a: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(m</a:t>
                      </a:r>
                      <a:r>
                        <a:rPr b="0" lang="es-ES" sz="18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 </a:t>
                      </a:r>
                      <a:r>
                        <a:rPr b="0" lang="es-ES" sz="1800" spc="-1" strike="noStrike" baseline="-25000">
                          <a:solidFill>
                            <a:srgbClr val="ffffff"/>
                          </a:solidFill>
                          <a:latin typeface="Times New Roman"/>
                        </a:rPr>
                        <a:t>filtr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750 V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0.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750 V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0.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900 A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0.8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omogenizado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 </a:t>
                      </a:r>
                      <a:r>
                        <a:rPr b="0" lang="es-ES" sz="1800" spc="-1" strike="noStrike" baseline="-25000">
                          <a:solidFill>
                            <a:srgbClr val="ffffff"/>
                          </a:solidFill>
                          <a:latin typeface="Times New Roman"/>
                        </a:rPr>
                        <a:t>Holding</a:t>
                      </a: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(m</a:t>
                      </a:r>
                      <a:r>
                        <a:rPr b="0" lang="es-ES" sz="18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)*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p. (m</a:t>
                      </a:r>
                      <a:r>
                        <a:rPr b="0" lang="es-ES" sz="18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/hr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750 V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0.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2100 cap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0.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xtracto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 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Times New Roman"/>
                        </a:rPr>
                        <a:t>extractor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(m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3100 V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0.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romatografí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 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Times New Roman"/>
                        </a:rPr>
                        <a:t>cromatografía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(m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60000 V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0.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6" name=""/>
          <p:cNvSpPr/>
          <p:nvPr/>
        </p:nvSpPr>
        <p:spPr>
          <a:xfrm>
            <a:off x="1752480" y="632448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* </a:t>
            </a: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Volumen de mantención para recirculació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1295280" y="2133720"/>
            <a:ext cx="693432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Tanto para etapas batch como semi-continuas se debe cumplir qu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Vij </a:t>
            </a: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Sij * B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Tij = Tijº + Tij</a:t>
            </a:r>
            <a:r>
              <a:rPr b="0" lang="es-ES" sz="2400" spc="-1" strike="noStrike" baseline="30000">
                <a:solidFill>
                  <a:srgbClr val="ffffff"/>
                </a:solidFill>
                <a:latin typeface="Times New Roman"/>
              </a:rPr>
              <a:t>1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Bi/R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8" name=""/>
          <p:cNvGraphicFramePr/>
          <p:nvPr/>
        </p:nvGraphicFramePr>
        <p:xfrm>
          <a:off x="1219320" y="1447920"/>
          <a:ext cx="5572080" cy="3795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447920"/>
                    <a:ext cx="5572080" cy="37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685800" y="152280"/>
            <a:ext cx="807732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Formas de Optimizar el proceso bat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Colocar varias unidades en paralel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s cuales pueden operar de dos diferentes forma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179280" y="1844640"/>
            <a:ext cx="8686800" cy="4793400"/>
            <a:chOff x="179280" y="1844640"/>
            <a:chExt cx="8686800" cy="4793400"/>
          </a:xfrm>
        </p:grpSpPr>
        <p:grpSp>
          <p:nvGrpSpPr>
            <p:cNvPr id="272" name=""/>
            <p:cNvGrpSpPr/>
            <p:nvPr/>
          </p:nvGrpSpPr>
          <p:grpSpPr>
            <a:xfrm>
              <a:off x="179280" y="1844640"/>
              <a:ext cx="4572000" cy="4662000"/>
              <a:chOff x="179280" y="1844640"/>
              <a:chExt cx="4572000" cy="4662000"/>
            </a:xfrm>
          </p:grpSpPr>
          <p:graphicFrame>
            <p:nvGraphicFramePr>
              <p:cNvPr id="273" name=""/>
              <p:cNvGraphicFramePr/>
              <p:nvPr/>
            </p:nvGraphicFramePr>
            <p:xfrm>
              <a:off x="1246320" y="1844640"/>
              <a:ext cx="2361960" cy="227808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274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1246320" y="1844640"/>
                        <a:ext cx="2361960" cy="22780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75" name=""/>
              <p:cNvSpPr/>
              <p:nvPr/>
            </p:nvSpPr>
            <p:spPr>
              <a:xfrm>
                <a:off x="179280" y="4206600"/>
                <a:ext cx="4572000" cy="230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lvl="1" marL="45720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 u="sng">
                    <a:solidFill>
                      <a:srgbClr val="ffff00"/>
                    </a:solidFill>
                    <a:uFillTx/>
                    <a:latin typeface="Times New Roman"/>
                  </a:rPr>
                  <a:t>Simultánea:</a:t>
                </a:r>
                <a:r>
                  <a:rPr b="0" lang="es-ES" sz="1800" spc="-1" strike="noStrike">
                    <a:solidFill>
                      <a:srgbClr val="ffffff"/>
                    </a:solidFill>
                    <a:latin typeface="Times New Roman"/>
                  </a:rPr>
                  <a:t> la corriente se divide Gj veces, lo cual da origen a </a:t>
                </a:r>
                <a:r>
                  <a:rPr b="1" lang="es-ES" sz="1800" spc="-1" strike="noStrike">
                    <a:solidFill>
                      <a:srgbClr val="ffcc99"/>
                    </a:solidFill>
                    <a:latin typeface="Times New Roman"/>
                  </a:rPr>
                  <a:t>Gj unidades</a:t>
                </a:r>
                <a:r>
                  <a:rPr b="1" lang="es-ES" sz="1800" spc="-1" strike="noStrike">
                    <a:solidFill>
                      <a:srgbClr val="ffffff"/>
                    </a:solidFill>
                    <a:latin typeface="Times New Roman"/>
                  </a:rPr>
                  <a:t>.</a:t>
                </a:r>
                <a:r>
                  <a:rPr b="0" lang="es-ES" sz="1800" spc="-1" strike="noStrike">
                    <a:solidFill>
                      <a:srgbClr val="ffffff"/>
                    </a:solidFill>
                    <a:latin typeface="Times New Roman"/>
                  </a:rPr>
                  <a:t> Una vez finalizada la operación se vuelven a juntar.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lvl="1" marL="45720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lvl="1" marL="45720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 u="sng">
                    <a:solidFill>
                      <a:srgbClr val="ffffff"/>
                    </a:solidFill>
                    <a:uFillTx/>
                    <a:latin typeface="Times New Roman"/>
                  </a:rPr>
                  <a:t>Objetivo:</a:t>
                </a:r>
                <a:r>
                  <a:rPr b="0" lang="es-ES" sz="1800" spc="-1" strike="noStrike">
                    <a:solidFill>
                      <a:srgbClr val="ffffff"/>
                    </a:solidFill>
                    <a:latin typeface="Times New Roman"/>
                  </a:rPr>
                  <a:t> Operar con equipos más pequeños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6" name=""/>
            <p:cNvGrpSpPr/>
            <p:nvPr/>
          </p:nvGrpSpPr>
          <p:grpSpPr>
            <a:xfrm>
              <a:off x="4675320" y="1844640"/>
              <a:ext cx="4190760" cy="4793400"/>
              <a:chOff x="4675320" y="1844640"/>
              <a:chExt cx="4190760" cy="4793400"/>
            </a:xfrm>
          </p:grpSpPr>
          <p:graphicFrame>
            <p:nvGraphicFramePr>
              <p:cNvPr id="277" name=""/>
              <p:cNvGraphicFramePr/>
              <p:nvPr/>
            </p:nvGraphicFramePr>
            <p:xfrm>
              <a:off x="5208480" y="1844640"/>
              <a:ext cx="2905200" cy="227484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278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5208480" y="1844640"/>
                        <a:ext cx="2905200" cy="22748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79" name=""/>
              <p:cNvSpPr/>
              <p:nvPr/>
            </p:nvSpPr>
            <p:spPr>
              <a:xfrm>
                <a:off x="4675320" y="4206600"/>
                <a:ext cx="4190760" cy="243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lvl="1" marL="45720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 u="sng">
                    <a:solidFill>
                      <a:srgbClr val="ffff00"/>
                    </a:solidFill>
                    <a:uFillTx/>
                    <a:latin typeface="Times New Roman"/>
                  </a:rPr>
                  <a:t>Desfasada :</a:t>
                </a:r>
                <a:r>
                  <a:rPr b="0" lang="es-ES" sz="1800" spc="-1" strike="noStrike">
                    <a:solidFill>
                      <a:srgbClr val="ffffff"/>
                    </a:solidFill>
                    <a:latin typeface="Times New Roman"/>
                  </a:rPr>
                  <a:t> la corriente se divide Mj veces para que el proceso se realice en </a:t>
                </a:r>
                <a:r>
                  <a:rPr b="1" lang="es-ES" sz="1800" spc="-1" strike="noStrike">
                    <a:solidFill>
                      <a:srgbClr val="ffcc99"/>
                    </a:solidFill>
                    <a:latin typeface="Times New Roman"/>
                  </a:rPr>
                  <a:t>Mj unidades</a:t>
                </a:r>
                <a:r>
                  <a:rPr b="0" lang="es-ES" sz="1800" spc="-1" strike="noStrike">
                    <a:solidFill>
                      <a:srgbClr val="ffffff"/>
                    </a:solidFill>
                    <a:latin typeface="Times New Roman"/>
                  </a:rPr>
                  <a:t> en forma desfasada. Finalmente se unen, pero en forma desfasada.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lvl="1" marL="45720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 u="sng">
                    <a:solidFill>
                      <a:srgbClr val="ffffff"/>
                    </a:solidFill>
                    <a:uFillTx/>
                    <a:latin typeface="Times New Roman"/>
                  </a:rPr>
                  <a:t>Objetivo:</a:t>
                </a:r>
                <a:r>
                  <a:rPr b="0" lang="es-ES" sz="1800" spc="-1" strike="noStrike">
                    <a:solidFill>
                      <a:srgbClr val="ffffff"/>
                    </a:solidFill>
                    <a:latin typeface="Times New Roman"/>
                  </a:rPr>
                  <a:t> Disminuir el efecto de los procesos limitados por el tiempo (cinéticas lentas).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2800" spc="-1" strike="noStrike">
                <a:solidFill>
                  <a:srgbClr val="ffff00"/>
                </a:solidFill>
                <a:latin typeface="Times New Roman"/>
              </a:rPr>
              <a:t>Formas de Optimizar el proceso batch (cont)</a:t>
            </a:r>
            <a:br>
              <a:rPr sz="1400"/>
            </a:br>
            <a:br>
              <a:rPr sz="1400"/>
            </a:br>
            <a:r>
              <a:rPr b="1" lang="es-ES" sz="2400" spc="-1" strike="noStrike" u="sng">
                <a:solidFill>
                  <a:srgbClr val="ffff00"/>
                </a:solidFill>
                <a:uFillTx/>
                <a:latin typeface="Times New Roman"/>
              </a:rPr>
              <a:t>2.- Colocar tanques intermedios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Objetivo: Almacenamiento de productos intermedios, de volumen </a:t>
            </a:r>
            <a:r>
              <a:rPr b="1" lang="es-ES" sz="2400" spc="-1" strike="noStrike">
                <a:solidFill>
                  <a:srgbClr val="ffcc99"/>
                </a:solidFill>
                <a:latin typeface="Times New Roman"/>
              </a:rPr>
              <a:t>VTj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,  entre 2 unidades que operan en forma batch.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sto permite el desacoplamiento del proceso, teniéndose 2 sub-procesos. Con ello se pueden tener diferentes tamaños de los batch en cada uno de los sub-procesos y también diferentes ciclos de tiempo.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1219320" y="3962520"/>
            <a:ext cx="7010280" cy="2152440"/>
            <a:chOff x="1219320" y="3962520"/>
            <a:chExt cx="7010280" cy="2152440"/>
          </a:xfrm>
        </p:grpSpPr>
        <p:graphicFrame>
          <p:nvGraphicFramePr>
            <p:cNvPr id="282" name=""/>
            <p:cNvGraphicFramePr/>
            <p:nvPr/>
          </p:nvGraphicFramePr>
          <p:xfrm>
            <a:off x="3200400" y="3962520"/>
            <a:ext cx="2657520" cy="21524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8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00400" y="3962520"/>
                      <a:ext cx="2657520" cy="21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84" name=""/>
            <p:cNvSpPr/>
            <p:nvPr/>
          </p:nvSpPr>
          <p:spPr>
            <a:xfrm>
              <a:off x="1219320" y="4571640"/>
              <a:ext cx="167616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Proces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Volumen: m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Tiempo: día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172200" y="4571640"/>
              <a:ext cx="205740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Proces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Volumen: litro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Tiempo: minuto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6" name=""/>
          <p:cNvSpPr/>
          <p:nvPr/>
        </p:nvSpPr>
        <p:spPr>
          <a:xfrm>
            <a:off x="4191120" y="4419720"/>
            <a:ext cx="609480" cy="990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unción a minimizar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1752480" y="1219320"/>
            <a:ext cx="5486400" cy="840240"/>
            <a:chOff x="1752480" y="1219320"/>
            <a:chExt cx="5486400" cy="840240"/>
          </a:xfrm>
        </p:grpSpPr>
        <p:sp>
          <p:nvSpPr>
            <p:cNvPr id="289" name=""/>
            <p:cNvSpPr/>
            <p:nvPr/>
          </p:nvSpPr>
          <p:spPr>
            <a:xfrm>
              <a:off x="1752480" y="1371600"/>
              <a:ext cx="548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ffffff"/>
                  </a:solidFill>
                  <a:latin typeface="Times New Roman"/>
                </a:rPr>
                <a:t>Min Cost = </a:t>
              </a:r>
              <a:r>
                <a:rPr b="0" lang="es-E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</a:t>
              </a:r>
              <a:r>
                <a:rPr b="0" lang="es-ES" sz="2400" spc="-1" strike="noStrike">
                  <a:solidFill>
                    <a:srgbClr val="ffffff"/>
                  </a:solidFill>
                  <a:latin typeface="Times New Roman"/>
                </a:rPr>
                <a:t> Mj Gj aj Vj</a:t>
              </a:r>
              <a:r>
                <a:rPr b="0" lang="es-ES" sz="2400" spc="-1" strike="noStrike" baseline="30000">
                  <a:solidFill>
                    <a:srgbClr val="ffffff"/>
                  </a:solidFill>
                  <a:latin typeface="Symbol"/>
                  <a:ea typeface="Symbol"/>
                </a:rPr>
                <a:t></a:t>
              </a:r>
              <a:r>
                <a:rPr b="0" lang="es-ES" sz="2400" spc="-1" strike="noStrike" baseline="30000">
                  <a:solidFill>
                    <a:srgbClr val="ffffff"/>
                  </a:solidFill>
                  <a:latin typeface="Times New Roman"/>
                </a:rPr>
                <a:t>j  +  </a:t>
              </a:r>
              <a:r>
                <a:rPr b="0" lang="es-E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</a:t>
              </a:r>
              <a:r>
                <a:rPr b="0" lang="es-ES" sz="2400" spc="-1" strike="noStrike">
                  <a:solidFill>
                    <a:srgbClr val="ffffff"/>
                  </a:solidFill>
                  <a:latin typeface="Times New Roman"/>
                </a:rPr>
                <a:t> cj VTj</a:t>
              </a:r>
              <a:r>
                <a:rPr b="0" lang="es-ES" sz="2400" spc="-1" strike="noStrike" baseline="30000">
                  <a:solidFill>
                    <a:srgbClr val="ffffff"/>
                  </a:solidFill>
                  <a:latin typeface="Symbol"/>
                  <a:ea typeface="Symbol"/>
                </a:rPr>
                <a:t></a:t>
              </a:r>
              <a:r>
                <a:rPr b="0" lang="es-ES" sz="2400" spc="-1" strike="noStrike" baseline="30000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276360" y="1752480"/>
              <a:ext cx="22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276360" y="1219320"/>
              <a:ext cx="381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m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410080" y="1219320"/>
              <a:ext cx="3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m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410080" y="1752480"/>
              <a:ext cx="22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4" name=""/>
          <p:cNvSpPr/>
          <p:nvPr/>
        </p:nvSpPr>
        <p:spPr>
          <a:xfrm>
            <a:off x="990720" y="2133720"/>
            <a:ext cx="7467480" cy="23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Don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66"/>
                </a:solidFill>
                <a:latin typeface="Times New Roman"/>
              </a:rPr>
              <a:t>M: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número de etapas batch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66"/>
                </a:solidFill>
                <a:latin typeface="Times New Roman"/>
              </a:rPr>
              <a:t>Vj: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Volumen de la etapa (Unitario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66"/>
                </a:solidFill>
                <a:latin typeface="Times New Roman"/>
              </a:rPr>
              <a:t>Gj: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Número de unidades que operan en forma simultánea en la etapa j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66"/>
                </a:solidFill>
                <a:latin typeface="Times New Roman"/>
              </a:rPr>
              <a:t>Mj: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Número de unidades que operan en forma desfasadas en la etapa j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66"/>
                </a:solidFill>
                <a:latin typeface="Times New Roman"/>
              </a:rPr>
              <a:t>VTj: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Volumen de los tanques intermedi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66"/>
                </a:solidFill>
                <a:latin typeface="Times New Roman"/>
              </a:rPr>
              <a:t>aj, cj, aj, hj: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Coeficientes de cos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990720" y="4648320"/>
            <a:ext cx="701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Restriccio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438280" y="5257800"/>
            <a:ext cx="411480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olumen mínimo de equip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iempo mínimo de oper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ntidad a produci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160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Times New Roman"/>
              </a:rPr>
              <a:t>Resolución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170000" y="1773360"/>
            <a:ext cx="7772400" cy="42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Ingreso de tablas de datos (Sij, Tij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Ingreso del modelo y definición de ecuacio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Definición del Proble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Cotas de las variab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Valores inici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Almacenamiento de resulta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Solución incluy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Tiempo de resolu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Costo óptim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Valores por etapa: volumen, tamaño de batch, tiempo ocios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9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sultados esperado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16000" y="1268280"/>
            <a:ext cx="77724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blema con unidades en paralel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ducción de tiempos ocios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 no hay almacenamiento intermedio, existirán unidades en paralelo si la capacidad requerida excede la cota superior del equip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blema con almacenamiento intermed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o de unidades en paralelo es menos proba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 reducen los costos de capit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 reducen los tiempos ociosos significativamente en comparación con el caso de unidades en paralel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l problema de factores fijos puede mejorarse aún más (10-20% costos de planta) si se utilizan “Process Performance Models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255600" y="907920"/>
            <a:ext cx="8888400" cy="518328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533520" y="30492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Resulta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0" y="61657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Planta que considera unidades en paralelo y sin tanque intermedi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648320" y="4876920"/>
            <a:ext cx="2133360" cy="5331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006560" y="692280"/>
            <a:ext cx="813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Plantas multiproducto (Flowshop plants):</a:t>
            </a:r>
            <a:r>
              <a:rPr b="0" lang="es-ES" sz="2400" spc="-1" strike="noStrike">
                <a:solidFill>
                  <a:srgbClr val="cc99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ff"/>
                </a:solidFill>
                <a:latin typeface="Tahoma"/>
              </a:rPr>
              <a:t>Todos los productos siguen la misma secuencia a través de todas las etapas de produc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332000" y="1916280"/>
            <a:ext cx="6648480" cy="1191600"/>
            <a:chOff x="1332000" y="1916280"/>
            <a:chExt cx="6648480" cy="1191600"/>
          </a:xfrm>
        </p:grpSpPr>
        <p:sp>
          <p:nvSpPr>
            <p:cNvPr id="149" name=""/>
            <p:cNvSpPr/>
            <p:nvPr/>
          </p:nvSpPr>
          <p:spPr>
            <a:xfrm>
              <a:off x="2467080" y="2152440"/>
              <a:ext cx="649440" cy="707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80"/>
                  </a:solidFill>
                  <a:latin typeface="Tahoma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764160" y="2152440"/>
              <a:ext cx="647640" cy="707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80"/>
                  </a:solidFill>
                  <a:latin typeface="Tahoma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062680" y="2152440"/>
              <a:ext cx="647640" cy="707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80"/>
                  </a:solidFill>
                  <a:latin typeface="Tahoma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359760" y="2152440"/>
              <a:ext cx="649080" cy="707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80"/>
                  </a:solidFill>
                  <a:latin typeface="Tahoma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53" name=""/>
            <p:cNvGrpSpPr/>
            <p:nvPr/>
          </p:nvGrpSpPr>
          <p:grpSpPr>
            <a:xfrm>
              <a:off x="1650960" y="2497680"/>
              <a:ext cx="5986800" cy="11520"/>
              <a:chOff x="1650960" y="2497680"/>
              <a:chExt cx="5986800" cy="11520"/>
            </a:xfrm>
          </p:grpSpPr>
          <p:cxnSp>
            <p:nvCxnSpPr>
              <p:cNvPr id="154" name=""/>
              <p:cNvCxnSpPr>
                <a:stCxn id="149" idx="3"/>
                <a:endCxn id="150" idx="1"/>
              </p:cNvCxnSpPr>
              <p:nvPr/>
            </p:nvCxnSpPr>
            <p:spPr>
              <a:xfrm>
                <a:off x="3115800" y="2507400"/>
                <a:ext cx="649800" cy="2160"/>
              </a:xfrm>
              <a:prstGeom prst="straightConnector1">
                <a:avLst/>
              </a:prstGeom>
              <a:ln w="9360">
                <a:solidFill>
                  <a:srgbClr val="ffff99"/>
                </a:solidFill>
                <a:miter/>
                <a:tailEnd len="med" type="triangle" w="med"/>
              </a:ln>
            </p:spPr>
          </p:cxnSp>
          <p:cxnSp>
            <p:nvCxnSpPr>
              <p:cNvPr id="155" name=""/>
              <p:cNvCxnSpPr>
                <a:stCxn id="150" idx="3"/>
                <a:endCxn id="151" idx="1"/>
              </p:cNvCxnSpPr>
              <p:nvPr/>
            </p:nvCxnSpPr>
            <p:spPr>
              <a:xfrm>
                <a:off x="4413240" y="2507400"/>
                <a:ext cx="649440" cy="2160"/>
              </a:xfrm>
              <a:prstGeom prst="straightConnector1">
                <a:avLst/>
              </a:prstGeom>
              <a:ln w="9360">
                <a:solidFill>
                  <a:srgbClr val="ffff99"/>
                </a:solidFill>
                <a:miter/>
                <a:tailEnd len="med" type="triangle" w="med"/>
              </a:ln>
            </p:spPr>
          </p:cxnSp>
          <p:cxnSp>
            <p:nvCxnSpPr>
              <p:cNvPr id="156" name=""/>
              <p:cNvCxnSpPr>
                <a:stCxn id="151" idx="3"/>
                <a:endCxn id="152" idx="1"/>
              </p:cNvCxnSpPr>
              <p:nvPr/>
            </p:nvCxnSpPr>
            <p:spPr>
              <a:xfrm>
                <a:off x="5711040" y="2507400"/>
                <a:ext cx="649440" cy="2160"/>
              </a:xfrm>
              <a:prstGeom prst="straightConnector1">
                <a:avLst/>
              </a:prstGeom>
              <a:ln w="9360">
                <a:solidFill>
                  <a:srgbClr val="ffff99"/>
                </a:solidFill>
                <a:miter/>
                <a:tailEnd len="med" type="triangle" w="med"/>
              </a:ln>
            </p:spPr>
          </p:cxnSp>
          <p:cxnSp>
            <p:nvCxnSpPr>
              <p:cNvPr id="157" name=""/>
              <p:cNvCxnSpPr>
                <a:stCxn id="152" idx="3"/>
              </p:cNvCxnSpPr>
              <p:nvPr/>
            </p:nvCxnSpPr>
            <p:spPr>
              <a:xfrm flipV="1">
                <a:off x="7008840" y="2497680"/>
                <a:ext cx="629280" cy="9720"/>
              </a:xfrm>
              <a:prstGeom prst="straightConnector1">
                <a:avLst/>
              </a:prstGeom>
              <a:ln w="9360">
                <a:solidFill>
                  <a:srgbClr val="ffff99"/>
                </a:solidFill>
                <a:miter/>
                <a:tailEnd len="med" type="triangle" w="med"/>
              </a:ln>
            </p:spPr>
          </p:cxnSp>
          <p:cxnSp>
            <p:nvCxnSpPr>
              <p:cNvPr id="158" name=""/>
              <p:cNvCxnSpPr>
                <a:endCxn id="149" idx="1"/>
              </p:cNvCxnSpPr>
              <p:nvPr/>
            </p:nvCxnSpPr>
            <p:spPr>
              <a:xfrm>
                <a:off x="1650960" y="2498040"/>
                <a:ext cx="816840" cy="9720"/>
              </a:xfrm>
              <a:prstGeom prst="straightConnector1">
                <a:avLst/>
              </a:prstGeom>
              <a:ln w="9360">
                <a:solidFill>
                  <a:srgbClr val="ffff99"/>
                </a:solidFill>
                <a:miter/>
                <a:tailEnd len="med" type="triangle" w="med"/>
              </a:ln>
            </p:spPr>
          </p:cxnSp>
        </p:grpSp>
        <p:cxnSp>
          <p:nvCxnSpPr>
            <p:cNvPr id="159" name=""/>
            <p:cNvCxnSpPr/>
            <p:nvPr/>
          </p:nvCxnSpPr>
          <p:spPr>
            <a:xfrm>
              <a:off x="3132360" y="2252160"/>
              <a:ext cx="650160" cy="1800"/>
            </a:xfrm>
            <a:prstGeom prst="straightConnector1">
              <a:avLst/>
            </a:prstGeom>
            <a:ln w="9360">
              <a:solidFill>
                <a:srgbClr val="ffff99"/>
              </a:solidFill>
              <a:miter/>
              <a:tailEnd len="med" type="triangle" w="med"/>
            </a:ln>
          </p:spPr>
        </p:cxnSp>
        <p:cxnSp>
          <p:nvCxnSpPr>
            <p:cNvPr id="160" name=""/>
            <p:cNvCxnSpPr/>
            <p:nvPr/>
          </p:nvCxnSpPr>
          <p:spPr>
            <a:xfrm>
              <a:off x="4429080" y="2252160"/>
              <a:ext cx="649800" cy="1800"/>
            </a:xfrm>
            <a:prstGeom prst="straightConnector1">
              <a:avLst/>
            </a:prstGeom>
            <a:ln w="9360">
              <a:solidFill>
                <a:srgbClr val="ffff99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/>
            <p:nvPr/>
          </p:nvCxnSpPr>
          <p:spPr>
            <a:xfrm>
              <a:off x="5726160" y="2252160"/>
              <a:ext cx="650160" cy="1800"/>
            </a:xfrm>
            <a:prstGeom prst="straightConnector1">
              <a:avLst/>
            </a:prstGeom>
            <a:ln w="9360">
              <a:solidFill>
                <a:srgbClr val="ffff99"/>
              </a:solidFill>
              <a:miter/>
              <a:tailEnd len="med" type="triangle" w="med"/>
            </a:ln>
          </p:spPr>
        </p:cxnSp>
        <p:cxnSp>
          <p:nvCxnSpPr>
            <p:cNvPr id="162" name=""/>
            <p:cNvCxnSpPr/>
            <p:nvPr/>
          </p:nvCxnSpPr>
          <p:spPr>
            <a:xfrm flipV="1">
              <a:off x="7025040" y="2244240"/>
              <a:ext cx="629280" cy="7920"/>
            </a:xfrm>
            <a:prstGeom prst="straightConnector1">
              <a:avLst/>
            </a:prstGeom>
            <a:ln w="9360">
              <a:solidFill>
                <a:srgbClr val="ffff99"/>
              </a:solidFill>
              <a:miter/>
              <a:tailEnd len="med" type="triangle" w="med"/>
            </a:ln>
          </p:spPr>
        </p:cxnSp>
        <p:cxnSp>
          <p:nvCxnSpPr>
            <p:cNvPr id="163" name=""/>
            <p:cNvCxnSpPr/>
            <p:nvPr/>
          </p:nvCxnSpPr>
          <p:spPr>
            <a:xfrm>
              <a:off x="1667160" y="2244240"/>
              <a:ext cx="816480" cy="7920"/>
            </a:xfrm>
            <a:prstGeom prst="straightConnector1">
              <a:avLst/>
            </a:prstGeom>
            <a:ln w="9360">
              <a:solidFill>
                <a:srgbClr val="ffff99"/>
              </a:solidFill>
              <a:miter/>
              <a:tailEnd len="med" type="triangle" w="med"/>
            </a:ln>
          </p:spPr>
        </p:cxnSp>
        <p:grpSp>
          <p:nvGrpSpPr>
            <p:cNvPr id="164" name=""/>
            <p:cNvGrpSpPr/>
            <p:nvPr/>
          </p:nvGrpSpPr>
          <p:grpSpPr>
            <a:xfrm>
              <a:off x="1654200" y="2777400"/>
              <a:ext cx="5986800" cy="9720"/>
              <a:chOff x="1654200" y="2777400"/>
              <a:chExt cx="5986800" cy="9720"/>
            </a:xfrm>
          </p:grpSpPr>
          <p:cxnSp>
            <p:nvCxnSpPr>
              <p:cNvPr id="165" name=""/>
              <p:cNvCxnSpPr/>
              <p:nvPr/>
            </p:nvCxnSpPr>
            <p:spPr>
              <a:xfrm>
                <a:off x="3119040" y="2785320"/>
                <a:ext cx="649800" cy="2160"/>
              </a:xfrm>
              <a:prstGeom prst="straightConnector1">
                <a:avLst/>
              </a:prstGeom>
              <a:ln w="9360">
                <a:solidFill>
                  <a:srgbClr val="ffff99"/>
                </a:solidFill>
                <a:miter/>
                <a:tailEnd len="med" type="triangle" w="med"/>
              </a:ln>
            </p:spPr>
          </p:cxnSp>
          <p:cxnSp>
            <p:nvCxnSpPr>
              <p:cNvPr id="166" name=""/>
              <p:cNvCxnSpPr/>
              <p:nvPr/>
            </p:nvCxnSpPr>
            <p:spPr>
              <a:xfrm>
                <a:off x="4416480" y="2785320"/>
                <a:ext cx="649440" cy="2160"/>
              </a:xfrm>
              <a:prstGeom prst="straightConnector1">
                <a:avLst/>
              </a:prstGeom>
              <a:ln w="9360">
                <a:solidFill>
                  <a:srgbClr val="ffff99"/>
                </a:solidFill>
                <a:miter/>
                <a:tailEnd len="med" type="triangle" w="med"/>
              </a:ln>
            </p:spPr>
          </p:cxnSp>
          <p:cxnSp>
            <p:nvCxnSpPr>
              <p:cNvPr id="167" name=""/>
              <p:cNvCxnSpPr/>
              <p:nvPr/>
            </p:nvCxnSpPr>
            <p:spPr>
              <a:xfrm>
                <a:off x="5714280" y="2785320"/>
                <a:ext cx="649440" cy="2160"/>
              </a:xfrm>
              <a:prstGeom prst="straightConnector1">
                <a:avLst/>
              </a:prstGeom>
              <a:ln w="9360">
                <a:solidFill>
                  <a:srgbClr val="ffff99"/>
                </a:solidFill>
                <a:miter/>
                <a:tailEnd len="med" type="triangle" w="med"/>
              </a:ln>
            </p:spPr>
          </p:cxnSp>
          <p:cxnSp>
            <p:nvCxnSpPr>
              <p:cNvPr id="168" name=""/>
              <p:cNvCxnSpPr/>
              <p:nvPr/>
            </p:nvCxnSpPr>
            <p:spPr>
              <a:xfrm flipV="1">
                <a:off x="7012080" y="2777400"/>
                <a:ext cx="629280" cy="7920"/>
              </a:xfrm>
              <a:prstGeom prst="straightConnector1">
                <a:avLst/>
              </a:prstGeom>
              <a:ln w="9360">
                <a:solidFill>
                  <a:srgbClr val="ffff99"/>
                </a:solidFill>
                <a:miter/>
                <a:tailEnd len="med" type="triangle" w="med"/>
              </a:ln>
            </p:spPr>
          </p:cxnSp>
          <p:cxnSp>
            <p:nvCxnSpPr>
              <p:cNvPr id="169" name=""/>
              <p:cNvCxnSpPr/>
              <p:nvPr/>
            </p:nvCxnSpPr>
            <p:spPr>
              <a:xfrm>
                <a:off x="1654200" y="2777400"/>
                <a:ext cx="816840" cy="7920"/>
              </a:xfrm>
              <a:prstGeom prst="straightConnector1">
                <a:avLst/>
              </a:prstGeom>
              <a:ln w="9360">
                <a:solidFill>
                  <a:srgbClr val="ffff99"/>
                </a:solidFill>
                <a:miter/>
                <a:tailEnd len="med" type="triangle" w="med"/>
              </a:ln>
            </p:spPr>
          </p:cxnSp>
        </p:grpSp>
        <p:sp>
          <p:nvSpPr>
            <p:cNvPr id="170" name=""/>
            <p:cNvSpPr/>
            <p:nvPr/>
          </p:nvSpPr>
          <p:spPr>
            <a:xfrm>
              <a:off x="1332000" y="1916280"/>
              <a:ext cx="325440" cy="11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Tahoma"/>
                </a:rPr>
                <a:t>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Tahoma"/>
                </a:rPr>
                <a:t>B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Tahoma"/>
                </a:rPr>
                <a:t>C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639200" y="1920600"/>
              <a:ext cx="341280" cy="11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Tahoma"/>
                </a:rPr>
                <a:t>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Tahoma"/>
                </a:rPr>
                <a:t>B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Tahoma"/>
                </a:rPr>
                <a:t>C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1006560" y="3357720"/>
            <a:ext cx="813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Plantas multipropósito (Jobshop plants):</a:t>
            </a:r>
            <a:r>
              <a:rPr b="0" lang="es-ES" sz="2400" spc="-1" strike="noStrike">
                <a:solidFill>
                  <a:srgbClr val="00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ff"/>
                </a:solidFill>
                <a:latin typeface="Tahoma"/>
              </a:rPr>
              <a:t>Los productos no necesariamente siguen la misma secuencia, o requieren de todas las etapas, a través del proceso de produc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1332000" y="4941360"/>
            <a:ext cx="5576400" cy="1627560"/>
            <a:chOff x="1332000" y="4941360"/>
            <a:chExt cx="5576400" cy="1627560"/>
          </a:xfrm>
        </p:grpSpPr>
        <p:sp>
          <p:nvSpPr>
            <p:cNvPr id="174" name=""/>
            <p:cNvSpPr/>
            <p:nvPr/>
          </p:nvSpPr>
          <p:spPr>
            <a:xfrm>
              <a:off x="2284200" y="5399280"/>
              <a:ext cx="542880" cy="825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80"/>
                  </a:solidFill>
                  <a:latin typeface="Tahoma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372120" y="5399280"/>
              <a:ext cx="542880" cy="825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80"/>
                  </a:solidFill>
                  <a:latin typeface="Tahoma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460040" y="5399280"/>
              <a:ext cx="544320" cy="825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80"/>
                  </a:solidFill>
                  <a:latin typeface="Tahoma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549760" y="5399280"/>
              <a:ext cx="542880" cy="825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80"/>
                  </a:solidFill>
                  <a:latin typeface="Tahoma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78" name=""/>
            <p:cNvCxnSpPr/>
            <p:nvPr/>
          </p:nvCxnSpPr>
          <p:spPr>
            <a:xfrm>
              <a:off x="5004360" y="5813640"/>
              <a:ext cx="545400" cy="2160"/>
            </a:xfrm>
            <a:prstGeom prst="straightConnector1">
              <a:avLst/>
            </a:prstGeom>
            <a:ln w="9360">
              <a:solidFill>
                <a:srgbClr val="ffff99"/>
              </a:solidFill>
              <a:miter/>
              <a:tailEnd len="med" type="triangle" w="med"/>
            </a:ln>
          </p:spPr>
        </p:cxnSp>
        <p:cxnSp>
          <p:nvCxnSpPr>
            <p:cNvPr id="179" name=""/>
            <p:cNvCxnSpPr/>
            <p:nvPr/>
          </p:nvCxnSpPr>
          <p:spPr>
            <a:xfrm flipV="1">
              <a:off x="6092640" y="5804280"/>
              <a:ext cx="528120" cy="9000"/>
            </a:xfrm>
            <a:prstGeom prst="straightConnector1">
              <a:avLst/>
            </a:prstGeom>
            <a:ln w="9360">
              <a:solidFill>
                <a:srgbClr val="ffff99"/>
              </a:solidFill>
              <a:miter/>
              <a:tailEnd len="med" type="triangle" w="med"/>
            </a:ln>
          </p:spPr>
        </p:cxnSp>
        <p:cxnSp>
          <p:nvCxnSpPr>
            <p:cNvPr id="180" name=""/>
            <p:cNvCxnSpPr/>
            <p:nvPr/>
          </p:nvCxnSpPr>
          <p:spPr>
            <a:xfrm>
              <a:off x="1599480" y="5804640"/>
              <a:ext cx="685440" cy="9000"/>
            </a:xfrm>
            <a:prstGeom prst="straightConnector1">
              <a:avLst/>
            </a:prstGeom>
            <a:ln w="9360">
              <a:solidFill>
                <a:srgbClr val="ffff99"/>
              </a:solidFill>
              <a:miter/>
              <a:tailEnd len="med" type="triangle" w="med"/>
            </a:ln>
          </p:spPr>
        </p:cxnSp>
        <p:grpSp>
          <p:nvGrpSpPr>
            <p:cNvPr id="181" name=""/>
            <p:cNvGrpSpPr/>
            <p:nvPr/>
          </p:nvGrpSpPr>
          <p:grpSpPr>
            <a:xfrm>
              <a:off x="1611720" y="5504400"/>
              <a:ext cx="5022360" cy="10800"/>
              <a:chOff x="1611720" y="5504400"/>
              <a:chExt cx="5022360" cy="10800"/>
            </a:xfrm>
          </p:grpSpPr>
          <p:cxnSp>
            <p:nvCxnSpPr>
              <p:cNvPr id="182" name=""/>
              <p:cNvCxnSpPr/>
              <p:nvPr/>
            </p:nvCxnSpPr>
            <p:spPr>
              <a:xfrm>
                <a:off x="2840760" y="5513400"/>
                <a:ext cx="545040" cy="2160"/>
              </a:xfrm>
              <a:prstGeom prst="straightConnector1">
                <a:avLst/>
              </a:prstGeom>
              <a:ln w="9360">
                <a:solidFill>
                  <a:srgbClr val="ffff99"/>
                </a:solidFill>
                <a:miter/>
                <a:tailEnd len="med" type="triangle" w="med"/>
              </a:ln>
            </p:spPr>
          </p:cxnSp>
          <p:cxnSp>
            <p:nvCxnSpPr>
              <p:cNvPr id="183" name=""/>
              <p:cNvCxnSpPr/>
              <p:nvPr/>
            </p:nvCxnSpPr>
            <p:spPr>
              <a:xfrm>
                <a:off x="3928680" y="5513400"/>
                <a:ext cx="545040" cy="2160"/>
              </a:xfrm>
              <a:prstGeom prst="straightConnector1">
                <a:avLst/>
              </a:prstGeom>
              <a:ln w="9360">
                <a:solidFill>
                  <a:srgbClr val="ffff99"/>
                </a:solidFill>
                <a:miter/>
                <a:tailEnd len="med" type="triangle" w="med"/>
              </a:ln>
            </p:spPr>
          </p:cxnSp>
          <p:cxnSp>
            <p:nvCxnSpPr>
              <p:cNvPr id="184" name=""/>
              <p:cNvCxnSpPr/>
              <p:nvPr/>
            </p:nvCxnSpPr>
            <p:spPr>
              <a:xfrm>
                <a:off x="5017680" y="5513400"/>
                <a:ext cx="545040" cy="2160"/>
              </a:xfrm>
              <a:prstGeom prst="straightConnector1">
                <a:avLst/>
              </a:prstGeom>
              <a:ln w="9360">
                <a:solidFill>
                  <a:srgbClr val="ffff99"/>
                </a:solidFill>
                <a:miter/>
                <a:tailEnd len="med" type="triangle" w="med"/>
              </a:ln>
            </p:spPr>
          </p:cxnSp>
          <p:cxnSp>
            <p:nvCxnSpPr>
              <p:cNvPr id="185" name=""/>
              <p:cNvCxnSpPr/>
              <p:nvPr/>
            </p:nvCxnSpPr>
            <p:spPr>
              <a:xfrm flipV="1">
                <a:off x="6106320" y="5504400"/>
                <a:ext cx="528120" cy="9000"/>
              </a:xfrm>
              <a:prstGeom prst="straightConnector1">
                <a:avLst/>
              </a:prstGeom>
              <a:ln w="9360">
                <a:solidFill>
                  <a:srgbClr val="ffff99"/>
                </a:solidFill>
                <a:miter/>
                <a:tailEnd len="med" type="triangle" w="med"/>
              </a:ln>
            </p:spPr>
          </p:cxnSp>
          <p:cxnSp>
            <p:nvCxnSpPr>
              <p:cNvPr id="186" name=""/>
              <p:cNvCxnSpPr/>
              <p:nvPr/>
            </p:nvCxnSpPr>
            <p:spPr>
              <a:xfrm>
                <a:off x="1611720" y="5504760"/>
                <a:ext cx="685440" cy="9000"/>
              </a:xfrm>
              <a:prstGeom prst="straightConnector1">
                <a:avLst/>
              </a:prstGeom>
              <a:ln w="9360">
                <a:solidFill>
                  <a:srgbClr val="ffff99"/>
                </a:solidFill>
                <a:miter/>
                <a:tailEnd len="med" type="triangle" w="med"/>
              </a:ln>
            </p:spPr>
          </p:cxnSp>
        </p:grpSp>
        <p:sp>
          <p:nvSpPr>
            <p:cNvPr id="187" name=""/>
            <p:cNvSpPr/>
            <p:nvPr/>
          </p:nvSpPr>
          <p:spPr>
            <a:xfrm>
              <a:off x="1332000" y="5123160"/>
              <a:ext cx="271800" cy="138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ahoma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ahoma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ahoma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621840" y="5128200"/>
              <a:ext cx="286560" cy="138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ahoma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ahoma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ahoma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89" name=""/>
            <p:cNvCxnSpPr>
              <a:stCxn id="174" idx="3"/>
            </p:cNvCxnSpPr>
            <p:nvPr/>
          </p:nvCxnSpPr>
          <p:spPr>
            <a:xfrm flipV="1">
              <a:off x="2827440" y="5801400"/>
              <a:ext cx="223200" cy="10440"/>
            </a:xfrm>
            <a:prstGeom prst="straightConnector1">
              <a:avLst/>
            </a:prstGeom>
            <a:ln w="9360">
              <a:solidFill>
                <a:srgbClr val="ffff99"/>
              </a:solidFill>
              <a:miter/>
              <a:tailEnd len="med" type="triangle" w="med"/>
            </a:ln>
          </p:spPr>
        </p:cxnSp>
        <p:cxnSp>
          <p:nvCxnSpPr>
            <p:cNvPr id="190" name=""/>
            <p:cNvCxnSpPr>
              <a:endCxn id="176" idx="1"/>
            </p:cNvCxnSpPr>
            <p:nvPr/>
          </p:nvCxnSpPr>
          <p:spPr>
            <a:xfrm>
              <a:off x="4137480" y="5802840"/>
              <a:ext cx="322920" cy="9000"/>
            </a:xfrm>
            <a:prstGeom prst="straightConnector1">
              <a:avLst/>
            </a:prstGeom>
            <a:ln w="9360">
              <a:solidFill>
                <a:srgbClr val="ffff99"/>
              </a:solidFill>
              <a:miter/>
              <a:tailEnd len="med" type="triangle" w="med"/>
            </a:ln>
          </p:spPr>
        </p:cxnSp>
        <p:cxnSp>
          <p:nvCxnSpPr>
            <p:cNvPr id="191" name=""/>
            <p:cNvCxnSpPr/>
            <p:nvPr/>
          </p:nvCxnSpPr>
          <p:spPr>
            <a:xfrm flipV="1">
              <a:off x="3049560" y="4949280"/>
              <a:ext cx="1800" cy="831240"/>
            </a:xfrm>
            <a:prstGeom prst="straightConnector1">
              <a:avLst/>
            </a:prstGeom>
            <a:ln w="9360">
              <a:solidFill>
                <a:srgbClr val="ffff99"/>
              </a:solidFill>
              <a:miter/>
              <a:tailEnd len="med" type="triangle" w="med"/>
            </a:ln>
          </p:spPr>
        </p:cxnSp>
        <p:cxnSp>
          <p:nvCxnSpPr>
            <p:cNvPr id="192" name=""/>
            <p:cNvCxnSpPr/>
            <p:nvPr/>
          </p:nvCxnSpPr>
          <p:spPr>
            <a:xfrm flipV="1">
              <a:off x="4153320" y="4983480"/>
              <a:ext cx="2160" cy="831240"/>
            </a:xfrm>
            <a:prstGeom prst="straightConnector1">
              <a:avLst/>
            </a:prstGeom>
            <a:ln w="9360">
              <a:solidFill>
                <a:srgbClr val="ffff99"/>
              </a:solidFill>
              <a:miter/>
              <a:tailEnd len="med" type="triangle" w="med"/>
            </a:ln>
          </p:spPr>
        </p:cxnSp>
        <p:cxnSp>
          <p:nvCxnSpPr>
            <p:cNvPr id="193" name=""/>
            <p:cNvCxnSpPr/>
            <p:nvPr/>
          </p:nvCxnSpPr>
          <p:spPr>
            <a:xfrm>
              <a:off x="3063960" y="4941360"/>
              <a:ext cx="1088280" cy="3960"/>
            </a:xfrm>
            <a:prstGeom prst="straightConnector1">
              <a:avLst/>
            </a:prstGeom>
            <a:ln w="9360">
              <a:solidFill>
                <a:srgbClr val="ffff99"/>
              </a:solidFill>
              <a:miter/>
              <a:tailEnd len="med" type="triangle" w="med"/>
            </a:ln>
          </p:spPr>
        </p:cxnSp>
        <p:cxnSp>
          <p:nvCxnSpPr>
            <p:cNvPr id="194" name=""/>
            <p:cNvCxnSpPr/>
            <p:nvPr/>
          </p:nvCxnSpPr>
          <p:spPr>
            <a:xfrm flipH="1">
              <a:off x="1609560" y="6078600"/>
              <a:ext cx="662040" cy="17640"/>
            </a:xfrm>
            <a:prstGeom prst="straightConnector1">
              <a:avLst/>
            </a:prstGeom>
            <a:ln w="9360">
              <a:solidFill>
                <a:srgbClr val="ffff99"/>
              </a:solidFill>
              <a:miter/>
              <a:tailEnd len="med" type="triangle" w="med"/>
            </a:ln>
          </p:spPr>
        </p:cxnSp>
        <p:cxnSp>
          <p:nvCxnSpPr>
            <p:cNvPr id="195" name=""/>
            <p:cNvCxnSpPr/>
            <p:nvPr/>
          </p:nvCxnSpPr>
          <p:spPr>
            <a:xfrm flipH="1">
              <a:off x="2802240" y="6056640"/>
              <a:ext cx="545040" cy="5760"/>
            </a:xfrm>
            <a:prstGeom prst="straightConnector1">
              <a:avLst/>
            </a:prstGeom>
            <a:ln w="9360">
              <a:solidFill>
                <a:srgbClr val="ffff99"/>
              </a:solidFill>
              <a:miter/>
              <a:tailEnd len="med" type="triangle" w="med"/>
            </a:ln>
          </p:spPr>
        </p:cxnSp>
        <p:cxnSp>
          <p:nvCxnSpPr>
            <p:cNvPr id="196" name=""/>
            <p:cNvCxnSpPr/>
            <p:nvPr/>
          </p:nvCxnSpPr>
          <p:spPr>
            <a:xfrm flipH="1">
              <a:off x="3897360" y="6058080"/>
              <a:ext cx="257400" cy="17640"/>
            </a:xfrm>
            <a:prstGeom prst="straightConnector1">
              <a:avLst/>
            </a:prstGeom>
            <a:ln w="9360">
              <a:solidFill>
                <a:srgbClr val="ffff99"/>
              </a:solidFill>
              <a:miter/>
              <a:tailEnd len="med" type="triangle" w="med"/>
            </a:ln>
          </p:spPr>
        </p:cxnSp>
        <p:cxnSp>
          <p:nvCxnSpPr>
            <p:cNvPr id="197" name=""/>
            <p:cNvCxnSpPr/>
            <p:nvPr/>
          </p:nvCxnSpPr>
          <p:spPr>
            <a:xfrm flipH="1">
              <a:off x="6073920" y="6093000"/>
              <a:ext cx="545040" cy="5760"/>
            </a:xfrm>
            <a:prstGeom prst="straightConnector1">
              <a:avLst/>
            </a:prstGeom>
            <a:ln w="9360">
              <a:solidFill>
                <a:srgbClr val="ffff99"/>
              </a:solidFill>
              <a:miter/>
              <a:tailEnd len="med" type="triangle" w="med"/>
            </a:ln>
          </p:spPr>
        </p:cxnSp>
        <p:cxnSp>
          <p:nvCxnSpPr>
            <p:cNvPr id="198" name=""/>
            <p:cNvCxnSpPr/>
            <p:nvPr/>
          </p:nvCxnSpPr>
          <p:spPr>
            <a:xfrm flipH="1">
              <a:off x="5275440" y="6118560"/>
              <a:ext cx="257040" cy="15840"/>
            </a:xfrm>
            <a:prstGeom prst="straightConnector1">
              <a:avLst/>
            </a:prstGeom>
            <a:ln w="9360">
              <a:solidFill>
                <a:srgbClr val="ffff99"/>
              </a:solidFill>
              <a:miter/>
              <a:tailEnd len="med" type="triangle" w="med"/>
            </a:ln>
          </p:spPr>
        </p:cxnSp>
        <p:cxnSp>
          <p:nvCxnSpPr>
            <p:cNvPr id="199" name=""/>
            <p:cNvCxnSpPr/>
            <p:nvPr/>
          </p:nvCxnSpPr>
          <p:spPr>
            <a:xfrm flipH="1">
              <a:off x="4156200" y="6055200"/>
              <a:ext cx="5040" cy="514080"/>
            </a:xfrm>
            <a:prstGeom prst="straightConnector1">
              <a:avLst/>
            </a:prstGeom>
            <a:ln w="9360">
              <a:solidFill>
                <a:srgbClr val="ffff99"/>
              </a:solidFill>
              <a:miter/>
              <a:tailEnd len="med" type="triangle" w="med"/>
            </a:ln>
          </p:spPr>
        </p:cxnSp>
        <p:cxnSp>
          <p:nvCxnSpPr>
            <p:cNvPr id="200" name=""/>
            <p:cNvCxnSpPr/>
            <p:nvPr/>
          </p:nvCxnSpPr>
          <p:spPr>
            <a:xfrm>
              <a:off x="5289480" y="6159240"/>
              <a:ext cx="11520" cy="380520"/>
            </a:xfrm>
            <a:prstGeom prst="straightConnector1">
              <a:avLst/>
            </a:prstGeom>
            <a:ln w="9360">
              <a:solidFill>
                <a:srgbClr val="ffff99"/>
              </a:solidFill>
              <a:miter/>
              <a:tailEnd len="med" type="triangle" w="med"/>
            </a:ln>
          </p:spPr>
        </p:cxnSp>
        <p:cxnSp>
          <p:nvCxnSpPr>
            <p:cNvPr id="201" name=""/>
            <p:cNvCxnSpPr/>
            <p:nvPr/>
          </p:nvCxnSpPr>
          <p:spPr>
            <a:xfrm flipH="1">
              <a:off x="4123440" y="6554880"/>
              <a:ext cx="1176840" cy="12600"/>
            </a:xfrm>
            <a:prstGeom prst="straightConnector1">
              <a:avLst/>
            </a:prstGeom>
            <a:ln w="9360">
              <a:solidFill>
                <a:srgbClr val="ffff99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5" name=""/>
          <p:cNvGraphicFramePr/>
          <p:nvPr/>
        </p:nvGraphicFramePr>
        <p:xfrm>
          <a:off x="990720" y="533520"/>
          <a:ext cx="6705360" cy="2619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533520"/>
                    <a:ext cx="6705360" cy="26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7" name=""/>
          <p:cNvGraphicFramePr/>
          <p:nvPr/>
        </p:nvGraphicFramePr>
        <p:xfrm>
          <a:off x="990720" y="3733920"/>
          <a:ext cx="6781680" cy="26492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0720" y="3733920"/>
                    <a:ext cx="6781680" cy="264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81000" y="1882800"/>
            <a:ext cx="8964720" cy="266364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380880" y="38088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lanta sin unidades en paralelo y con tanques de almacenamien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905120" y="2209680"/>
            <a:ext cx="533160" cy="990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10080" y="2209680"/>
            <a:ext cx="533520" cy="990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20120" y="2209680"/>
            <a:ext cx="533160" cy="990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362320" y="3962520"/>
            <a:ext cx="2057400" cy="3045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5" name=""/>
          <p:cNvGraphicFramePr/>
          <p:nvPr/>
        </p:nvGraphicFramePr>
        <p:xfrm>
          <a:off x="1066680" y="838080"/>
          <a:ext cx="6477120" cy="2710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838080"/>
                    <a:ext cx="6477120" cy="27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7" name=""/>
          <p:cNvGraphicFramePr/>
          <p:nvPr/>
        </p:nvGraphicFramePr>
        <p:xfrm>
          <a:off x="1042920" y="4005360"/>
          <a:ext cx="6553440" cy="22366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42920" y="4005360"/>
                    <a:ext cx="6553440" cy="22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onclusiones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116000" y="1916280"/>
            <a:ext cx="7696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 adición de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anques intermedio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entre dos operaciones batch resulta beneficiosa dado que permite un significativo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horro en los costos de capital (40%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l tener que minimizarse el número de unidades en paralelo a utilizar dado que las existentes son operadas con mínimo tiempo ocios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Referencia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Montagna J.M., Vecchietti A.R., Iribarren O.A., Pinto J.M., Asenjo J.A (2000) </a:t>
            </a:r>
            <a:r>
              <a:rPr b="0" lang="es-ES" sz="2400" spc="-1" strike="noStrike">
                <a:solidFill>
                  <a:srgbClr val="ffcc99"/>
                </a:solidFill>
                <a:latin typeface="Times New Roman"/>
              </a:rPr>
              <a:t>“Optimal design of protein production plants with time and size factor process models”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 Biotechnol. Prog. 2000, 16, 228-237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101520" y="1198440"/>
            <a:ext cx="8918640" cy="235764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85800" y="4572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roducción de proteínas recombinan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971640" y="3716280"/>
            <a:ext cx="7162560" cy="29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Objetivo: Realizar un diseño que minimice los costos de capital para esta planta multiproduct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Produc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90000"/>
              </a:lnSpc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Insulina y Quimosina: extracelula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90000"/>
              </a:lnSpc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Proteasa y Vacuna: Intracelul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Forma de operación de cada equipo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0" y="1371600"/>
          <a:ext cx="1143000" cy="185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71600"/>
                    <a:ext cx="1143000" cy="185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"/>
          <p:cNvSpPr/>
          <p:nvPr/>
        </p:nvSpPr>
        <p:spPr>
          <a:xfrm>
            <a:off x="1219320" y="1371600"/>
            <a:ext cx="26668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99"/>
                </a:solidFill>
                <a:latin typeface="Times New Roman"/>
              </a:rPr>
              <a:t>Fermentador: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Reactor donde crece la biomasa produciendo el producto de interés (intra o extra celular), es operado en forma batch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76920" y="3881520"/>
            <a:ext cx="411480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cc99"/>
                </a:solidFill>
                <a:latin typeface="Times New Roman"/>
              </a:rPr>
              <a:t>1º Microfiltro:</a:t>
            </a:r>
            <a:r>
              <a:rPr b="0" lang="es-ES" sz="1800" spc="-1" strike="noStrike">
                <a:solidFill>
                  <a:srgbClr val="ffff00"/>
                </a:solidFill>
                <a:latin typeface="Times New Roman"/>
              </a:rPr>
              <a:t> Separa la biomasa, que es re- circulada y concentrada (remanente),  del medio de cultivo que pasa continuamente a formar parte del permeado. Es una operación semi-continu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Times New Roman"/>
              </a:rPr>
              <a:t>En el caso de producto intracelular se conserva el remanente, en caso de producto extracelular se conserva el permead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2209680" y="3800520"/>
          <a:ext cx="2552760" cy="3057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09680" y="3800520"/>
                    <a:ext cx="2552760" cy="30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2" name=""/>
          <p:cNvGraphicFramePr/>
          <p:nvPr/>
        </p:nvGraphicFramePr>
        <p:xfrm>
          <a:off x="4952880" y="1447920"/>
          <a:ext cx="1074960" cy="1514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952880" y="1447920"/>
                    <a:ext cx="1074960" cy="15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6095880" y="1447920"/>
            <a:ext cx="3200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99"/>
                </a:solidFill>
                <a:latin typeface="Times New Roman"/>
              </a:rPr>
              <a:t>Homogenizador: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En el caso de proteínas intracelulares las células se deben romper. Es una operación semicontinu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5400000">
            <a:off x="1485720" y="3467160"/>
            <a:ext cx="533160" cy="609480"/>
          </a:xfrm>
          <a:custGeom>
            <a:avLst/>
            <a:gdLst>
              <a:gd name="textAreaLeft" fmla="*/ 177840 w 533160"/>
              <a:gd name="textAreaRight" fmla="*/ 456840 w 533160"/>
              <a:gd name="textAreaTop" fmla="*/ 351000 h 609480"/>
              <a:gd name="textAreaBottom" fmla="*/ 52200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3200400"/>
            <a:ext cx="533520" cy="609480"/>
          </a:xfrm>
          <a:custGeom>
            <a:avLst/>
            <a:gdLst>
              <a:gd name="textAreaLeft" fmla="*/ 177840 w 533520"/>
              <a:gd name="textAreaRight" fmla="*/ 457200 w 533520"/>
              <a:gd name="textAreaTop" fmla="*/ 351000 h 609480"/>
              <a:gd name="textAreaBottom" fmla="*/ 52200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7200" y="914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371600" y="46483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257800" y="914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924680" y="3124080"/>
            <a:ext cx="1219320" cy="228600"/>
          </a:xfrm>
          <a:prstGeom prst="rightArrow">
            <a:avLst>
              <a:gd name="adj1" fmla="val 50000"/>
              <a:gd name="adj2" fmla="val 133346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Times New Roman"/>
              </a:rPr>
              <a:t>Forma de operación de cada equipo (cont..)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380880" y="1447920"/>
          <a:ext cx="819360" cy="117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447920"/>
                    <a:ext cx="819360" cy="117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"/>
          <p:cNvSpPr/>
          <p:nvPr/>
        </p:nvSpPr>
        <p:spPr>
          <a:xfrm>
            <a:off x="533520" y="914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219320" y="1371600"/>
            <a:ext cx="289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cc99"/>
                </a:solidFill>
                <a:latin typeface="Times New Roman"/>
              </a:rPr>
              <a:t>2º Microfiltro:</a:t>
            </a:r>
            <a:r>
              <a:rPr b="0" lang="es-ES" sz="1800" spc="-1" strike="noStrike">
                <a:solidFill>
                  <a:srgbClr val="ffff00"/>
                </a:solidFill>
                <a:latin typeface="Times New Roman"/>
              </a:rPr>
              <a:t> En el caso de rompimiento celular, se utiliza para separar los desechos celulares de la mezcla de proteínas, opera de igual forma que el primer filtro, pero siempre interesa recuperar el permead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2514600" y="3733920"/>
          <a:ext cx="1981080" cy="3124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14600" y="3733920"/>
                    <a:ext cx="198108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8" name=""/>
          <p:cNvSpPr/>
          <p:nvPr/>
        </p:nvSpPr>
        <p:spPr>
          <a:xfrm>
            <a:off x="4572000" y="4724280"/>
            <a:ext cx="411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99"/>
                </a:solidFill>
                <a:latin typeface="Times New Roman"/>
              </a:rPr>
              <a:t>1º Ultrafiltro: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 Se utiliza para concentrar las proteínas que van siendo retenidas, sólo interesa recuperar el remanente. Opera en forma semicontinu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572000" y="41911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486400" y="9907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248520" y="1447920"/>
            <a:ext cx="28954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99"/>
                </a:solidFill>
                <a:latin typeface="Times New Roman"/>
              </a:rPr>
              <a:t>Extractor: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 Es un sistema de extracción líquido-líquido que permite separar las proteínas de otras por sus características de afinidad a una de las fases. Opera en forma batch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5334120" y="1600200"/>
          <a:ext cx="752400" cy="1971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34120" y="1600200"/>
                    <a:ext cx="752400" cy="19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4" name=""/>
          <p:cNvSpPr/>
          <p:nvPr/>
        </p:nvSpPr>
        <p:spPr>
          <a:xfrm rot="5400000">
            <a:off x="1637640" y="4000320"/>
            <a:ext cx="533520" cy="609480"/>
          </a:xfrm>
          <a:custGeom>
            <a:avLst/>
            <a:gdLst>
              <a:gd name="textAreaLeft" fmla="*/ 177840 w 533520"/>
              <a:gd name="textAreaRight" fmla="*/ 457200 w 533520"/>
              <a:gd name="textAreaTop" fmla="*/ 351000 h 609480"/>
              <a:gd name="textAreaBottom" fmla="*/ 52200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334120" y="3581280"/>
            <a:ext cx="533160" cy="609840"/>
          </a:xfrm>
          <a:custGeom>
            <a:avLst/>
            <a:gdLst>
              <a:gd name="textAreaLeft" fmla="*/ 177840 w 533160"/>
              <a:gd name="textAreaRight" fmla="*/ 456840 w 533160"/>
              <a:gd name="textAreaTop" fmla="*/ 351360 h 609840"/>
              <a:gd name="textAreaBottom" fmla="*/ 522360 h 6098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924680" y="3505320"/>
            <a:ext cx="1219320" cy="228600"/>
          </a:xfrm>
          <a:prstGeom prst="rightArrow">
            <a:avLst>
              <a:gd name="adj1" fmla="val 50000"/>
              <a:gd name="adj2" fmla="val 133346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1905120"/>
            <a:ext cx="304920" cy="2286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Times New Roman"/>
              </a:rPr>
              <a:t>Forma de operación de cada equipo (cont..)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4952880" y="1600200"/>
          <a:ext cx="1152720" cy="168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2880" y="1600200"/>
                    <a:ext cx="1152720" cy="16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1" name=""/>
          <p:cNvGraphicFramePr/>
          <p:nvPr/>
        </p:nvGraphicFramePr>
        <p:xfrm>
          <a:off x="1066680" y="1600200"/>
          <a:ext cx="905040" cy="12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6680" y="1600200"/>
                    <a:ext cx="90504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3" name=""/>
          <p:cNvSpPr/>
          <p:nvPr/>
        </p:nvSpPr>
        <p:spPr>
          <a:xfrm>
            <a:off x="533520" y="1981080"/>
            <a:ext cx="304560" cy="228600"/>
          </a:xfrm>
          <a:prstGeom prst="rightArrow">
            <a:avLst>
              <a:gd name="adj1" fmla="val 50000"/>
              <a:gd name="adj2" fmla="val 3330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057400" y="1600200"/>
            <a:ext cx="228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99"/>
                </a:solidFill>
                <a:latin typeface="Times New Roman"/>
              </a:rPr>
              <a:t>2º Ultrafiltro: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 Se utiliza para concentrar las proteínas eliminando agua, opera de igual forma que el 1º ultrafiltr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295280" y="10666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343400" y="2362320"/>
            <a:ext cx="533520" cy="228600"/>
          </a:xfrm>
          <a:prstGeom prst="rightArrow">
            <a:avLst>
              <a:gd name="adj1" fmla="val 50000"/>
              <a:gd name="adj2" fmla="val 58346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1600200"/>
            <a:ext cx="2286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99"/>
                </a:solidFill>
                <a:latin typeface="Times New Roman"/>
              </a:rPr>
              <a:t>Cromatografía: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 Es la etapa que permite purificar hasta el grado deseado la proteína de interés. Opera en forma continu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105520" y="10666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838080" y="3809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523880" y="38088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Metodología aplicad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219320" y="1143000"/>
            <a:ext cx="73911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Definición de los factores de tamaño, Sij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Sij: Tamaño necesario de una operación batch dada  para producir un 1 Kg del producto i en la etapa j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1981080" y="2819520"/>
          <a:ext cx="5257800" cy="3413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2819520"/>
                    <a:ext cx="5257800" cy="341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4" name=""/>
          <p:cNvSpPr/>
          <p:nvPr/>
        </p:nvSpPr>
        <p:spPr>
          <a:xfrm>
            <a:off x="2514600" y="632448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** Etapas gobernadas por la cinétic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riterios para definir los tamaños de los equipos batch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55640" y="1484280"/>
            <a:ext cx="7696080" cy="49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ffff00"/>
                </a:solidFill>
                <a:uFillTx/>
                <a:latin typeface="Times New Roman"/>
              </a:rPr>
              <a:t>Microfiltro o Ultrafiltr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V </a:t>
            </a:r>
            <a:r>
              <a:rPr b="0" lang="es-ES" sz="2000" spc="-1" strike="noStrike" baseline="-25000">
                <a:solidFill>
                  <a:srgbClr val="ffff00"/>
                </a:solidFill>
                <a:latin typeface="Times New Roman"/>
              </a:rPr>
              <a:t>permeado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 = 2* V </a:t>
            </a:r>
            <a:r>
              <a:rPr b="0" lang="es-ES" sz="2000" spc="-1" strike="noStrike" baseline="-25000">
                <a:solidFill>
                  <a:srgbClr val="ffff00"/>
                </a:solidFill>
                <a:latin typeface="Times New Roman"/>
              </a:rPr>
              <a:t>tratado 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= 2* V </a:t>
            </a:r>
            <a:r>
              <a:rPr b="0" lang="es-ES" sz="2000" spc="-1" strike="noStrike" baseline="-25000">
                <a:solidFill>
                  <a:srgbClr val="ffff00"/>
                </a:solidFill>
                <a:latin typeface="Times New Roman"/>
              </a:rPr>
              <a:t>reactor   </a:t>
            </a:r>
            <a:r>
              <a:rPr b="0" lang="es-ES" sz="2000" spc="-1" strike="noStrike" baseline="-25000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2000" spc="-1" strike="noStrike" baseline="-25000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V </a:t>
            </a:r>
            <a:r>
              <a:rPr b="0" lang="es-ES" sz="2000" spc="-1" strike="noStrike" baseline="-25000">
                <a:solidFill>
                  <a:srgbClr val="ffff00"/>
                </a:solidFill>
                <a:latin typeface="Times New Roman"/>
              </a:rPr>
              <a:t>remanente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 = V </a:t>
            </a:r>
            <a:r>
              <a:rPr b="0" lang="es-ES" sz="2000" spc="-1" strike="noStrike" baseline="-25000">
                <a:solidFill>
                  <a:srgbClr val="ffff00"/>
                </a:solidFill>
                <a:latin typeface="Times New Roman"/>
              </a:rPr>
              <a:t>tratado 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= V </a:t>
            </a:r>
            <a:r>
              <a:rPr b="0" lang="es-ES" sz="2000" spc="-1" strike="noStrike" baseline="-25000">
                <a:solidFill>
                  <a:srgbClr val="ffff00"/>
                </a:solidFill>
                <a:latin typeface="Times New Roman"/>
              </a:rPr>
              <a:t>reac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ffff00"/>
                </a:solidFill>
                <a:uFillTx/>
                <a:latin typeface="Times New Roman"/>
              </a:rPr>
              <a:t>Homogenizador 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V </a:t>
            </a:r>
            <a:r>
              <a:rPr b="0" lang="es-ES" sz="2000" spc="-1" strike="noStrike" baseline="-25000">
                <a:solidFill>
                  <a:srgbClr val="ffff00"/>
                </a:solidFill>
                <a:latin typeface="Times New Roman"/>
              </a:rPr>
              <a:t>homogeneizador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 = ¼ V </a:t>
            </a:r>
            <a:r>
              <a:rPr b="0" lang="es-ES" sz="2000" spc="-1" strike="noStrike" baseline="-25000">
                <a:solidFill>
                  <a:srgbClr val="ffff00"/>
                </a:solidFill>
                <a:latin typeface="Times New Roman"/>
              </a:rPr>
              <a:t>remanente</a:t>
            </a:r>
            <a:r>
              <a:rPr b="0" lang="es-ES" sz="2000" spc="-1" strike="noStrike" baseline="-25000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00"/>
                </a:solidFill>
                <a:uFillTx/>
                <a:latin typeface="Times New Roman"/>
              </a:rPr>
              <a:t>Extrac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V </a:t>
            </a:r>
            <a:r>
              <a:rPr b="0" lang="es-ES" sz="2000" spc="-1" strike="noStrike" baseline="-25000">
                <a:solidFill>
                  <a:srgbClr val="ffff00"/>
                </a:solidFill>
                <a:latin typeface="Times New Roman"/>
              </a:rPr>
              <a:t>extractor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 = 1/3 V </a:t>
            </a:r>
            <a:r>
              <a:rPr b="0" lang="es-ES" sz="2000" spc="-1" strike="noStrike" baseline="-25000">
                <a:solidFill>
                  <a:srgbClr val="ffff00"/>
                </a:solidFill>
                <a:latin typeface="Times New Roman"/>
              </a:rPr>
              <a:t>reac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Criterios para definir los tamaños de equipos semi-continuos</a:t>
            </a:r>
            <a:br>
              <a:rPr sz="3200"/>
            </a:b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066680" y="2057400"/>
            <a:ext cx="7391520" cy="505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Se define </a:t>
            </a:r>
            <a:r>
              <a:rPr b="0" lang="es-ES" sz="2400" spc="-1" strike="noStrike">
                <a:solidFill>
                  <a:srgbClr val="ffcc99"/>
                </a:solidFill>
                <a:latin typeface="Times New Roman"/>
              </a:rPr>
              <a:t>Rj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que es una velocidad de procesamien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Homogenizadores: capacidad [m</a:t>
            </a:r>
            <a:r>
              <a:rPr b="0" lang="es-ES" sz="2400" spc="-1" strike="noStrike" baseline="30000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 de suspensión /hora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Filtros: Area de filtración </a:t>
            </a:r>
            <a:r>
              <a:rPr b="0" lang="es-ES" sz="2400" spc="-1" strike="noStrike">
                <a:solidFill>
                  <a:srgbClr val="ffcc99"/>
                </a:solidFill>
                <a:latin typeface="Times New Roman"/>
              </a:rPr>
              <a:t>Aj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 [m</a:t>
            </a:r>
            <a:r>
              <a:rPr b="0" lang="es-ES" sz="24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Rj = Dij * Bi /  </a:t>
            </a:r>
            <a:r>
              <a:rPr b="0" lang="es-ES" sz="2400" spc="-1" strike="noStrike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i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cc99"/>
                </a:solidFill>
                <a:latin typeface="Times New Roman"/>
              </a:rPr>
              <a:t>Dij: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 Tamaño del equipo semi-continuo j para procesar en 1 hora 1 kilogramo del producto 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cc99"/>
                </a:solidFill>
                <a:latin typeface="Times New Roman"/>
              </a:rPr>
              <a:t>Bi: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 Masa del batch a proces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cc99"/>
                </a:solidFill>
                <a:latin typeface="Symbol"/>
                <a:ea typeface="Symbol"/>
              </a:rPr>
              <a:t></a:t>
            </a:r>
            <a:r>
              <a:rPr b="0" lang="es-ES" sz="2000" spc="-1" strike="noStrike">
                <a:solidFill>
                  <a:srgbClr val="ffcc99"/>
                </a:solidFill>
                <a:latin typeface="Times New Roman"/>
              </a:rPr>
              <a:t>ij: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 Tiempo que debe operar el equipo j para procesar un batch del producto i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1T08:19:18Z</dcterms:created>
  <dc:creator>Maria Elena Lienqueo C.</dc:creator>
  <dc:description/>
  <dc:language>en-US</dc:language>
  <cp:lastModifiedBy>Maria Elena Lienqueo C.</cp:lastModifiedBy>
  <dcterms:modified xsi:type="dcterms:W3CDTF">2004-11-15T04:01:03Z</dcterms:modified>
  <cp:revision>34</cp:revision>
  <dc:subject/>
  <dc:title>Presentación de PowerPoint</dc:title>
</cp:coreProperties>
</file>