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717D-4920-419D-944E-E8C72426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693B-8B5B-4A04-A1AA-95636751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D890-E0C4-4391-909A-CE9EE2A4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247-8592-480C-90F3-E1634ABE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F376-B14E-4532-9D9C-BFDC44FD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BC37-E649-4EB0-B357-1172B548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650F-2C6B-46B9-984B-0D621EAD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3A4D-72AD-458D-8BFC-4A3873B4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9897-7BC4-44E0-94F2-643E7A6F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6917-AC84-4EE8-B687-812A8FAC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33D0-040B-4862-A12F-BB2097DD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4F7-0E17-4DAB-887C-2B9700E3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81BD-4518-449C-8BD7-7BD1DA10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DDFA-1949-41C7-B7C5-71EA60CC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D08B-CD90-468F-8391-EF33E691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B729-45E1-4176-AD0E-457BC4E2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9D63-B42B-443C-8789-054F8357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4E4B-B5BD-466D-8B88-23698204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5BAA-30BE-46BA-B2A4-021719BB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C74-E426-4033-92FA-A79CF82C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B347-8C77-4470-8A9E-4DB21CA7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8C7-DB9F-4876-BB3B-3BFDF418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C79A-7D08-484A-A808-23F65474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258-3433-4000-A7AA-06240A51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5EFC-9F4F-4EF5-B105-D9DE0DDC92E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15F3-6E54-4674-BF30-272A04E7654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cambiadores de Cal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676520"/>
            <a:ext cx="660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alizar el comportamiento de un Intercambiador de Calor en General, fluido frío, fluido  cali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371600" y="4419720"/>
                <a:ext cx="55627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Δ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1207440" y="358128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ransferencia de Calor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219320" y="2743200"/>
                <a:ext cx="4343400" cy="21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17480" y="1905120"/>
            <a:ext cx="65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eficiente Global de Transferencia de Cal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81080" y="2895480"/>
            <a:ext cx="533412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167652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4114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1600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1676520"/>
            <a:ext cx="2209680" cy="1218960"/>
          </a:xfrm>
          <a:custGeom>
            <a:avLst/>
            <a:gdLst/>
            <a:ahLst/>
            <a:rect l="l" t="t" r="r" b="b"/>
            <a:pathLst>
              <a:path w="1392" h="768">
                <a:moveTo>
                  <a:pt x="0" y="768"/>
                </a:moveTo>
                <a:cubicBezTo>
                  <a:pt x="240" y="752"/>
                  <a:pt x="480" y="736"/>
                  <a:pt x="672" y="672"/>
                </a:cubicBezTo>
                <a:cubicBezTo>
                  <a:pt x="864" y="608"/>
                  <a:pt x="1032" y="496"/>
                  <a:pt x="1152" y="384"/>
                </a:cubicBezTo>
                <a:cubicBezTo>
                  <a:pt x="1272" y="272"/>
                  <a:pt x="1332" y="136"/>
                  <a:pt x="139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3200400"/>
            <a:ext cx="1828800" cy="1143000"/>
          </a:xfrm>
          <a:custGeom>
            <a:avLst/>
            <a:gdLst/>
            <a:ahLst/>
            <a:rect l="l" t="t" r="r" b="b"/>
            <a:pathLst>
              <a:path w="1152" h="720">
                <a:moveTo>
                  <a:pt x="1152" y="0"/>
                </a:moveTo>
                <a:cubicBezTo>
                  <a:pt x="1140" y="96"/>
                  <a:pt x="1128" y="192"/>
                  <a:pt x="1056" y="288"/>
                </a:cubicBezTo>
                <a:cubicBezTo>
                  <a:pt x="984" y="384"/>
                  <a:pt x="896" y="504"/>
                  <a:pt x="720" y="576"/>
                </a:cubicBezTo>
                <a:cubicBezTo>
                  <a:pt x="544" y="648"/>
                  <a:pt x="272" y="684"/>
                  <a:pt x="0" y="72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895120"/>
            <a:ext cx="76212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2057400"/>
            <a:ext cx="1143000" cy="9907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78720" y="685800"/>
            <a:ext cx="30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eficientes Loca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4-08-18T18:53:04Z</dcterms:modified>
  <cp:revision>312</cp:revision>
  <dc:subject/>
  <dc:title>Reactor Agitado</dc:title>
</cp:coreProperties>
</file>