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BB1B-06D2-46DD-BBDC-8E13FEF1F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58C4-7F96-4AAC-B493-1F7B13A9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9083-4764-4AD9-8ACB-09157F4FF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CEE4-A359-4E3A-8B57-CEB0F72CD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09BEF-0F66-43CA-AAA3-399F53C51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A42D-725A-4A98-B4AD-ADE61C77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08FC-C9F3-4513-9A6C-EA78C883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62BE-56E3-4A77-835D-5E5B6734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444B-675C-4362-9696-24B23C18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8907-D382-463D-938F-EE66CF3C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7B39-C70A-45C6-B2C7-001C9566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B7B7-DA85-464B-AAB7-F2EFEDDB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3203-B1DA-49FB-BB76-8C16DB7F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4B0E-C4A2-4C5A-8E02-D689D848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675C-B99D-42CB-BA94-F16DD44A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9CDE-955D-48FF-82FB-5BB8B2B8A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8229-8607-4418-BFED-3A87DEB46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F0BC-E67E-4407-BD68-BA179502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1F96-06E8-431B-B213-E5966C58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B928-CB07-4A7E-84F4-3F64F624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66D3-7EB5-4D18-B7B3-8004574B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C98F-1A25-4080-901C-B45F32E0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46D8-0345-410E-9318-490A7116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9F0E-C21A-4F0C-8153-825BE3F8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5C14-5CBB-4CB2-8EEF-6CB03A47117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0591-0027-48B0-B2F3-6ECD839C660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040" y="1752120"/>
            <a:ext cx="7010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1143000" y="8380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tercambiadores de Cal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1676520"/>
            <a:ext cx="660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OBJETIV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nalizar el comportamiento de un Intercambiador de Calor en General, fluido frío, fluido  calient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371600" y="4419720"/>
                <a:ext cx="55627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Δ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1207440" y="3581280"/>
            <a:ext cx="34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Transferencia de Calor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219320" y="2743200"/>
                <a:ext cx="4343400" cy="21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U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U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U</m:t>
                            </m:r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717480" y="1905120"/>
            <a:ext cx="653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eficiente Global de Transferencia de Cal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981080" y="2895480"/>
            <a:ext cx="533412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77120" y="167652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U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33920" y="41148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U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71800" y="16002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U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57800" y="1676520"/>
            <a:ext cx="2209680" cy="1218960"/>
          </a:xfrm>
          <a:custGeom>
            <a:avLst/>
            <a:gdLst/>
            <a:ahLst/>
            <a:rect l="l" t="t" r="r" b="b"/>
            <a:pathLst>
              <a:path w="1392" h="768">
                <a:moveTo>
                  <a:pt x="0" y="768"/>
                </a:moveTo>
                <a:cubicBezTo>
                  <a:pt x="240" y="752"/>
                  <a:pt x="480" y="736"/>
                  <a:pt x="672" y="672"/>
                </a:cubicBezTo>
                <a:cubicBezTo>
                  <a:pt x="864" y="608"/>
                  <a:pt x="1032" y="496"/>
                  <a:pt x="1152" y="384"/>
                </a:cubicBezTo>
                <a:cubicBezTo>
                  <a:pt x="1272" y="272"/>
                  <a:pt x="1332" y="136"/>
                  <a:pt x="1392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66880" y="3200400"/>
            <a:ext cx="1828800" cy="1143000"/>
          </a:xfrm>
          <a:custGeom>
            <a:avLst/>
            <a:gdLst/>
            <a:ahLst/>
            <a:rect l="l" t="t" r="r" b="b"/>
            <a:pathLst>
              <a:path w="1152" h="720">
                <a:moveTo>
                  <a:pt x="1152" y="0"/>
                </a:moveTo>
                <a:cubicBezTo>
                  <a:pt x="1140" y="96"/>
                  <a:pt x="1128" y="192"/>
                  <a:pt x="1056" y="288"/>
                </a:cubicBezTo>
                <a:cubicBezTo>
                  <a:pt x="984" y="384"/>
                  <a:pt x="896" y="504"/>
                  <a:pt x="720" y="576"/>
                </a:cubicBezTo>
                <a:cubicBezTo>
                  <a:pt x="544" y="648"/>
                  <a:pt x="272" y="684"/>
                  <a:pt x="0" y="72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895120"/>
            <a:ext cx="76212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2057400"/>
            <a:ext cx="1143000" cy="9907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78720" y="685800"/>
            <a:ext cx="30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eficientes Local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4-08-18T18:53:04Z</dcterms:modified>
  <cp:revision>312</cp:revision>
  <dc:subject/>
  <dc:title>Reactor Agitado</dc:title>
</cp:coreProperties>
</file>