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B16-E3DD-45EC-800E-65313A8F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DE6-BE96-400C-8C7F-D2F895FF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B92-A9D6-4974-81A7-5CE87ACC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BD3-BA82-40A8-A54C-A97B5554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5B7D-9AE0-4192-A644-EB623315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4639-B9DC-4A2E-9B56-1A12BA9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7E1A-EF8D-4168-A76D-CEDA59E6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6EDF-2A5E-4FBD-90E7-C8F03154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E900-819A-4BBC-8FC2-9D77D610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DCBE-B7FA-4EA1-B332-81BC8E8C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AD95-0806-45E3-BACF-3FB883D4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D43-193C-4C53-9D8D-F9DA578C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A9E1-6695-4491-805E-0FF91624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EC89-DFA3-4D02-85B9-64BB49C9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D451-E127-440C-85D0-56D2B283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4A26-BCA0-4217-BA56-53F6A2CE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B0DC-A6C1-4C32-A6DE-2D0E2D88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509-4F48-4244-B295-8DBE55CA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EE6-4ECB-4D10-838B-1E3EE445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AE8-77EA-49F9-B6DB-56CF3BBC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17C-FC47-4D65-B5A4-6FD5C371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060-0A07-43AB-910C-ECB5676F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F64-8C38-4F58-8420-34C0E395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AF7-95DD-4E7D-8E13-AE86D548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5420-5750-411C-85EF-1F45FA12D1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9CFB-3DF8-4CFB-87A5-3FB9F54F8B3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alizar el comportamiento de un Intercambiador de Calor en General, fluido frío, fluido  cali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5562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207440" y="3581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erencia de Cal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743200"/>
                <a:ext cx="434340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17480" y="190512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 Global de Transferencia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81080" y="2895480"/>
            <a:ext cx="5334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16765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114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1600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676520"/>
            <a:ext cx="2209680" cy="121896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20040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1152" y="0"/>
                </a:moveTo>
                <a:cubicBezTo>
                  <a:pt x="1140" y="96"/>
                  <a:pt x="1128" y="192"/>
                  <a:pt x="1056" y="288"/>
                </a:cubicBezTo>
                <a:cubicBezTo>
                  <a:pt x="984" y="384"/>
                  <a:pt x="896" y="504"/>
                  <a:pt x="720" y="576"/>
                </a:cubicBezTo>
                <a:cubicBezTo>
                  <a:pt x="544" y="648"/>
                  <a:pt x="272" y="684"/>
                  <a:pt x="0" y="7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895120"/>
            <a:ext cx="7621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057400"/>
            <a:ext cx="1143000" cy="990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8720" y="685800"/>
            <a:ext cx="30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s Loc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8T18:53:04Z</dcterms:modified>
  <cp:revision>312</cp:revision>
  <dc:subject/>
  <dc:title>Reactor Agitado</dc:title>
</cp:coreProperties>
</file>