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B88-DA87-415F-90AB-D522B02B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1AC-37FB-4C36-92E5-4522C526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D7F-3BF0-4B74-8B80-A50E1C73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310-F16A-4B9E-A202-2A4D5CD4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138E-7A53-4192-B56D-71C2A67F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0C67-721A-460A-BE83-112CDEAB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EEE4-8D99-4D46-A150-5740B0F7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F7B2-52EC-4FFD-BF9E-D96E3080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1227-B423-4D0B-8CD8-0BBE6C1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7B4E-F1C2-43FE-A7FA-25E33308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A388-2CFE-4247-A28C-DA13B5B4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FBF-8ECB-4BD5-9454-A2444BFF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7B6F-73A6-43CF-8521-B6152951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3C57-B356-4A85-9A18-33F37304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1116-BB12-4135-B3B7-9732F3C1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93E0-BBB2-47F6-B1A0-200157D2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CF5C-B731-49B6-B5D0-CFF96B03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AE1-33EC-4DA8-B06C-74B9515C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530-F06A-4D65-A791-9F782851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1B5-8436-44AD-A0BD-17D3906F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C88-A7E7-46CF-A449-62056C91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645-18FF-44AD-BD7A-B078CD85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B9B-0DB9-433A-85EB-3A441FEE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3E4-3277-42EB-8231-B73E9DC4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C707-B691-4D79-B9A4-6CE331867DF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B3E4-F3B9-46A5-942B-68D9728C99A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la características de los flujos en conductos abiertos donde existe una superficie libre que se encuentra a presión constante (atmosférica).  La altura del líquido es variable y, por lo tanto, también varía el área de la sección transversal del escurrimient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. Muñoz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22240" y="1427040"/>
            <a:ext cx="7750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l Efecto de  de la gravedad sobre el estado de flujo se representa por la rel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ntre las fuerzas inerciales y las fuerzas gravitacionales. Esta relación esta dada por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l número de Froude, definido como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057400" y="2743200"/>
                <a:ext cx="16002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371600" y="5715000"/>
            <a:ext cx="533412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4572000"/>
            <a:ext cx="43434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886200" y="4571640"/>
            <a:ext cx="0" cy="1143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8200" y="495288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181480"/>
            <a:ext cx="12956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9880" y="4800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1676520"/>
            <a:ext cx="769608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&lt; 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c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;  torre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&gt; 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c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;  rí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 &gt; 1     El fluido se mueve más rápido que la     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   perturb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 &lt; 1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   La  perturbación se propaga libreme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           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ambos sentid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 = 1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Flujo crítico (h crítica), la Energía específ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l flujo es mínim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914400" y="2133720"/>
                <a:ext cx="6095880" cy="30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835920" y="1530360"/>
            <a:ext cx="645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e define una magnitud media para una sección d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currimiento, que representa la Energía por un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 peso del Fluid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71600" y="3733920"/>
            <a:ext cx="533412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71840" y="2467080"/>
            <a:ext cx="3074760" cy="923760"/>
          </a:xfrm>
          <a:custGeom>
            <a:avLst/>
            <a:gdLst/>
            <a:ahLst/>
            <a:rect l="l" t="t" r="r" b="b"/>
            <a:pathLst>
              <a:path w="1937" h="582">
                <a:moveTo>
                  <a:pt x="0" y="402"/>
                </a:moveTo>
                <a:cubicBezTo>
                  <a:pt x="51" y="396"/>
                  <a:pt x="131" y="393"/>
                  <a:pt x="180" y="366"/>
                </a:cubicBezTo>
                <a:cubicBezTo>
                  <a:pt x="233" y="336"/>
                  <a:pt x="268" y="301"/>
                  <a:pt x="324" y="282"/>
                </a:cubicBezTo>
                <a:cubicBezTo>
                  <a:pt x="359" y="247"/>
                  <a:pt x="401" y="224"/>
                  <a:pt x="432" y="186"/>
                </a:cubicBezTo>
                <a:cubicBezTo>
                  <a:pt x="441" y="175"/>
                  <a:pt x="445" y="159"/>
                  <a:pt x="456" y="150"/>
                </a:cubicBezTo>
                <a:cubicBezTo>
                  <a:pt x="492" y="122"/>
                  <a:pt x="544" y="125"/>
                  <a:pt x="588" y="114"/>
                </a:cubicBezTo>
                <a:cubicBezTo>
                  <a:pt x="628" y="104"/>
                  <a:pt x="668" y="86"/>
                  <a:pt x="708" y="78"/>
                </a:cubicBezTo>
                <a:cubicBezTo>
                  <a:pt x="871" y="45"/>
                  <a:pt x="1034" y="28"/>
                  <a:pt x="1200" y="18"/>
                </a:cubicBezTo>
                <a:cubicBezTo>
                  <a:pt x="1436" y="22"/>
                  <a:pt x="1674" y="0"/>
                  <a:pt x="1908" y="30"/>
                </a:cubicBezTo>
                <a:cubicBezTo>
                  <a:pt x="1937" y="34"/>
                  <a:pt x="1876" y="78"/>
                  <a:pt x="1860" y="102"/>
                </a:cubicBezTo>
                <a:cubicBezTo>
                  <a:pt x="1853" y="113"/>
                  <a:pt x="1856" y="128"/>
                  <a:pt x="1848" y="138"/>
                </a:cubicBezTo>
                <a:cubicBezTo>
                  <a:pt x="1821" y="172"/>
                  <a:pt x="1777" y="166"/>
                  <a:pt x="1740" y="174"/>
                </a:cubicBezTo>
                <a:cubicBezTo>
                  <a:pt x="1639" y="196"/>
                  <a:pt x="1538" y="225"/>
                  <a:pt x="1440" y="258"/>
                </a:cubicBezTo>
                <a:cubicBezTo>
                  <a:pt x="1393" y="274"/>
                  <a:pt x="1333" y="330"/>
                  <a:pt x="1284" y="354"/>
                </a:cubicBezTo>
                <a:cubicBezTo>
                  <a:pt x="1242" y="418"/>
                  <a:pt x="1180" y="442"/>
                  <a:pt x="1116" y="474"/>
                </a:cubicBezTo>
                <a:cubicBezTo>
                  <a:pt x="984" y="540"/>
                  <a:pt x="831" y="561"/>
                  <a:pt x="684" y="582"/>
                </a:cubicBezTo>
                <a:cubicBezTo>
                  <a:pt x="507" y="564"/>
                  <a:pt x="430" y="513"/>
                  <a:pt x="276" y="462"/>
                </a:cubicBezTo>
                <a:cubicBezTo>
                  <a:pt x="237" y="449"/>
                  <a:pt x="205" y="428"/>
                  <a:pt x="168" y="414"/>
                </a:cubicBezTo>
                <a:cubicBezTo>
                  <a:pt x="149" y="407"/>
                  <a:pt x="88" y="402"/>
                  <a:pt x="108" y="402"/>
                </a:cubicBezTo>
                <a:cubicBezTo>
                  <a:pt x="260" y="402"/>
                  <a:pt x="412" y="410"/>
                  <a:pt x="564" y="414"/>
                </a:cubicBezTo>
                <a:cubicBezTo>
                  <a:pt x="617" y="432"/>
                  <a:pt x="659" y="450"/>
                  <a:pt x="708" y="474"/>
                </a:cubicBezTo>
                <a:cubicBezTo>
                  <a:pt x="721" y="480"/>
                  <a:pt x="731" y="492"/>
                  <a:pt x="744" y="498"/>
                </a:cubicBezTo>
                <a:cubicBezTo>
                  <a:pt x="767" y="508"/>
                  <a:pt x="792" y="514"/>
                  <a:pt x="816" y="522"/>
                </a:cubicBezTo>
                <a:cubicBezTo>
                  <a:pt x="828" y="526"/>
                  <a:pt x="852" y="534"/>
                  <a:pt x="852" y="534"/>
                </a:cubicBezTo>
                <a:cubicBezTo>
                  <a:pt x="957" y="525"/>
                  <a:pt x="993" y="536"/>
                  <a:pt x="1068" y="486"/>
                </a:cubicBezTo>
                <a:cubicBezTo>
                  <a:pt x="1168" y="337"/>
                  <a:pt x="1296" y="315"/>
                  <a:pt x="1464" y="294"/>
                </a:cubicBezTo>
                <a:cubicBezTo>
                  <a:pt x="1539" y="269"/>
                  <a:pt x="1533" y="232"/>
                  <a:pt x="1572" y="174"/>
                </a:cubicBezTo>
                <a:cubicBezTo>
                  <a:pt x="1560" y="126"/>
                  <a:pt x="1571" y="123"/>
                  <a:pt x="1524" y="102"/>
                </a:cubicBezTo>
                <a:cubicBezTo>
                  <a:pt x="1501" y="92"/>
                  <a:pt x="1452" y="78"/>
                  <a:pt x="1452" y="78"/>
                </a:cubicBezTo>
                <a:cubicBezTo>
                  <a:pt x="1412" y="82"/>
                  <a:pt x="1370" y="78"/>
                  <a:pt x="1332" y="90"/>
                </a:cubicBezTo>
                <a:cubicBezTo>
                  <a:pt x="1304" y="99"/>
                  <a:pt x="1288" y="132"/>
                  <a:pt x="1260" y="138"/>
                </a:cubicBezTo>
                <a:cubicBezTo>
                  <a:pt x="1240" y="142"/>
                  <a:pt x="1220" y="146"/>
                  <a:pt x="1200" y="150"/>
                </a:cubicBezTo>
                <a:cubicBezTo>
                  <a:pt x="1152" y="138"/>
                  <a:pt x="1106" y="122"/>
                  <a:pt x="1056" y="114"/>
                </a:cubicBezTo>
                <a:cubicBezTo>
                  <a:pt x="1000" y="105"/>
                  <a:pt x="888" y="90"/>
                  <a:pt x="888" y="90"/>
                </a:cubicBezTo>
                <a:cubicBezTo>
                  <a:pt x="816" y="94"/>
                  <a:pt x="744" y="93"/>
                  <a:pt x="672" y="102"/>
                </a:cubicBezTo>
                <a:cubicBezTo>
                  <a:pt x="647" y="105"/>
                  <a:pt x="600" y="126"/>
                  <a:pt x="600" y="126"/>
                </a:cubicBezTo>
                <a:cubicBezTo>
                  <a:pt x="568" y="175"/>
                  <a:pt x="528" y="226"/>
                  <a:pt x="480" y="258"/>
                </a:cubicBezTo>
                <a:cubicBezTo>
                  <a:pt x="476" y="270"/>
                  <a:pt x="462" y="283"/>
                  <a:pt x="468" y="294"/>
                </a:cubicBezTo>
                <a:cubicBezTo>
                  <a:pt x="509" y="375"/>
                  <a:pt x="710" y="373"/>
                  <a:pt x="768" y="378"/>
                </a:cubicBezTo>
                <a:cubicBezTo>
                  <a:pt x="883" y="424"/>
                  <a:pt x="891" y="398"/>
                  <a:pt x="924" y="498"/>
                </a:cubicBezTo>
                <a:cubicBezTo>
                  <a:pt x="969" y="492"/>
                  <a:pt x="1033" y="487"/>
                  <a:pt x="1080" y="474"/>
                </a:cubicBezTo>
                <a:cubicBezTo>
                  <a:pt x="1104" y="467"/>
                  <a:pt x="1152" y="450"/>
                  <a:pt x="1152" y="450"/>
                </a:cubicBezTo>
                <a:cubicBezTo>
                  <a:pt x="1174" y="428"/>
                  <a:pt x="1231" y="381"/>
                  <a:pt x="1248" y="342"/>
                </a:cubicBezTo>
                <a:cubicBezTo>
                  <a:pt x="1258" y="319"/>
                  <a:pt x="1272" y="270"/>
                  <a:pt x="1272" y="270"/>
                </a:cubicBezTo>
                <a:cubicBezTo>
                  <a:pt x="1133" y="235"/>
                  <a:pt x="991" y="233"/>
                  <a:pt x="852" y="198"/>
                </a:cubicBezTo>
                <a:cubicBezTo>
                  <a:pt x="788" y="202"/>
                  <a:pt x="722" y="192"/>
                  <a:pt x="660" y="210"/>
                </a:cubicBezTo>
                <a:cubicBezTo>
                  <a:pt x="646" y="214"/>
                  <a:pt x="673" y="237"/>
                  <a:pt x="684" y="246"/>
                </a:cubicBezTo>
                <a:cubicBezTo>
                  <a:pt x="692" y="252"/>
                  <a:pt x="765" y="269"/>
                  <a:pt x="768" y="270"/>
                </a:cubicBezTo>
                <a:cubicBezTo>
                  <a:pt x="841" y="292"/>
                  <a:pt x="912" y="318"/>
                  <a:pt x="984" y="342"/>
                </a:cubicBezTo>
                <a:cubicBezTo>
                  <a:pt x="1011" y="351"/>
                  <a:pt x="1056" y="390"/>
                  <a:pt x="1056" y="390"/>
                </a:cubicBezTo>
                <a:cubicBezTo>
                  <a:pt x="1066" y="405"/>
                  <a:pt x="1085" y="458"/>
                  <a:pt x="1116" y="414"/>
                </a:cubicBezTo>
                <a:cubicBezTo>
                  <a:pt x="1131" y="393"/>
                  <a:pt x="1140" y="342"/>
                  <a:pt x="1140" y="342"/>
                </a:cubicBezTo>
                <a:cubicBezTo>
                  <a:pt x="1093" y="326"/>
                  <a:pt x="1117" y="330"/>
                  <a:pt x="1068" y="330"/>
                </a:cubicBez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2514600"/>
            <a:ext cx="23619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990360" y="312408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3124080"/>
            <a:ext cx="0" cy="60984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2514600"/>
            <a:ext cx="0" cy="12193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9907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RESALTO HIDRAUL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5280" y="266688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Torr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2720" y="2125800"/>
            <a:ext cx="4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Rí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124080"/>
            <a:ext cx="838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2819520"/>
            <a:ext cx="838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219320" y="4343400"/>
                <a:ext cx="43434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8T17:02:39Z</dcterms:modified>
  <cp:revision>319</cp:revision>
  <dc:subject/>
  <dc:title>Reactor Agitado</dc:title>
</cp:coreProperties>
</file>