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AE8-6AFD-4810-8FF3-FE78AF82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433-C7E6-4338-854F-A0737CA4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30A-2D79-48BA-9CA5-592B2063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F4A-A790-4B4D-BBAB-5D3E8DAC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5806-3598-446B-B3C0-0D1C2575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2E5C-0933-434C-BE99-0E8E8A49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A226-729A-4B3A-AFBE-60BD248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9C34-11E0-4C71-8FA7-7BCE78AC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580A-4692-4A54-92B0-30BDCC98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0D0D-3439-400C-8FC3-5D68F227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0091-D263-4E12-9599-91DF372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B94-3FAC-4461-B35B-1BA93943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2C1E-44D7-4314-A754-D274B9E3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7712-319C-4B96-9029-68DFC35D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E19B-642C-4FD0-937D-769BC4CD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1520-9852-4DE0-A7AF-C44FBF8E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FDF7-DABC-48EE-82C3-71644FAE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F99-16AC-439F-A386-DB362BA5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4D2-AAE8-4EBA-951C-7901FFF3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5E3-6E9D-4171-AC9A-6A804136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730-3F38-4400-9A98-3F4C934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1AD-DF24-49F5-BAE4-A06B7C3F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705-7507-4378-B4B6-B16CDBDE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DE2-7D96-4560-995F-A8BE2E58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F318-4219-4E21-9F9D-9965C2672B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4A0-2DB5-4625-BC86-0854CEC42E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la características de los flujos en conductos abiertos donde existe una superficie libre que se encuentra a presión constante (atmosférica).  La altura del líquido es variable y, por lo tanto, también varía el área de la sección transversal del escurrimien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. Muñoz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2240" y="1427040"/>
            <a:ext cx="7750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l Efecto de  de la gravedad sobre el estado de flujo se representa por la rel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ntre las fuerzas inerciales y las fuerzas gravitacionales. Esta relación esta dada po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l número de Froude, definido como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057400" y="2743200"/>
                <a:ext cx="16002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371600" y="5715000"/>
            <a:ext cx="533412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4572000"/>
            <a:ext cx="43434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886200" y="4571640"/>
            <a:ext cx="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8200" y="495288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181480"/>
            <a:ext cx="12956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9880" y="4800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1676520"/>
            <a:ext cx="769608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&lt; 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c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;  torr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&gt; 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c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;  rí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 &gt; 1     El fluido se mueve más rápido que la     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   perturb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 &lt; 1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   La  perturbación se propaga librem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ambos sentid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 = 1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Flujo crítico (h crítica), la Energía específ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l flujo es mínim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914400" y="2133720"/>
                <a:ext cx="6095880" cy="30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835920" y="1530360"/>
            <a:ext cx="645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e define una magnitud media para una sección d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currimiento, que representa la Energía por un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 peso del Fluid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71600" y="3733920"/>
            <a:ext cx="533412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71840" y="2467080"/>
            <a:ext cx="3074760" cy="923760"/>
          </a:xfrm>
          <a:custGeom>
            <a:avLst/>
            <a:gdLst/>
            <a:ahLst/>
            <a:rect l="l" t="t" r="r" b="b"/>
            <a:pathLst>
              <a:path w="1937" h="582">
                <a:moveTo>
                  <a:pt x="0" y="402"/>
                </a:moveTo>
                <a:cubicBezTo>
                  <a:pt x="51" y="396"/>
                  <a:pt x="131" y="393"/>
                  <a:pt x="180" y="366"/>
                </a:cubicBezTo>
                <a:cubicBezTo>
                  <a:pt x="233" y="336"/>
                  <a:pt x="268" y="301"/>
                  <a:pt x="324" y="282"/>
                </a:cubicBezTo>
                <a:cubicBezTo>
                  <a:pt x="359" y="247"/>
                  <a:pt x="401" y="224"/>
                  <a:pt x="432" y="186"/>
                </a:cubicBezTo>
                <a:cubicBezTo>
                  <a:pt x="441" y="175"/>
                  <a:pt x="445" y="159"/>
                  <a:pt x="456" y="150"/>
                </a:cubicBezTo>
                <a:cubicBezTo>
                  <a:pt x="492" y="122"/>
                  <a:pt x="544" y="125"/>
                  <a:pt x="588" y="114"/>
                </a:cubicBezTo>
                <a:cubicBezTo>
                  <a:pt x="628" y="104"/>
                  <a:pt x="668" y="86"/>
                  <a:pt x="708" y="78"/>
                </a:cubicBezTo>
                <a:cubicBezTo>
                  <a:pt x="871" y="45"/>
                  <a:pt x="1034" y="28"/>
                  <a:pt x="1200" y="18"/>
                </a:cubicBezTo>
                <a:cubicBezTo>
                  <a:pt x="1436" y="22"/>
                  <a:pt x="1674" y="0"/>
                  <a:pt x="1908" y="30"/>
                </a:cubicBezTo>
                <a:cubicBezTo>
                  <a:pt x="1937" y="34"/>
                  <a:pt x="1876" y="78"/>
                  <a:pt x="1860" y="102"/>
                </a:cubicBezTo>
                <a:cubicBezTo>
                  <a:pt x="1853" y="113"/>
                  <a:pt x="1856" y="128"/>
                  <a:pt x="1848" y="138"/>
                </a:cubicBezTo>
                <a:cubicBezTo>
                  <a:pt x="1821" y="172"/>
                  <a:pt x="1777" y="166"/>
                  <a:pt x="1740" y="174"/>
                </a:cubicBezTo>
                <a:cubicBezTo>
                  <a:pt x="1639" y="196"/>
                  <a:pt x="1538" y="225"/>
                  <a:pt x="1440" y="258"/>
                </a:cubicBezTo>
                <a:cubicBezTo>
                  <a:pt x="1393" y="274"/>
                  <a:pt x="1333" y="330"/>
                  <a:pt x="1284" y="354"/>
                </a:cubicBezTo>
                <a:cubicBezTo>
                  <a:pt x="1242" y="418"/>
                  <a:pt x="1180" y="442"/>
                  <a:pt x="1116" y="474"/>
                </a:cubicBezTo>
                <a:cubicBezTo>
                  <a:pt x="984" y="540"/>
                  <a:pt x="831" y="561"/>
                  <a:pt x="684" y="582"/>
                </a:cubicBezTo>
                <a:cubicBezTo>
                  <a:pt x="507" y="564"/>
                  <a:pt x="430" y="513"/>
                  <a:pt x="276" y="462"/>
                </a:cubicBezTo>
                <a:cubicBezTo>
                  <a:pt x="237" y="449"/>
                  <a:pt x="205" y="428"/>
                  <a:pt x="168" y="414"/>
                </a:cubicBezTo>
                <a:cubicBezTo>
                  <a:pt x="149" y="407"/>
                  <a:pt x="88" y="402"/>
                  <a:pt x="108" y="402"/>
                </a:cubicBezTo>
                <a:cubicBezTo>
                  <a:pt x="260" y="402"/>
                  <a:pt x="412" y="410"/>
                  <a:pt x="564" y="414"/>
                </a:cubicBezTo>
                <a:cubicBezTo>
                  <a:pt x="617" y="432"/>
                  <a:pt x="659" y="450"/>
                  <a:pt x="708" y="474"/>
                </a:cubicBezTo>
                <a:cubicBezTo>
                  <a:pt x="721" y="480"/>
                  <a:pt x="731" y="492"/>
                  <a:pt x="744" y="498"/>
                </a:cubicBezTo>
                <a:cubicBezTo>
                  <a:pt x="767" y="508"/>
                  <a:pt x="792" y="514"/>
                  <a:pt x="816" y="522"/>
                </a:cubicBezTo>
                <a:cubicBezTo>
                  <a:pt x="828" y="526"/>
                  <a:pt x="852" y="534"/>
                  <a:pt x="852" y="534"/>
                </a:cubicBezTo>
                <a:cubicBezTo>
                  <a:pt x="957" y="525"/>
                  <a:pt x="993" y="536"/>
                  <a:pt x="1068" y="486"/>
                </a:cubicBezTo>
                <a:cubicBezTo>
                  <a:pt x="1168" y="337"/>
                  <a:pt x="1296" y="315"/>
                  <a:pt x="1464" y="294"/>
                </a:cubicBezTo>
                <a:cubicBezTo>
                  <a:pt x="1539" y="269"/>
                  <a:pt x="1533" y="232"/>
                  <a:pt x="1572" y="174"/>
                </a:cubicBezTo>
                <a:cubicBezTo>
                  <a:pt x="1560" y="126"/>
                  <a:pt x="1571" y="123"/>
                  <a:pt x="1524" y="102"/>
                </a:cubicBezTo>
                <a:cubicBezTo>
                  <a:pt x="1501" y="92"/>
                  <a:pt x="1452" y="78"/>
                  <a:pt x="1452" y="78"/>
                </a:cubicBezTo>
                <a:cubicBezTo>
                  <a:pt x="1412" y="82"/>
                  <a:pt x="1370" y="78"/>
                  <a:pt x="1332" y="90"/>
                </a:cubicBezTo>
                <a:cubicBezTo>
                  <a:pt x="1304" y="99"/>
                  <a:pt x="1288" y="132"/>
                  <a:pt x="1260" y="138"/>
                </a:cubicBezTo>
                <a:cubicBezTo>
                  <a:pt x="1240" y="142"/>
                  <a:pt x="1220" y="146"/>
                  <a:pt x="1200" y="150"/>
                </a:cubicBezTo>
                <a:cubicBezTo>
                  <a:pt x="1152" y="138"/>
                  <a:pt x="1106" y="122"/>
                  <a:pt x="1056" y="114"/>
                </a:cubicBezTo>
                <a:cubicBezTo>
                  <a:pt x="1000" y="105"/>
                  <a:pt x="888" y="90"/>
                  <a:pt x="888" y="90"/>
                </a:cubicBezTo>
                <a:cubicBezTo>
                  <a:pt x="816" y="94"/>
                  <a:pt x="744" y="93"/>
                  <a:pt x="672" y="102"/>
                </a:cubicBezTo>
                <a:cubicBezTo>
                  <a:pt x="647" y="105"/>
                  <a:pt x="600" y="126"/>
                  <a:pt x="600" y="126"/>
                </a:cubicBezTo>
                <a:cubicBezTo>
                  <a:pt x="568" y="175"/>
                  <a:pt x="528" y="226"/>
                  <a:pt x="480" y="258"/>
                </a:cubicBezTo>
                <a:cubicBezTo>
                  <a:pt x="476" y="270"/>
                  <a:pt x="462" y="283"/>
                  <a:pt x="468" y="294"/>
                </a:cubicBezTo>
                <a:cubicBezTo>
                  <a:pt x="509" y="375"/>
                  <a:pt x="710" y="373"/>
                  <a:pt x="768" y="378"/>
                </a:cubicBezTo>
                <a:cubicBezTo>
                  <a:pt x="883" y="424"/>
                  <a:pt x="891" y="398"/>
                  <a:pt x="924" y="498"/>
                </a:cubicBezTo>
                <a:cubicBezTo>
                  <a:pt x="969" y="492"/>
                  <a:pt x="1033" y="487"/>
                  <a:pt x="1080" y="474"/>
                </a:cubicBezTo>
                <a:cubicBezTo>
                  <a:pt x="1104" y="467"/>
                  <a:pt x="1152" y="450"/>
                  <a:pt x="1152" y="450"/>
                </a:cubicBezTo>
                <a:cubicBezTo>
                  <a:pt x="1174" y="428"/>
                  <a:pt x="1231" y="381"/>
                  <a:pt x="1248" y="342"/>
                </a:cubicBezTo>
                <a:cubicBezTo>
                  <a:pt x="1258" y="319"/>
                  <a:pt x="1272" y="270"/>
                  <a:pt x="1272" y="270"/>
                </a:cubicBezTo>
                <a:cubicBezTo>
                  <a:pt x="1133" y="235"/>
                  <a:pt x="991" y="233"/>
                  <a:pt x="852" y="198"/>
                </a:cubicBezTo>
                <a:cubicBezTo>
                  <a:pt x="788" y="202"/>
                  <a:pt x="722" y="192"/>
                  <a:pt x="660" y="210"/>
                </a:cubicBezTo>
                <a:cubicBezTo>
                  <a:pt x="646" y="214"/>
                  <a:pt x="673" y="237"/>
                  <a:pt x="684" y="246"/>
                </a:cubicBezTo>
                <a:cubicBezTo>
                  <a:pt x="692" y="252"/>
                  <a:pt x="765" y="269"/>
                  <a:pt x="768" y="270"/>
                </a:cubicBezTo>
                <a:cubicBezTo>
                  <a:pt x="841" y="292"/>
                  <a:pt x="912" y="318"/>
                  <a:pt x="984" y="342"/>
                </a:cubicBezTo>
                <a:cubicBezTo>
                  <a:pt x="1011" y="351"/>
                  <a:pt x="1056" y="390"/>
                  <a:pt x="1056" y="390"/>
                </a:cubicBezTo>
                <a:cubicBezTo>
                  <a:pt x="1066" y="405"/>
                  <a:pt x="1085" y="458"/>
                  <a:pt x="1116" y="414"/>
                </a:cubicBezTo>
                <a:cubicBezTo>
                  <a:pt x="1131" y="393"/>
                  <a:pt x="1140" y="342"/>
                  <a:pt x="1140" y="342"/>
                </a:cubicBezTo>
                <a:cubicBezTo>
                  <a:pt x="1093" y="326"/>
                  <a:pt x="1117" y="330"/>
                  <a:pt x="1068" y="33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2514600"/>
            <a:ext cx="23619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990360" y="312408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3124080"/>
            <a:ext cx="0" cy="6098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514600"/>
            <a:ext cx="0" cy="12193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990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RESALTO HIDRAUL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5280" y="266688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Torr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2720" y="212580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Rí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124080"/>
            <a:ext cx="83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2819520"/>
            <a:ext cx="83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219320" y="4343400"/>
                <a:ext cx="43434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8T17:02:39Z</dcterms:modified>
  <cp:revision>319</cp:revision>
  <dc:subject/>
  <dc:title>Reactor Agitado</dc:title>
</cp:coreProperties>
</file>