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455F-E72A-4324-B425-C19C30AAE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AC6F-C492-4AC5-8A96-FB5DAB8AE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BBF3-B121-4244-96C6-514111CF1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C0D6-78EC-43E8-A12E-F688134A3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E028E-895A-4B77-BE12-2091F157F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26BF5-55F7-4BFD-BFB7-C919024FE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FACCB-BC6E-424C-87F8-82F2455C0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28B71-4673-4EB1-A712-F39ABF606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5DEB7-5199-4410-AF76-F831192E4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07B5F-6685-4940-96F7-822C7F052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6DAE4-3F2B-4738-A996-30FA127E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487F-092D-425B-B31C-1593B9C0A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A73A0-194C-4A1B-AC53-6E4E5D70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49B94-9898-433E-9478-28D6F801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E1A7E-FF60-4197-82A1-3FDCCCFDA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E3CAE-BB0B-4E06-81CF-F16CC187D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8DED2-151E-49D5-9AFC-99C7BC521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9365-8FB3-433E-ABA8-9D74547EC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9F6D-F532-4D11-838E-0FE3426A2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CCC7-F2B6-4A64-AA22-318677096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BDE7-B82A-40D2-ACD9-12F756237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BA1F-EC9C-49FD-A9D0-06B7AEB7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7443-F291-417D-92E9-751C4E18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1F10-2C5B-4DEA-8111-196BE3CE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D7D57-25CF-49A4-8A6C-3B3DB9DAE0F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16585-9F45-43E4-817D-EA32262D439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040" y="1752120"/>
            <a:ext cx="7010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1143000" y="8380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Filtro Prens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90720" y="1676520"/>
            <a:ext cx="6607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OBJETIVO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studiar un filtro prensa, para determinar las características de la filtración, tipo de torta, porosidad, resistencia específica, constante de filtración, Volumen equivalente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219320" y="3886200"/>
                <a:ext cx="6248160" cy="13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C</m:t>
                        </m:r>
                        <m:r>
                          <m:t xml:space="preserve">v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ΔP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C</m:t>
                    </m:r>
                    <m:f>
                      <m:num>
                        <m:r>
                          <m:t xml:space="preserve">v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ΔP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975600" y="5791320"/>
            <a:ext cx="374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Alan Foust, George Brown, Vían-Oca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 flipV="1">
            <a:off x="1523880" y="1752480"/>
            <a:ext cx="0" cy="373392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3880" y="5486400"/>
            <a:ext cx="53341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752480" y="3505320"/>
            <a:ext cx="304812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          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       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    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   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41920" y="28954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504040" y="25146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1676520" y="2133720"/>
            <a:ext cx="4800600" cy="31240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44120" y="1981080"/>
            <a:ext cx="83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dV/d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38080" y="2362320"/>
            <a:ext cx="22860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554520" y="57913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V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676520" y="9907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Gráfico  dV/dt  v/s  V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2:20:09Z</dcterms:created>
  <dc:creator>Leonardo Valenzuela</dc:creator>
  <dc:description/>
  <dc:language>en-US</dc:language>
  <cp:lastModifiedBy>LI2</cp:lastModifiedBy>
  <dcterms:modified xsi:type="dcterms:W3CDTF">2004-08-10T15:05:48Z</dcterms:modified>
  <cp:revision>302</cp:revision>
  <dc:subject/>
  <dc:title>Reactor Agitado</dc:title>
</cp:coreProperties>
</file>