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1EF2-E759-46A5-BB97-5004EBEA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E9AC-A6CB-4C82-B15E-04C9873B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5A14-8E0A-4697-8669-609FB14A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4C5-7BE7-4AD6-87E0-7283AB65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82F5-B7AC-4ED3-B1E8-AA26CBC5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06AB-EF10-454F-AD7D-792D9EBE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2BD6-F541-4CE8-8EC5-74D3F226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79EE-88E7-47B7-A78C-9E8BDACD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BFE1-42D9-40CD-97B4-2D96324E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5AA4-6227-4B8C-BE50-05B30D3F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1C92-E01C-4797-93BA-2B8FC2E5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E426-5A98-43D7-8971-52DC16B1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6741-13C6-4F7C-AEB4-71161919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D8FA-709D-4D62-AF96-8342ACCC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3110-78B1-46CA-885D-F119E173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3779-702C-4BC3-B2C5-1BA8C9D3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BD23-BB38-489A-A932-914CFD86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F33C-AD88-40DB-A5D6-7E9A19CB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F6F5-9925-4339-A634-BFE0C57D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7A69-16E6-4C0F-8E4B-FCCFF4B7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E13C-B747-4EFE-8489-82B48C06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4473-C9F7-40DB-BEC5-5B3FA8F6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247D-3588-4505-9BF0-69998665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C14F-86B9-41F1-9B2B-61E86370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E556-D67F-45D2-B699-DA08B590B30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1EC1-0E66-4FCA-A9B3-DCB5A95D80F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iltro Prens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1676520"/>
            <a:ext cx="660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udiar un filtro prensa, para determinar las características de la filtración, tipo de torta, porosidad, resistencia específica, constante de filtración, Volumen equival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219320" y="3886200"/>
                <a:ext cx="62481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C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975600" y="5791320"/>
            <a:ext cx="37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Alan Foust, George Brown, Vían-Oca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 flipV="1">
            <a:off x="1523880" y="1752480"/>
            <a:ext cx="0" cy="37339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5486400"/>
            <a:ext cx="53341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3505320"/>
            <a:ext cx="30481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41920" y="2895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04040" y="2514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676520" y="2133720"/>
            <a:ext cx="4800600" cy="3124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4120" y="19810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V/d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236232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4520" y="5791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76520" y="990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Gráfico  dV/dt  v/s  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4-08-10T15:05:48Z</dcterms:modified>
  <cp:revision>302</cp:revision>
  <dc:subject/>
  <dc:title>Reactor Agitado</dc:title>
</cp:coreProperties>
</file>