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0CB-AF8F-4EB7-B69C-7F2F1F7B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CFE-D4B3-4FB7-99AC-FB8C5A54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23C-2E95-4CAF-9B8A-337D978A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CA9-5BAE-43F3-8FC6-E9E910AF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063B-D747-49C0-91BC-1F8A110C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4801-7937-4437-AE56-789FBC50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EC39-0696-47D7-B4ED-FF84A11F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DB56-A2BE-42CE-AEC3-A3994A44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B1D0-1764-4145-A73F-65A12D64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C87F-F5AD-47C6-824D-ADCDF1AB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1E06-593E-4A16-9F3D-10E1589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0C9-BA24-4B36-846C-BCD8FF07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05A0-85C6-4631-AD5A-4123EF02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5695-AA1B-4555-8FCB-EC86D100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3F41-B2D7-4201-9541-976B1C10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C61D-91DE-4F9A-8C9C-94CB0B0B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270F-C9A2-4E30-9884-1F3DB1FD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815-5F7C-4B77-9D0E-8864F336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113-AB66-4F04-A781-17F13E2C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AF5-DCCC-4490-987D-3CB361EC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4A6-3514-4E99-86C3-34004F1C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BC3-530A-4CB5-B0B1-5FE3B3F5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8A1-24B7-46FB-9001-3E09B105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E2B-30F5-40BB-BE51-42B0E08A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EC0F-D62E-486D-84F4-AD461AE5365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F53C-DFC2-41D1-90DB-C673B179AF2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oxid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liberación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 más un rectificador de corriente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pueden realizar se pueden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>Universidad de Chile</dc:creator>
  <dc:description/>
  <dc:language>en-US</dc:language>
  <cp:lastModifiedBy>Angel</cp:lastModifiedBy>
  <dcterms:modified xsi:type="dcterms:W3CDTF">2004-08-04T16:50:41Z</dcterms:modified>
  <cp:revision>13</cp:revision>
  <dc:subject/>
  <dc:title>Extracción por Solventes (SX)</dc:title>
</cp:coreProperties>
</file>