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6DD-A32D-4382-80A7-7CF60A43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B1C-A86E-47EE-B620-4A4830C4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A8A-366C-432C-AC3A-70AC8DDB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573-C878-4CEF-9F70-5427ECE3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5ABF-A64B-427C-9136-CF63141E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B535-00F0-483E-A473-98E5607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BBC-CF73-4E33-96F5-C8159E25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B424-D23E-426F-9905-3A2B8AD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D048-4716-4F9F-BA17-577A8CBF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A557-4B6C-4AB6-973F-93F69206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1531-78FE-482B-97B6-32D149B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AB2-99AE-4F24-AFCD-09E9FCA3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8FE8-5009-4590-ACC7-073ED152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F375-23AF-40DC-8C02-57D0A43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E0E-8998-4133-8EF5-8299829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97E-A66A-4AAF-8B6B-E2324D81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63EA-6747-47C9-8CEF-A249E864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BC7-0E17-46AE-B247-274DBC4E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385-0C23-43F8-B4C7-9DA08B4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DEB-8D42-4BF4-8DD6-EA712E38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719-07E8-4D2D-86FD-84A1032E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A6F-C990-48AF-8774-23AE3B4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D48-D588-473D-BDC8-A5F7D0A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A4D-8C22-4039-8A9E-C152C5B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276-8BA6-4E2D-B235-D858F5DBA6B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40E-BE7F-47AE-B675-4FE61C818AD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liberación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>Universidad de Chile</dc:creator>
  <dc:description/>
  <dc:language>en-US</dc:language>
  <cp:lastModifiedBy>Angel</cp:lastModifiedBy>
  <dcterms:modified xsi:type="dcterms:W3CDTF">2004-08-04T16:50:41Z</dcterms:modified>
  <cp:revision>13</cp:revision>
  <dc:subject/>
  <dc:title>Extracción por Solventes (SX)</dc:title>
</cp:coreProperties>
</file>