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DDCC-3415-4B66-A4EF-1F7E9726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BB70-F5DB-477D-8D32-CE6BB991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1672-A256-4FB3-A964-F7B83847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F906-02B8-4E7A-B18B-49B17826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5ACE-97E8-48D6-A79D-BD8B3226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BD2B-18D8-4A01-B011-B75987DB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87F1-DAF5-44FC-AB38-07D20400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E446-E6AE-40FE-9C3C-11DDAD64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D94D-2C22-4F1E-AD21-3890A23E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D213-9D0F-4EE8-8EB2-06322B55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53F1-A1A3-49CF-BC60-1213612C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06EB-E5FC-4918-A0AB-555B0AD1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B36F-0AD6-4CA7-BE9A-FFD3DA82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0AC7-CCBA-458A-868D-F8D46277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6A17-BA0C-49DA-84A7-14B8619B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F1A4-A605-405F-BF54-4D1B2551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44C3-E260-4A45-B3F2-3B946F93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9844-1671-49A2-AC21-5006CBE8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9FEA-3EFE-4F47-8DC4-B7F87E1C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2942-D6A4-47FC-B620-93186106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7DA7-DB86-4006-97FB-7AC85C98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C6FD-6726-42AC-B59A-082BBF10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652E-2738-4DAF-B0FD-C1A36FE3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1216-B7A0-432E-B7BF-6D2FCBFB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6828-BC1A-43D7-9467-5D103FFC3B4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731C-CE36-43E7-AC24-8B510F57820A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Electro-obtención (EW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boratorio de Ingeniería Química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Q-53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oceso para minerales oxidados de Cobr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43000" y="1828800"/>
          <a:ext cx="24163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828800"/>
                    <a:ext cx="2416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finalidad de la electro-obtención es producir cátodos de cobre de alta pureza (comercializables) a partir de una solución cargada de Cu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Arial"/>
              </a:rPr>
              <a:t>+2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Fundamentos de la operación EW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operación se basa en la deposición electroquímica del cobre sobre la superficie catódic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Se presentan dos reacciones, una catódica y otra anódic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a reacción catódica produce deposición del cobre mientras que la reacción anódica produce electrólisis del agua, con la consiguiente liberación protones y oxígeno gaseos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Reacciones en EW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766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451240" y="2325600"/>
                <a:ext cx="3479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e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Cu</m:t>
                    </m:r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1066680" y="32004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Para que la reacción catódica pueda proceder se necesita que exista una reacción anódic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851120" y="4495680"/>
                <a:ext cx="4959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2</m:t>
                    </m:r>
                    <m:r>
                      <m:t xml:space="preserve">O</m:t>
                    </m:r>
                    <m:r>
                      <m:t xml:space="preserve">⇔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½ </m:t>
                    </m:r>
                    <m:r>
                      <m:t xml:space="preserve">O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83808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Ecuación de Faraday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128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905120" y="1752480"/>
                <a:ext cx="4343400" cy="434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  <m:r>
                          <m:rPr>
                            <m:lit/>
                            <m:nor/>
                          </m:rPr>
                          <m:t xml:space="preserve">ensida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rriente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gramos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t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araday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 velocidad de deposición sobre el cátodo depende de la intensidad de corriente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n el caso de existir otro par redox en la celda, se verá afectada la velocidad de deposición del metal de interés, i.e. la eficienci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Equipo de Laboratori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El laboratorio cuenta con una celda de EW más un rectificador de corriente. Se cuanta además con bombas peristálticas y baño termostático para recircular electrolito a la temperatura desea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uebas experiment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ntro de las pruebas experimentales que se pueden realizar se pueden mencionar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ción de la eficiencia de la operación, en función de la concentración de otros iones en solu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r la curva de corriente-potencial para la electro-deposición del cobre, determinando regiones con distintos tipos de control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studiar el efecto de variables como la temperatura y acidez en la eficiencia de oper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8170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               </a:t>
            </a: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¿Preguntas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21:08:52Z</dcterms:created>
  <dc:creator>Universidad de Chile</dc:creator>
  <dc:description/>
  <dc:language>en-US</dc:language>
  <cp:lastModifiedBy>Angel</cp:lastModifiedBy>
  <dcterms:modified xsi:type="dcterms:W3CDTF">2004-08-04T16:50:41Z</dcterms:modified>
  <cp:revision>13</cp:revision>
  <dc:subject/>
  <dc:title>Extracción por Solventes (SX)</dc:title>
</cp:coreProperties>
</file>