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99A-1A57-4FFE-8C8E-54627D48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0D4-BDBB-4383-8DF6-11E37654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064-1C29-4F1E-8FDD-72E1E318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1F93-9C9D-4633-B604-D103E094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648-B24B-4341-ABAE-65F54680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270-93E3-4E11-81E0-FF23B13D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A86-3911-4E5C-BA1E-35FFDDA3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0F49-4F16-4044-9E03-E08A815E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1D8-9BE6-4D4E-83FB-B3A7CE9F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98F-7AFA-4A84-B4AB-7DA2DEA3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F9E-F2ED-419E-80C7-F96BC448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85B-2A70-4F12-82EE-8F4BC0C2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A334-1286-4674-A677-32F1FBC74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Tomás Vargas </cp:lastModifiedBy>
  <dcterms:modified xsi:type="dcterms:W3CDTF">2003-08-19T07:22:55Z</dcterms:modified>
  <cp:revision>21</cp:revision>
  <dc:subject/>
  <dc:title>Presentación de PowerPoint</dc:title>
</cp:coreProperties>
</file>