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626-9C62-425A-A699-7ACC0E1B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44C-C8C6-4C89-B533-A44DD933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8F72-77B8-40C9-8CC7-02417822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CBC5-96B8-4959-9DEF-CF5D5AC9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8A3-2F69-44A9-9CA7-935DA3A6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A24B-E638-426C-A24F-BCF74161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9FDD-B4B0-441F-8F7A-23873407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28C8-1A7E-4D56-B9C9-A8FCB3D3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90C3-84BE-4933-B635-B826793B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F576-A02A-4EB0-AF55-3CAD6EE1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2E4-6C3C-4EDB-9049-296A7DAA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04E5-4C8F-4A44-80B8-87898D96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9D48-6970-4745-9399-9DC0F59AB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10080" y="1600200"/>
                <a:ext cx="350532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Tomás Vargas </cp:lastModifiedBy>
  <dcterms:modified xsi:type="dcterms:W3CDTF">2003-08-19T07:22:55Z</dcterms:modified>
  <cp:revision>21</cp:revision>
  <dc:subject/>
  <dc:title>Presentación de PowerPoint</dc:title>
</cp:coreProperties>
</file>