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83C-61A0-403D-BCF0-9CE1AFDE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B72A-54FC-4889-9F40-723A0FD9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EA5-04B2-408D-A13C-4E1904EB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0CD-6E0F-4949-90B0-5AD24F8B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E681-1F26-46BD-896F-1D849017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2FA1-DF02-4D41-A90C-B4F09006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EEFE-4523-4B02-9986-988EC61C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34D-28C9-4B9C-AA8D-24524A2C0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3A7D-FDCB-41EA-8330-381CFF2C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4B4-56AE-40EB-917F-111479C5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2804-7638-4521-A408-E2682DF1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F6A8-4B74-4846-8D1B-E111A238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ABB3-EBF9-4DDC-BCCD-1305456B9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VAPORACIO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(cap.16 McCabe y Smi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OBJETIVO: concentrar una solución consistente en un soluto no volátil y un disolvente volátil mediante  evaporación del disolvente por agregado de calor a la 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Usualmente precede a un proceso de crist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3400" y="3581280"/>
            <a:ext cx="175248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886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962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ris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038480"/>
            <a:ext cx="990720" cy="304920"/>
          </a:xfrm>
          <a:prstGeom prst="rightArrow">
            <a:avLst>
              <a:gd name="adj1" fmla="val 50000"/>
              <a:gd name="adj2" fmla="val 81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0384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4038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3048120"/>
            <a:ext cx="609480" cy="533160"/>
          </a:xfrm>
          <a:custGeom>
            <a:avLst/>
            <a:gdLst>
              <a:gd name="textAreaLeft" fmla="*/ 0 w 609480"/>
              <a:gd name="textAreaRight" fmla="*/ 609840 w 6094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47242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048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Disolvente (vap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4419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 diluída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4572000"/>
            <a:ext cx="1447920" cy="4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conc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52578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Soluto (crist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65530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azúcar           cristalización azú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centr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     cristalización CuSO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9880" y="5943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6934200">
            <a:off x="1752480" y="4647960"/>
            <a:ext cx="723960" cy="419040"/>
          </a:xfrm>
          <a:prstGeom prst="leftArrow">
            <a:avLst>
              <a:gd name="adj1" fmla="val 50000"/>
              <a:gd name="adj2" fmla="val 4319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1055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9334400">
            <a:off x="5486400" y="32767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09480" y="228600"/>
            <a:ext cx="655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OPICO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ipos de evapo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eficientes de transferencia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pacidad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U A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    (kg agua evaporados/h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onomía de un evapor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Kg agua evaporados/ kg vapor (ste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levación del punto de ebullición: regla de Duh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iagramas entalpía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019920" y="1143000"/>
            <a:ext cx="27432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- m)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2209680"/>
            <a:ext cx="76176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17366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4937040"/>
            <a:ext cx="76176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089680"/>
            <a:ext cx="609840" cy="152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2346480"/>
            <a:ext cx="609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38480" y="1812960"/>
            <a:ext cx="609840" cy="3049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1828800"/>
            <a:ext cx="990360" cy="7462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25750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257800" y="257508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30322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5089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508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524196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5880" y="50896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1355760"/>
            <a:ext cx="228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4632480"/>
            <a:ext cx="60984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904760" y="4632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8320" y="9748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40" y="124"/>
                  <a:pt x="80" y="88"/>
                  <a:pt x="144" y="64"/>
                </a:cubicBezTo>
                <a:cubicBezTo>
                  <a:pt x="208" y="40"/>
                  <a:pt x="304" y="0"/>
                  <a:pt x="384" y="16"/>
                </a:cubicBezTo>
                <a:cubicBezTo>
                  <a:pt x="464" y="32"/>
                  <a:pt x="584" y="136"/>
                  <a:pt x="624" y="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24224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57400" y="5165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5165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348948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1640" y="51656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558800"/>
            <a:ext cx="761760" cy="17784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112"/>
                </a:moveTo>
                <a:cubicBezTo>
                  <a:pt x="44" y="72"/>
                  <a:pt x="88" y="32"/>
                  <a:pt x="144" y="16"/>
                </a:cubicBezTo>
                <a:cubicBezTo>
                  <a:pt x="200" y="0"/>
                  <a:pt x="280" y="0"/>
                  <a:pt x="336" y="16"/>
                </a:cubicBezTo>
                <a:cubicBezTo>
                  <a:pt x="392" y="32"/>
                  <a:pt x="436" y="72"/>
                  <a:pt x="480" y="112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410080"/>
            <a:ext cx="761760" cy="254160"/>
          </a:xfrm>
          <a:custGeom>
            <a:avLst/>
            <a:gdLst/>
            <a:ahLst/>
            <a:rect l="l" t="t" r="r" b="b"/>
            <a:pathLst>
              <a:path w="480" h="112">
                <a:moveTo>
                  <a:pt x="0" y="0"/>
                </a:moveTo>
                <a:cubicBezTo>
                  <a:pt x="40" y="40"/>
                  <a:pt x="80" y="80"/>
                  <a:pt x="144" y="96"/>
                </a:cubicBezTo>
                <a:cubicBezTo>
                  <a:pt x="208" y="112"/>
                  <a:pt x="328" y="112"/>
                  <a:pt x="384" y="96"/>
                </a:cubicBezTo>
                <a:cubicBezTo>
                  <a:pt x="440" y="80"/>
                  <a:pt x="464" y="16"/>
                  <a:pt x="480" y="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220968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2193840"/>
            <a:ext cx="7596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193840"/>
            <a:ext cx="76320" cy="27432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660680"/>
            <a:ext cx="175248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apor (stea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 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641760"/>
            <a:ext cx="16002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j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5546880"/>
            <a:ext cx="380988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imentación (solución diluí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kg/hr        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J/kg   T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4419720"/>
            <a:ext cx="2590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Solución concentrada (produc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m kg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H  J/kg  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5181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dor simple: balance de masa y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1219320"/>
            <a:ext cx="990360" cy="74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1727280"/>
            <a:ext cx="990360" cy="253800"/>
          </a:xfrm>
          <a:custGeom>
            <a:avLst/>
            <a:gdLst/>
            <a:ahLst/>
            <a:rect l="l" t="t" r="r" b="b"/>
            <a:pathLst>
              <a:path w="624" h="160">
                <a:moveTo>
                  <a:pt x="0" y="160"/>
                </a:moveTo>
                <a:cubicBezTo>
                  <a:pt x="0" y="96"/>
                  <a:pt x="0" y="32"/>
                  <a:pt x="48" y="16"/>
                </a:cubicBezTo>
                <a:cubicBezTo>
                  <a:pt x="96" y="0"/>
                  <a:pt x="208" y="64"/>
                  <a:pt x="288" y="64"/>
                </a:cubicBezTo>
                <a:cubicBezTo>
                  <a:pt x="368" y="64"/>
                  <a:pt x="472" y="0"/>
                  <a:pt x="528" y="16"/>
                </a:cubicBezTo>
                <a:cubicBezTo>
                  <a:pt x="584" y="32"/>
                  <a:pt x="604" y="96"/>
                  <a:pt x="624" y="160"/>
                </a:cubicBezTo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1955880"/>
            <a:ext cx="1460520" cy="177840"/>
          </a:xfrm>
          <a:custGeom>
            <a:avLst/>
            <a:gdLst/>
            <a:ahLst/>
            <a:rect l="l" t="t" r="r" b="b"/>
            <a:pathLst>
              <a:path w="920" h="112">
                <a:moveTo>
                  <a:pt x="0" y="16"/>
                </a:moveTo>
                <a:cubicBezTo>
                  <a:pt x="308" y="8"/>
                  <a:pt x="616" y="0"/>
                  <a:pt x="768" y="16"/>
                </a:cubicBezTo>
                <a:cubicBezTo>
                  <a:pt x="920" y="32"/>
                  <a:pt x="888" y="96"/>
                  <a:pt x="912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21337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1480" y="20574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457200"/>
            <a:ext cx="510552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lado del va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transferido desde vapor a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vapor de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Entalpía específica del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Calor de condensación del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Flujo m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co de vapor y condens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0" y="31399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5410080" y="1600200"/>
                <a:ext cx="350532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H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H</m:t>
                            </m:r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s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s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52280"/>
            <a:ext cx="586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entalpía en el lado de la solu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or que entra = calor que s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43000" y="1752480"/>
                <a:ext cx="5715000" cy="400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</m:e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  <m:r>
                              <m:t xml:space="preserve">f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H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H</m:t>
                        </m:r>
                        <m:r>
                          <m:t xml:space="preserve">f</m:t>
                        </m:r>
                      </m:e>
                      <m:e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alimentación</m:t>
                        </m:r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flujo de solución concentr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</m:t>
                        </m:r>
                        <m:r>
                          <m:rPr>
                            <m:lit/>
                            <m:nor/>
                          </m:rPr>
                          <m:t xml:space="preserve"> específica de vapor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alimentada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ntalpia específica de solución concentrad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0" y="240516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228600"/>
            <a:ext cx="411480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ausencia de pérdidas  q</a:t>
            </a:r>
            <a:r>
              <a:rPr b="0" lang="es-E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814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352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uando el calor de dilución es apreciable, para aplicar esta ecuación se usan datos de diagrama entalpía-concentración (Figura 16.8 McCabe y Smith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527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371600" y="914400"/>
                <a:ext cx="54864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s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r>
                          <m:t xml:space="preserve">f</m:t>
                        </m:r>
                        <m:r>
                          <m:t xml:space="preserve">−</m:t>
                        </m:r>
                        <m:acc>
                          <m:accPr>
                            <m:chr m:val="˙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  <m:r>
                      <m:t xml:space="preserve">H</m:t>
                    </m:r>
                    <m:r>
                      <m:t xml:space="preserve">v</m:t>
                    </m:r>
                    <m:r>
                      <m:t xml:space="preserve">−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f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+</m:t>
                    </m:r>
                    <m:acc>
                      <m:accPr>
                        <m:chr m:val="˙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33520" y="1752480"/>
            <a:ext cx="67053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H dependen de las características de la solución que se concentra. El problema ingenieril usual consiste en determinar el flujo de vapor requerido ,m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cesario para satisfacer el requerimiento de calentamiento y evaporación de la solución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0"/>
            <a:ext cx="800100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544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o de soluciones con calor de dilución desprec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alor q requerido por la solución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q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  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para llevar la solución de la temperatura de entrada,T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a la temperatura de ebullición T; q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del requerimiento de evapo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0536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838080" y="3352680"/>
                <a:ext cx="239400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lim>
                        </m:limUp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d>
                      </m:e>
                      <m:e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limUpp>
                              <m:e>
                                <m:limUpp>
                                  <m:e>
                                    <m:r>
                                      <m:t xml:space="preserve">m</m:t>
                                    </m:r>
                                  </m:e>
                                  <m:lim/>
                                </m:limUpp>
                                <m:r>
                                  <m:t xml:space="preserve">−</m:t>
                                </m:r>
                                <m:limUp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lim/>
                                </m:limUpp>
                              </m:e>
                              <m:lim/>
                            </m:limUpp>
                          </m:e>
                        </m:d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4267080" y="2819520"/>
            <a:ext cx="4572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f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específico de la solución dilu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alor latente de vaporización desde la 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levación del punto de ebullición despreciable se tiene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que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calor latente de vaporización del agua a la presión de la cámara de evapo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38080" y="457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 se tiene final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0036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371600" y="1066680"/>
                <a:ext cx="388620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  <m:sub>
                        <m:r>
                          <m:t xml:space="preserve">f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limUp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lim/>
                        </m:limUpp>
                        <m:r>
                          <m:t xml:space="preserve">−</m:t>
                        </m:r>
                        <m:limUpp>
                          <m:e>
                            <m:r>
                              <m:t xml:space="preserve">m</m:t>
                            </m:r>
                          </m:e>
                          <m:lim/>
                        </m:limUpp>
                      </m:e>
                    </m:d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914400" y="2438280"/>
            <a:ext cx="670572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&lt; T   se requiere una carga extra de calen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q calentamiento +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&gt; T    solución contribuye con calor :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vaporación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 = evaporación – calor aportado 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= T , q = q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03:57:10Z</dcterms:created>
  <dc:creator>Tomás Vargas </dc:creator>
  <dc:description/>
  <dc:language>en-US</dc:language>
  <cp:lastModifiedBy>Tomás Vargas </cp:lastModifiedBy>
  <dcterms:modified xsi:type="dcterms:W3CDTF">2003-08-19T07:22:55Z</dcterms:modified>
  <cp:revision>21</cp:revision>
  <dc:subject/>
  <dc:title>Presentación de PowerPoint</dc:title>
</cp:coreProperties>
</file>