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7D3-E8F3-4BC6-A4D0-104E59F5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A05-E866-443F-880A-099A459D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FF2-F03E-418D-AE20-4D50FC51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BB6-4F09-4F8C-BB6B-95BEB0AB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2DB-E9CE-4686-8A8B-65C39720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269-7777-4AFA-970B-EC6D865A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6D6-F5E0-4AC1-B6EF-B8CE3C5C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642-96AC-4C9C-9BF4-AF5A9E02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98D-1031-4E48-BEDD-186847A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B68-3C02-45DC-8887-95A29572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1F6-AC86-43B7-BDA4-2B554C1E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21A-AF34-42D0-BBC7-CA73B66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5262-5A27-4737-9AF6-E34F9C1CF9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ás Vargas </cp:lastModifiedBy>
  <dcterms:modified xsi:type="dcterms:W3CDTF">2004-08-03T14:11:18Z</dcterms:modified>
  <cp:revision>1</cp:revision>
  <dc:subject/>
  <dc:title>Presentación de PowerPoint</dc:title>
</cp:coreProperties>
</file>