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C13-0E0A-48D1-BEDD-E857545AC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C7F-FE35-4F47-903B-9091E730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753-5F48-4598-9620-014740C2A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6426-E3AC-4B62-A638-EAF46413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83EB-1D6D-41F6-BF6E-08192CF1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81C1-75DD-4566-A5A3-3C907AB5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01E-4DA4-44EE-B7E6-D2DD3D2A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D583-ADF8-483D-ADCD-E59E04FD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0263-CF9C-4DC3-A21C-C4E32C20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641C-B2A2-4FB8-A437-B6279A6A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AB7-C552-4936-9B9C-A9D660A7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17A3-4CA4-4354-A739-1E015DFD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0401-D4A3-4D6D-8034-64909CA5EA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ás Vargas </cp:lastModifiedBy>
  <dcterms:modified xsi:type="dcterms:W3CDTF">2004-08-03T14:11:18Z</dcterms:modified>
  <cp:revision>1</cp:revision>
  <dc:subject/>
  <dc:title>Presentación de PowerPoint</dc:title>
</cp:coreProperties>
</file>