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7240-CF91-4A88-B2AF-BF6CEA445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1B4E-8313-4A04-B9F6-7392BA06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F81F-009D-4BC1-ABEE-060AAA4AE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4CC9-627C-4341-A97D-46C2748A7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B9E8-7540-40C2-AC59-8399A75C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6184-1920-400B-BA5E-25BB3B69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EBD5-8D17-48D2-93DA-2080B014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E71D-59B5-40FB-BD08-3364209F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289A-A44B-4049-8A71-0971253A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90A7-DD03-40FE-A66E-6A78A778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C583-53E3-4CCA-87C6-EF32FF74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ADDA-171F-4903-A4E4-F8B84397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FDDA-29F4-4334-971F-B6C34A0CD12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247760"/>
            <a:ext cx="6858000" cy="86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04640" y="304920"/>
            <a:ext cx="6048720" cy="937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6T21:50:05Z</dcterms:created>
  <dc:creator>Ing Quimica</dc:creator>
  <dc:description/>
  <dc:language>en-US</dc:language>
  <cp:lastModifiedBy>Tomás Vargas </cp:lastModifiedBy>
  <dcterms:modified xsi:type="dcterms:W3CDTF">2004-08-03T14:11:18Z</dcterms:modified>
  <cp:revision>1</cp:revision>
  <dc:subject/>
  <dc:title>Presentación de PowerPoint</dc:title>
</cp:coreProperties>
</file>