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375-8874-4FE0-BD2E-E206120B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303-C6A1-4A38-AC9A-D8633F0C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C75-1402-44F4-9008-B541CDEB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DDB-41EB-43C7-A6C9-8A689D0D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D8B-04E1-4F09-B6DF-863F532B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DD94-A483-4C7A-A8B6-81390637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340-6B5A-4E32-8366-34CF5D04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BCB0-1E8B-4D1A-A3E4-97C0D54F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BBA1-2448-498C-AA74-A3822D66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D7BD-CA61-4DB2-9C08-DAAB6711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856-34F8-4CF7-83A4-E831176A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D8A-29D1-4AC0-9970-170A9AB3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98BF-3088-4333-B61C-588264E2549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47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640" y="304920"/>
            <a:ext cx="60487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21:50:05Z</dcterms:created>
  <dc:creator>Ing Quimica</dc:creator>
  <dc:description/>
  <dc:language>en-US</dc:language>
  <cp:lastModifiedBy>Tomás Vargas </cp:lastModifiedBy>
  <dcterms:modified xsi:type="dcterms:W3CDTF">2004-08-03T14:11:18Z</dcterms:modified>
  <cp:revision>1</cp:revision>
  <dc:subject/>
  <dc:title>Presentación de PowerPoint</dc:title>
</cp:coreProperties>
</file>