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1A12-F6D3-4B22-A15D-29081FF939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42720" y="4266720"/>
            <a:ext cx="617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FBE-DEC7-46E9-A22C-1ACE3C0C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7E8-B80C-451C-9313-AAC9BD15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8BA-09A3-4280-B6A6-D5556B1F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1B7-B8FA-43D5-84E5-9003B241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C494-6373-423A-8BB4-CAE3EB38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3B39-8360-4923-93CD-DB568AC1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AE94-9DFA-423A-A579-214892A0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4F4A-FF51-461A-87EC-96FE79B8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D71F-DAC0-4C75-8B6F-8790DA45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3CD2-58CE-4430-892B-DFFC30AB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D2ED-BB82-4403-910C-D418FFF7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521-3DA0-4B9D-9F10-5D509556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F639-B75F-4E1A-B643-0A149D28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CC40-9A17-42E8-B0E8-8C90A3B7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87A4-CAF9-4F00-9C86-1EC11220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0D28-D5BA-4BFB-A594-0BC5C747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2097-E891-42E1-896B-389FB0B0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BE0-6B53-493D-AF3E-175D4FCE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E1A-85E2-4DEA-9F15-065ACFE5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AA4-B4A6-48A1-8F82-7ED91BAD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5A7-0AA3-46E8-B2D8-CC7B5639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755-E66D-4185-815F-B23B71C4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230-8BB5-4BE4-8D2F-986E2EE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DC4-D6F0-4169-BBBC-05B2E81D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3290-FC65-4A37-B016-2955B402B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B9AE-FFC6-4285-8573-EBCB8EE78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7524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Política de Negocios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D53-65CA-4A33-A29E-73EA56A59E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litica gubern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Acción gubernamental  es resultante política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Resultante : lo que ocurre no es elegido como solución - resulta del conflicto, y de "compromisos negociados", de directivos con intereses distintos y influencias desig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Política por que la actividad de la cual emergen decision y accion se caracteriza por negociación entre miembros individuales del gobierno a través de conductos regula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El comportamiento emerge de juegos simultáneos y complejos entre directivos en posiciones de gobierno.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Los conductos regulares estructuran el juego, y los plazos fuerzan los temas llevándolos a su aten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La acción relevante es una “collage” de actos independientes, tomadas por directivos o grupos que ven juegos mas ampl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Decision y accion gubernamental es una combinación de preferencias e influencia relativa de jugadores centrales, en juegos diversos, más estrechamente definidos.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810-13BE-4CE0-9D4B-E510B23114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La dimensión  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7640" y="19807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acción de toda organización puede afectar a los “stakeholder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e poder la hace responsable ante quienes afecta directa o indirecta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gerente es responsable de que  la conducta respecto a ellos sea é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A00-E5C2-4331-8FC4-12B0EE5714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¿Que es ética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Rama de la filosofía que trata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lores relacionados con la conducta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los bueno o lo malo de  determinad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bondad o maldad en motivos y fines de esas 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Reglas de conducta reconocidas relacionadas co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cultura: la ética crist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grupo particular de personas: la ética me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grupo particular de acciones : la ética en los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Conjunto de principios que determinan  la conducta de una persona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 ética no me permite revelar algo que me han confi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CB9-72CD-4D25-B71C-06FC1EDD87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Algunas “virtudes” en la empresa u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re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apacidad de generar productos o servicios nuevos, proveer acceso a ellos a nuevos clientes, o aumentar productiv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ar comunidad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trabajo, después con proveedores y clientes, con ex trabajadores, con localidades, nacional e inter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l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cuar percepciones a lo observado, con una actitud de identificar y modificar percepciones erró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7E5B-5C54-405E-B92D-E9CC91FBC6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380880"/>
            <a:ext cx="761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arco Valóric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8120" y="1905120"/>
            <a:ext cx="8267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incipios compartido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velan aspiraciones comunes para el futur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Orientan e inspiran su acció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flejan su cultu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mpatibilizan el corto y el largo plaz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otivan con desafíos exigentes pero alcanzabl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resan el liderazgo de sus  autor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04B-3D3D-4E2F-A591-FD8589176C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Estructura Presentación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1. Mision 2004 y Vision 2008 : destacar la brecha. Señalar principales hipótesis hechas sobre macro entorno y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2. Las 5 principales estrategias y políticas y la inversión que necesitará cad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3. Oportunidades y amenazas externas que fundamentan las estrategias y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4. Fortalezas y debilidades competitivas e internas que justifican las estrategias y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5. Presupuesto agregado proyectado hasta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6. Indicadores de gestion para cada negocio y funcion. No mas de 10 e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gregar al informe un comentario individual no mayor que de dos carillas que indique su opinión sobre el aporte que el trabajo ha hecho a 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819-C5C7-4C96-9C2E-AD85BD374E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9040" y="1019160"/>
            <a:ext cx="830592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contienen estrategias y polític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se evalúan las estrategia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4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difiere formular estrategias en empresas y organismos públic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F5D-053A-480F-8A08-75CB4F75CB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9040" y="1019160"/>
            <a:ext cx="830592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contienen estrategias y polític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se evalúan las estrategia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4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difiere formular estrategias en empresas y organismos públic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E25-2FBB-4CA2-939E-50B09A558F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676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4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difiere formular estrategias en empresas y organismos públic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62532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lítica de Negocio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F45-362A-4B01-819C-4B95E33484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Modelos de decisión</a:t>
            </a:r>
            <a:br>
              <a:rPr sz="2400"/>
            </a:b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“The essence of decis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ctor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ces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litica gubern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1E9-330E-45BF-9F58-2A3F1D1BE1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ctor Racion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8572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El problema estratégico surge del entorno y mueve a deci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Decisión :elección de la opción que maximiza objetivos estratégicos: “La solución”</a:t>
            </a: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Un decisor - una función de utilidad consistente. Utilidad es la valoración de “alguien”, de los beneficios y costos asociados a decisiones o suce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Un set de opciones percib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Estimación unica de consecuencias de cada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Asignación de probabilidades “subjetivas” a sucesos (TP) modificadas por la información (T.Bayes) o acciones de otros (T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Selección es estática : la suma de las acciones de los directivos relevantes, son “la solución elegida" como un estado de regimen,  no un conjunto de elecciones parciales en un flujo dinám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Arbol de De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462-23E9-414C-82F6-5FE6A299BD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ceso organizacional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Acción gubernamental es un producto organiz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La decision de lider desencadena rutinas en diversas organiz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El comportamiento queda determinado por rutinas organizacionales pre - establecidos.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Existen rutinas organizacionales orientadas a emplear sus capacidades. Ellas definen el rango de opciones a que puede recurrir lider cuando enfrentan un problema.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Los productos organizacionales estructuran situación delimitada por restricciones. Dentro de ellas los lideres deciden. Los productos definen el problema, proveen la información, y configuran la problemática que se presenta al líder.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875-3BA1-4647-9118-168E1CFF86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onceptos organiz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20000"/>
                </a:solidFill>
                <a:latin typeface="Arial"/>
              </a:rPr>
              <a:t>Actores organizacion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der sobre constelación de organizaciones sueltamente ligadas. Gobierno actúa solo cuando ellas llevan a cabo rutinas. Cada organización percibe problemas, procesa información, y realiza una gama de acciones cuasi independientes.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20000"/>
                </a:solidFill>
                <a:latin typeface="Arial"/>
              </a:rPr>
              <a:t>Problemas factorizados y poder frac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cho dominante :  Tamaño impide a autoridad tomar toda decisión, o dirigir toda acción. Supervisión de problemas, se entrega a organizaciones. Poder evita parálisis, fraccionando responsabi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autoriza que una organización actúe, ella determina gran parte de lo que se hace. Cada organización percibe problemas, procesa información y desarrolla acciones en cuasi independencia (orientación política amplia). Los problemas segmentados permiten dar atención especializada a aspectos importantes. Esa atención se paga en términos de discrecionalidad respecto a lo que la organización atiende, y como programan sus respuestas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2F3-1F12-4D89-A180-DB8AA7418D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onceptos organiz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620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ioridades y percepciones parroqu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responsabilidad por un sub conjunto estrecho de problemas produce parroquialismo, el que se refuerza p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ón selectiva y parcial disponible, Reclutamiento del personal, Inamovilidad de los individuos, Presión de pequeños grupos internos, Distribución de premios en la organiz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ión desarrolla tendencias estables respecto a prioridades operacionales, percepciones  y  temáticas. La promoción a puestos altos dependen de años de devoción demostrada y desempeño distinguido respecto a la misión organizacio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acción es producto organizacional. Aspecto predominante del modelo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acción gubernamental es programada, cualquier actuación se materializan en rutinas pre establecidas en organizaciones específic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5B2-6122-4956-A21D-49E33C36D9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acción es predominantemente un product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specto predominante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acción gubernamen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s programada :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materializan en rutinas pre establecida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actividad organizacional se caracteriz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tas 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o son mandatos form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o restricciones que definen desempeño aceptabl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al esencial y presupuesto aseguran superviv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tricciones emanan de estatut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ativas y demandas de otros organism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s de ciudadanos o grupos de interé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negoci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tre unidad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leva a cuasi resolución del conflic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que las restricciones n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o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tib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tricciones son estab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formulan como imperativos que evitan incomodidad y desastr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tención secuencial de met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flictos entre restric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peracional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resuelve mediante atención secuenci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urgen problem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dades mas involucrad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l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ejan en términos de las restric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 consideran mas importa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Frent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 problema siguie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ras unidad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 f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aliza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 conjunto diferente de restric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cedimientos operacionales estándar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PO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 la organizaciones cumplen funciones superiores como atender áreas problema, monitorear la información y preparar respuestas relevantes para contingencias probable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ell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cen tareas inferiores  como presupuest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cer informes y desarrollando hardware o softwar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empeño confiable en estas tareas requiere P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reglas simples de manual, que deben ser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fácil aprendizaje y aplicación no ambigu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ir la acción concertada de muchos individuos respondiendo a pistas básic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cambian fácilmente ni en forma rápida pues son standar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eso la acción pare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r muy formal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ta 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vec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apropia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unas son convenciones para coordin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mayoría se basan en la estructura de incentivos de la organización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s norm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ctitudes y estilo de sus miembro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uanto mas fundacional, mas difícil de modific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gramas y reper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el buen desempeño requier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s de POS ensayados para producir acciones específic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da conjunto es un progra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ponibl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 la organiz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ien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tratar determinadas situa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a de programas constituyen el repertorio de la organización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on u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umero limita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gatillan en forma adecuada, no se pueden cambiar en forma substancial para adecuarse a la situ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to mas compleja la ac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 gente involucra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 importante y determinante son programas y repertorios para la ac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rganiza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vasión de la incertidumbr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organizaci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determinan probabilidades, la evade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regla entornos negociados para regular la reacción de otros actores con los cuales debe interactuar. Por ejemplo repartición de presupuestos, áreas de responsabilidad aceptadas, y prácticas establecid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el entorno no se puede negoci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eja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s restant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ertidumbr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eciendo escenarios standar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contingenci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las cuales se prepa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úsqueda dirigida al proble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Cuando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tuació no es standar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ce proceso de búsque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ipo de búsqueda y el punto en que se detiene están establecidas por rutinas existe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úsqueda de cursos de acción alternativos, esta orientada por el proble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S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caliza en evitar falta de comodidad. Se busca en el entorno del síntoma, y después el vecindario de la alternativa actu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figuración de búsqueda refleja sesgos de especialización y entrenamien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experiencia en diversas partes de l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ión y 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s de comunicación inter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prendizaje organizacional y camb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Propensiones pueden generar intervenciones de los líderes. Rosevelt y departamento de estado, pero mas la mar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esta presupuestar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mbruna presupuestaria prolong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llas dramáticas en el desempeño. Entorno pide cambios mayore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prendizaje organizacional y camb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ensiones pueden generar intervención del líd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sevel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artamento de eEstado, pero mas la Mari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cisión del líde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ider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ige organismo a través del cual oper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empre dentro de los programas existentes en conjunto de organiza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modificar el contexto usando varias organizaciones simultáneame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presentar el problema a una organización u otr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ejempl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n problem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uestario o estratégico. Puede crear nuevas organizaciones en el largo plaz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DF2-2152-402B-8380-BB5A341C49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 G.</cp:lastModifiedBy>
  <cp:lastPrinted>2004-04-12T16:30:03Z</cp:lastPrinted>
  <dcterms:modified xsi:type="dcterms:W3CDTF">2004-12-02T21:38:10Z</dcterms:modified>
  <cp:revision>113</cp:revision>
  <dc:subject/>
  <dc:title>Sin título de diapositiva</dc:title>
</cp:coreProperties>
</file>