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11D-AB21-49D0-BBCF-B44A3ADE5D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42720" y="426672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3C6-D079-40D1-9B2C-F29922E8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BB5-9456-4187-AD6C-E370F69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A29-723D-479D-891A-DDC56A7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764-1550-4F5B-AC98-076BD066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691B-CF6A-4CF8-BDFA-260FF83D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28A-785D-4892-AFD8-495FC21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30CE-F07B-4E2B-A303-C24B032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301-8D58-4E6E-A03A-1721EA6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71F-7BCA-4893-A3CE-9408D45A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34BA-55D3-4B50-B36D-B364F725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4A7B-AEF2-4502-A3B2-852023E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F65-456D-44B7-A7D9-77991284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5F3-355B-448B-87C4-F190299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0BD1-88AD-42BD-8E1F-23BF291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9AFD-CFAA-4EEA-851F-5704877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A32-6D23-434C-9582-8EAE1DC5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9CD-95BE-4B12-8996-0795C6B8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AE2-6233-4F15-B7A7-495539E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59B-7710-48EB-8257-7EB6AA23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CF1-56A2-45FD-99C6-F048162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F44-3861-48A9-AD2D-81D4C6C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D92-6844-4BDB-8BB1-161143D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1E-9284-4F8D-8FDA-F758D0F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870-AEF1-486D-814E-EF62EE5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F39D-FCD6-412A-BC7D-ABBB47FB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ECA5-88B8-43B8-A66D-44BC5131A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1E2-351F-4E6E-B072-2311EE7A3B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Acción gubernamental  es resultante política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Resultante : lo que ocurre no es elegido como solución - resulta del conflicto, y de "compromisos negociados", de directivos con intereses distintos y influencias desig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Política por que la actividad de la cual emergen decision y accion se caracteriza por negociación entre miembros individuales del gobierno a través de conductos regu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El comportamiento emerge de juegos simultáneos y complejos entre directivos en posiciones de gobierno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os conductos regulares estructuran el juego, y los plazos fuerzan los temas llevándolos a su a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La acción relevante es una “collage” de actos independientes, tomadas por directivos o grupos que ven juegos mas ampl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Decision y accion gubernamental es una combinación de preferencias e influencia relativa de jugadores centrales, en juegos diversos, más estrechamente definido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979-0E35-4786-93B3-95EC1B8DB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La dimensión  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de toda organización puede afectar a los “stakehold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e poder la hace responsable ante quienes afecta directa o indirect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gerente es responsable de que  la conducta respecto a ellos sea 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10C-2D0E-424C-9E53-CF23C6684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¿Que es ética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574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Rama de la filosofía que trata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relacionados con la conducta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os bueno o lo malo de  determinad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ndad o maldad en motivos y fines de es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Reglas de conducta reconocidas relacionadas co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cultura: la ética crist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personas: la ética me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grupo particular de acciones : la ética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Conjunto de principios que determinan  la conducta de una persona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ética no me permite revelar algo que me han conf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DFC-00C5-493B-A9BF-9597AFB29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lgunas “virtudes” en la empresa u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pacidad de generar productos o servicios nuevos, proveer acceso a ellos a nuevos clientes, o aumentar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r comunidad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trabajo, después con proveedores y clientes, con ex trabajadores, con localidades, nacional e inter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cuar percepciones a lo observado, con una actitud de identificar y modificar percepciones erró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173-455B-4B7D-B182-9F0F47497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380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rco Valóric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20" y="1905120"/>
            <a:ext cx="8267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aspiraciones comunes para el futu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rientan e inspiran su ac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flejan su cult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atibilizan el corto y el largo plaz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otivan con desafíos exigentes pero alcanzabl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A3E-40D2-4043-A30B-CF28EEC4D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gregar al informe un comentario individual no mayor que de dos carillas que indique su opinión sobre el aporte que el trabajo ha hecho a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778-D562-43C4-A8C3-8232C7A52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407-F1A8-40E4-AE03-A6DFDAF4BE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1019160"/>
            <a:ext cx="830592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FAE-F4D6-4783-8080-A0A25493C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4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difiere formular estrategias en empresas y organismos públic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ítica de Negocio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F17-0F12-40F2-B39D-BB9224FCD8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Modelos de decisión</a:t>
            </a:r>
            <a:br>
              <a:rPr sz="2400"/>
            </a:b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“The essence of decis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litica gubern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A81-C660-4F89-A8A6-109DD4B868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or Racion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572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l problema estratégico surge del entorno y mueve a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Decisión :elección de la opción que maximiza objetivos estratégicos: “La solución”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decisor - una función de utilidad consistente. Utilidad es la valoración de “alguien”, de los beneficios y costos asociados a decisiones o su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Un set de opciones percib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Estimación unica de consecuencias de cada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signación de probabilidades “subjetivas” a sucesos (TP) modificadas por la información (T.Bayes) o acciones de otros (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Selección es estática : la suma de las acciones de los directivos relevantes, son “la solución elegida" como un estado de regimen,  no un conjunto de elecciones parciales en un flujo diná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Arbol de De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42D-3032-40D5-99DB-60DC4F593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oceso organizacional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Acción gubernamental es un producto organiz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a decision de lider desencadena rutinas en divers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l comportamiento queda determinado por rutinas organizacionales pre - establecidos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Existen rutinas organizacionales orientadas a emplear sus capacidades. Ellas definen el rango de opciones a que puede recurrir lider cuando enfrentan un problema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Los productos organizacionales estructuran situación delimitada por restricciones. Dentro de ellas los lideres deciden. Los productos definen el problema, proveen la información, y configuran la problemática que se presenta al líder.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4F-DFE2-4D4E-854F-87B71E36A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Actores organizac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der sobre constelación de organizaciones sueltamente ligadas. Gobierno actúa solo cuando ellas llevan a cabo rutinas. Cada organización percibe problemas, procesa información, y realiza una gama de acciones cuasi independiente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20000"/>
                </a:solidFill>
                <a:latin typeface="Arial"/>
              </a:rPr>
              <a:t>Problemas factorizados y poder frac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cho dominante :  Tamaño impide a autoridad tomar toda decisión, o dirigir toda acción. Supervisión de problemas, se entrega a organizaciones. Poder evita parálisis, fraccionando responsabi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autoriza que una organización actúe, ella determina gran parte de lo que se hace. Cada organización percibe problemas, procesa información y desarrolla acciones en cuasi independencia (orientación política amplia). Los problemas segmentados permiten dar atención especializada a aspectos importantes. Esa atención se paga en términos de discrecionalidad respecto a lo que la organización atiende, y como programan sus respuesta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F02-95F6-42ED-AE5B-578D7A6BF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nceptos organiz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62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oridades y percepciones parroqu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responsabilidad por un sub conjunto estrecho de problemas produce parroquialismo, el que se refuerza 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selectiva y parcial disponible, Reclutamiento del personal, Inamovilidad de los individuos, Presión de pequeños grupos internos, Distribución de premios en la organiz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desarrolla tendencias estables respecto a prioridades operacionales, percepciones  y  temáticas. La promoción a puestos altos dependen de años de devoción demostrada y desempeño distinguido respecto a la misión organiz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acción es producto organizacional. Aspecto predominante del modelo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 es programada, cualquier actuación se materializan en rutinas pre establecidas en organizaciones específi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4FA-104F-45B6-9BB7-4492D31F1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acción es predominantemente un produc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pecto predominante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ción gubernam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programada :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materializan en rutinas pre establecid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ividad organizacional se caracteriz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as 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on mandatos for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o restricciones que definen desempeño acepta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 esencial y presupuesto aseguran superviv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emanan de estatu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vas y demandas de otros organism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s de ciudadanos o grupos de interé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negoci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uni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eva a cuasi resolución del conflic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que las restricciones 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 son estab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ulan como imperativos que evitan incomodidad y desast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tención secuencial de met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os entr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onal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suelve mediante atención secuenci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urgen proble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s mas involucra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 en términos de las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consideran mas importa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Frent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 problema sigui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ras unidad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 f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aliz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conjunto diferente de restric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imientos operacionales estándar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 la organizaciones cumplen funciones superiores como atender áreas problema, monitorear la información y preparar respuestas relevantes para contingencias probabl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l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n tareas inferiores  como presupuest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r informes y desarrollando hardware o softwa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empeño confiable en estas tareas requiere P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reglas simples de manual, que deben s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fácil aprendizaje y aplicación no amb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ir la acción concertada de muchos individuos respondiendo a pistas bás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ambian fácilmente ni en forma rápida pues son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la acción pare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r muy formal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ta 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ec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apropi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unas son convenciones para coordin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yoría se basan en la estructura de incentivos de la organización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s norm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titudes y estilo de sus miembr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uanto mas fundacional, mas difícil de modific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gramas y reper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l buen desempeño requier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s de POS ensayados para producir acciones específ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da conjunto es un progra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ni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organ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tratar determinadas situ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a de programas constituyen el repertorio de la organización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limi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gatillan en forma adecuada, no se pueden cambiar en forma substancial para adecuarse a la situ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to mas complej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gente involuc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 importante y determinante son programas y repertorios para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vasión de la incertidumb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organizaci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determinan probabilidades, la eva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a entornos negociados para regular la reacción de otros actores con los cuales debe interactuar. Por ejemplo repartición de presupuestos, áreas de responsabilidad aceptadas, y prácticas establecid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el entorno no se puede negoci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s restant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rtidumb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endo escenario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conting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s cuales se prep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úsqueda dirigida a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uando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 no es standar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ce proceso de búsque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búsqueda y el punto en que se detiene están establecidas por rutinas exist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úsqueda de cursos de acción alternativos, esta orientada por el proble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S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caliza en evitar falta de comodidad. Se busca en el entorno del síntoma, y después el vecindario de la alternativa actu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ción de búsqueda refleja sesgos de especialización y entren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experiencia en diversas partes de 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ón y 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comunicación inter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Propensiones pueden generar intervenciones de los líderes. Rosevelt y departamento de estado, pero mas la mar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sta presupuestar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mbruna presupuestaria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ramáticas en el desempeño. Entorno pide cambios may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rendizaje organizacional y camb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nsiones pueden generar intervención del líd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sevel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eEstado, pero mas la Mari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cisión del líde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de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ge organismo a través del cual oper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empre dentro de los programas existentes en conjunto de organiza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modificar el contexto usando varias organizaciones simultáneame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presentar el problema a una organización u ot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jempl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n problem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ario o estratégico. Puede crear nuevas organizaciones en el largo pla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9A5-338A-4AD3-A137-4415697A8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04-12T16:30:03Z</cp:lastPrinted>
  <dcterms:modified xsi:type="dcterms:W3CDTF">2004-12-02T21:38:10Z</dcterms:modified>
  <cp:revision>113</cp:revision>
  <dc:subject/>
  <dc:title>Sin título de diapositiva</dc:title>
</cp:coreProperties>
</file>