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657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8610480"/>
            <a:ext cx="3657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5840" y="861048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1D007-DFCD-41AC-83A5-0853DA56100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342720" y="4266720"/>
            <a:ext cx="617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5E06-911A-4557-8599-AC6F6755E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3156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16B4-3488-4E25-AFAC-A15A0C550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6866-2197-47D1-84A7-219370A74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37E3-A3E9-45BB-BDF0-B0F0383E9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350AB-C600-42A4-B22B-AD5646FED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3AF14-5DD5-4B81-B23A-C4D164B57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31F67-01F2-4ABB-BD15-905811E5B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02644-D7ED-4EB4-9C99-1A22267F4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38CD1-F9C6-4483-A749-4547C7CF1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4D3C9-0FD6-4DC6-A0D5-51A838A6D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86BFE-FED1-4C45-AB1D-8B010BC4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0E60-907D-41EB-AB8F-80F667ECA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7F7D2-7BF9-42F5-A79F-BEA7D12B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2034C-67E2-44FA-B747-C83326F7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3156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3972C-F94F-4389-B4E5-CF6D788D1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3DF50-AAF1-418D-B8E1-86D2C8657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F69AC-F19E-4EA1-8EFE-2C6A4DE6A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FD90-A63B-48B2-9400-04C4662FE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EF01-6477-4AEB-9B94-43DF0587A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9ECF-D5FA-414B-BAE7-C82F14A85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C7ED-05B7-415B-83C2-A93173705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E1FF-85D8-4989-A2D6-CB7E22CA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0B62-C4E8-4FB3-AEE8-245D6E99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D202-48B2-4237-BBDE-547EADD5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72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315FD-FCA2-476A-AFD7-74E4DE0A0A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3241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C6504-E8DD-4D00-880E-4739715ECF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1752480"/>
            <a:ext cx="77724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00"/>
                </a:solidFill>
                <a:latin typeface="Arial"/>
              </a:rPr>
              <a:t>Política de Negocios</a:t>
            </a:r>
            <a:br>
              <a:rPr sz="4000"/>
            </a:br>
            <a:br>
              <a:rPr sz="2400"/>
            </a:b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 Alvaro de la Barra G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5562720"/>
            <a:ext cx="8305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77"/>
                </a:solidFill>
                <a:latin typeface="Arial"/>
              </a:rPr>
              <a:t> </a:t>
            </a:r>
            <a:r>
              <a:rPr b="1" i="1" lang="es-ES_tradnl" sz="2000" spc="-1" strike="noStrike">
                <a:solidFill>
                  <a:srgbClr val="000077"/>
                </a:solidFill>
                <a:latin typeface="Arial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97FD-BC38-4931-8B63-4542EC17D13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olitica guberna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5360" y="12193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800000"/>
                </a:solidFill>
                <a:latin typeface="Arial"/>
              </a:rPr>
              <a:t>Acción gubernamental  es resultante política</a:t>
            </a:r>
            <a:r>
              <a:rPr b="1" i="1" lang="es-ES_tradnl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8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800000"/>
                </a:solidFill>
                <a:latin typeface="Arial"/>
              </a:rPr>
              <a:t>Resultante : lo que ocurre no es elegido como solución - resulta del conflicto, y de "compromisos negociados", de directivos con intereses distintos y influencias desigu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800000"/>
                </a:solidFill>
                <a:latin typeface="Arial"/>
              </a:rPr>
              <a:t>Política por que la actividad de la cual emergen decision y accion se caracteriza por negociación entre miembros individuales del gobierno a través de conductos regula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800000"/>
                </a:solidFill>
                <a:latin typeface="Arial"/>
              </a:rPr>
              <a:t>El comportamiento emerge de juegos simultáneos y complejos entre directivos en posiciones de gobierno.</a:t>
            </a:r>
            <a:r>
              <a:rPr b="1" i="1" lang="es-ES_tradnl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800000"/>
                </a:solidFill>
                <a:latin typeface="Arial"/>
              </a:rPr>
              <a:t>Los conductos regulares estructuran el juego, y los plazos fuerzan los temas llevándolos a su aten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800000"/>
                </a:solidFill>
                <a:latin typeface="Arial"/>
              </a:rPr>
              <a:t>La acción relevante es una “collage” de actos independientes, tomadas por directivos o grupos que ven juegos mas ampl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800000"/>
                </a:solidFill>
                <a:latin typeface="Arial"/>
              </a:rPr>
              <a:t>Decision y accion gubernamental es una combinación de preferencias e influencia relativa de jugadores centrales, en juegos diversos, más estrechamente definidos.</a:t>
            </a:r>
            <a:r>
              <a:rPr b="1" i="1" lang="es-ES_tradnl" sz="1800" spc="-1" strike="noStrike">
                <a:solidFill>
                  <a:srgbClr val="8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E9B3-FE9B-4BF1-B886-6BB406A2AD2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La dimensión  é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47640" y="1980720"/>
            <a:ext cx="78487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 acción de toda organización puede afectar a los “stakeholders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se poder la hace responsable ante quienes afecta directa o indirectamen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 gerente es responsable de que  la conducta respecto a ellos sea étic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4691-D9CF-4B35-B8B2-C753A2FE24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r>
              <a:rPr b="1" i="1" lang="es-ES_tradnl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¿Que es ética 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5748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. Rama de la filosofía que trata 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alores relacionados con la conducta hum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 los bueno o lo malo de  determinadas a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 la bondad o maldad en motivos y fines de esas acc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. Reglas de conducta reconocidas relacionadas con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na cultura: la ética crist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n grupo particular de personas: la ética med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n grupo particular de acciones : la ética en los nego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. Conjunto de principios que determinan  la conducta de una persona</a:t>
            </a:r>
            <a:br>
              <a:rPr sz="2000"/>
            </a:b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i ética no me permite revelar algo que me han confi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E203-9A69-43DC-8CA1-92304DEA89C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Algunas “virtudes” en la empresa u organ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crea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capacidad de generar productos o servicios nuevos, proveer acceso a ellos a nuevos clientes, o aumentar productiv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ormar comunidad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 trabajo, después con proveedores y clientes, con ex trabajadores, con localidades, nacional e internacio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alis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decuar percepciones a lo observado, con una actitud de identificar y modificar percepciones erróne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2FAA-9DDE-4083-9D7F-26F3C68377F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762120" y="380880"/>
            <a:ext cx="76197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Marco Valórico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8120" y="1905120"/>
            <a:ext cx="82677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Principios compartidos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Revelan aspiraciones comunes para el futur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Orientan e inspiran su acció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Reflejan su cultur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Compatibilizan el corto y el largo plaz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Motivan con desafíos exigentes pero alcanzable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Expresan el liderazgo de sus  autor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DA8A-2AA3-45EE-BA51-3C033F1B676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800000"/>
                </a:solidFill>
                <a:latin typeface="Arial"/>
              </a:rPr>
              <a:t>Estructura Presentación F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6760" y="10666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1. Mision 2004 y Vision 2008 : destacar la brecha. Señalar principales hipótesis hechas sobre macro entorno y competi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2. Las 5 principales estrategias y políticas y la inversión que necesitará cad u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ts val="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3. Oportunidades y amenazas externas que fundamentan las estrategias y polít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ts val="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4. Fortalezas y debilidades competitivas e internas que justifican las estrategias y polític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ts val="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5. Presupuesto agregado proyectado hasta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ts val="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6. Indicadores de gestion para cada negocio y funcion. No mas de 10 en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Agregar al informe un comentario individual no mayor que de dos carillas que indique su opinión sobre el aporte que el trabajo ha hecho a la empre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FE78-D18C-4A98-8CA8-06988ED8712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19040" y="1019160"/>
            <a:ext cx="8305920" cy="50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1.   ¿ Que es gestión estratégica 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2.   ¿ Que son negocios y empresa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3.   ¿ Como se hace planificación en los negocio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4.   ¿ Como se describen los negocios 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5.   ¿ Que son la misión y visión operacionale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6.   ¿ Que es análisis de escenario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7   ¿ Que son Valor y Ventaja Competitiva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8.  ¿ Que es Diagnóstico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9.  ¿ Que son areas funcionale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</a:rPr>
              <a:t>10. ¿ Como se hacen estrategias en la empresa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</a:rPr>
              <a:t>11.</a:t>
            </a:r>
            <a:r>
              <a:rPr b="0" i="1" lang="es-ES_tradnl" sz="2000" spc="-1" strike="noStrike">
                <a:solidFill>
                  <a:srgbClr val="660000"/>
                </a:solidFill>
                <a:latin typeface="Arial"/>
              </a:rPr>
              <a:t>   </a:t>
            </a: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¿ Qué contienen estrategias y política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</a:rPr>
              <a:t>12</a:t>
            </a:r>
            <a:r>
              <a:rPr b="0" i="1" lang="es-ES_tradnl" sz="2000" spc="-1" strike="noStrike">
                <a:solidFill>
                  <a:srgbClr val="660000"/>
                </a:solidFill>
                <a:latin typeface="Arial"/>
              </a:rPr>
              <a:t> </a:t>
            </a: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¿ Como se evalúan las estrategias 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</a:rPr>
              <a:t>13 </a:t>
            </a: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¿ Que es necesario para implementar las estrategia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</a:rPr>
              <a:t>14 </a:t>
            </a: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¿ Como difiere formular estrategias en empresas y organismos público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reguntas contest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A2E4-6050-4275-9E52-2FE02CF125D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19040" y="1019160"/>
            <a:ext cx="8305920" cy="50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1.   ¿ Que es gestión estratégica 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2.   ¿ Que son negocios y empresa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3.   ¿ Como se hace planificación en los negocio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4.   ¿ Como se describen los negocios 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5.   ¿ Que son la misión y visión operacionale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6.   ¿ Que es análisis de escenario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7   ¿ Que son Valor y Ventaja Competitiva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8.  ¿ Que es Diagnóstico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9.  ¿ Que son areas funcionale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</a:rPr>
              <a:t>10. ¿ Como se hacen estrategias en la empresa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</a:rPr>
              <a:t>11.</a:t>
            </a:r>
            <a:r>
              <a:rPr b="0" i="1" lang="es-ES_tradnl" sz="2000" spc="-1" strike="noStrike">
                <a:solidFill>
                  <a:srgbClr val="660000"/>
                </a:solidFill>
                <a:latin typeface="Arial"/>
              </a:rPr>
              <a:t>   </a:t>
            </a: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¿ Qué contienen estrategias y política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</a:rPr>
              <a:t>12</a:t>
            </a:r>
            <a:r>
              <a:rPr b="0" i="1" lang="es-ES_tradnl" sz="2000" spc="-1" strike="noStrike">
                <a:solidFill>
                  <a:srgbClr val="660000"/>
                </a:solidFill>
                <a:latin typeface="Arial"/>
              </a:rPr>
              <a:t> </a:t>
            </a: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¿ Como se evalúan las estrategias 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</a:rPr>
              <a:t>13 </a:t>
            </a: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¿ Que es necesario para implementar las estrategia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</a:rPr>
              <a:t>14 </a:t>
            </a: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¿ Como difiere formular estrategias en empresas y organismos público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reguntas contest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EAA6-BCD9-4EEF-987D-28C88B1283C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66760" y="2133720"/>
            <a:ext cx="86104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</a:rPr>
              <a:t>14 </a:t>
            </a: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¿ Como difiere formular estrategias en empresas y organismos público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625320"/>
            <a:ext cx="777240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olítica de Negocios </a:t>
            </a:r>
            <a:br>
              <a:rPr sz="2400"/>
            </a:b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reguntas a respo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76CC-FD30-45BF-83A1-CF022DA2D71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20000"/>
                </a:solidFill>
                <a:latin typeface="Arial"/>
              </a:rPr>
              <a:t>Modelos de decisión</a:t>
            </a:r>
            <a:br>
              <a:rPr sz="2400"/>
            </a:br>
            <a:r>
              <a:rPr b="1" i="1" lang="es-ES_tradnl" sz="2400" spc="-1" strike="noStrike">
                <a:solidFill>
                  <a:srgbClr val="820000"/>
                </a:solidFill>
                <a:latin typeface="Arial"/>
              </a:rPr>
              <a:t>“The essence of decisio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Actor r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roceso organiz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olitica guberna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306C-BED8-4FFB-B6F9-3D858DFE654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Actor Raciona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8572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3399"/>
                </a:solidFill>
                <a:latin typeface="Arial"/>
              </a:rPr>
              <a:t>El problema estratégico surge del entorno y mueve a decis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3399"/>
                </a:solidFill>
                <a:latin typeface="Arial"/>
              </a:rPr>
              <a:t>Decisión :elección de la opción que maximiza objetivos estratégicos: “La solución”</a:t>
            </a:r>
            <a:r>
              <a:rPr b="1" i="1" lang="es-ES_tradnl" sz="20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3399"/>
                </a:solidFill>
                <a:latin typeface="Arial"/>
              </a:rPr>
              <a:t>Un decisor - una función de utilidad consistente. Utilidad es la valoración de “alguien”, de los beneficios y costos asociados a decisiones o suces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3399"/>
                </a:solidFill>
                <a:latin typeface="Arial"/>
              </a:rPr>
              <a:t>Un set de opciones percibi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3399"/>
                </a:solidFill>
                <a:latin typeface="Arial"/>
              </a:rPr>
              <a:t>Estimación unica de consecuencias de cada altern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3399"/>
                </a:solidFill>
                <a:latin typeface="Arial"/>
              </a:rPr>
              <a:t>Asignación de probabilidades “subjetivas” a sucesos (TP) modificadas por la información (T.Bayes) o acciones de otros (TJ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3399"/>
                </a:solidFill>
                <a:latin typeface="Arial"/>
              </a:rPr>
              <a:t>Selección es estática : la suma de las acciones de los directivos relevantes, son “la solución elegida" como un estado de regimen,  no un conjunto de elecciones parciales en un flujo dinám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3399"/>
                </a:solidFill>
                <a:latin typeface="Arial"/>
              </a:rPr>
              <a:t>Arbol de De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9327-D326-421A-93EA-732DB9CA1B1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roceso organizacional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6600"/>
                </a:solidFill>
                <a:latin typeface="Arial"/>
              </a:rPr>
              <a:t>Acción gubernamental es un producto organizacio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6600"/>
                </a:solidFill>
                <a:latin typeface="Arial"/>
              </a:rPr>
              <a:t>La decision de lider desencadena rutinas en diversas organizacion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6600"/>
                </a:solidFill>
                <a:latin typeface="Arial"/>
              </a:rPr>
              <a:t>El comportamiento queda determinado por rutinas organizacionales pre - establecidos.</a:t>
            </a:r>
            <a:r>
              <a:rPr b="1" i="1" lang="es-ES_tradnl" sz="20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6600"/>
                </a:solidFill>
                <a:latin typeface="Arial"/>
              </a:rPr>
              <a:t>Existen rutinas organizacionales orientadas a emplear sus capacidades. Ellas definen el rango de opciones a que puede recurrir lider cuando enfrentan un problema.</a:t>
            </a:r>
            <a:r>
              <a:rPr b="1" i="1" lang="es-ES_tradnl" sz="20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6600"/>
                </a:solidFill>
                <a:latin typeface="Arial"/>
              </a:rPr>
              <a:t>Los productos organizacionales estructuran situación delimitada por restricciones. Dentro de ellas los lideres deciden. Los productos definen el problema, proveen la información, y configuran la problemática que se presenta al líder.</a:t>
            </a:r>
            <a:r>
              <a:rPr b="1" i="1" lang="es-ES_tradnl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6E90-F18F-424B-81B5-0689CE7FF2A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Conceptos organiz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820000"/>
                </a:solidFill>
                <a:latin typeface="Arial"/>
              </a:rPr>
              <a:t>Actores organizaciona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ider sobre constelación de organizaciones sueltamente ligadas. Gobierno actúa solo cuando ellas llevan a cabo rutinas. Cada organización percibe problemas, procesa información, y realiza una gama de acciones cuasi independientes.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820000"/>
                </a:solidFill>
                <a:latin typeface="Arial"/>
              </a:rPr>
              <a:t>Problemas factorizados y poder fraccion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echo dominante :  Tamaño impide a autoridad tomar toda decisión, o dirigir toda acción. Supervisión de problemas, se entrega a organizaciones. Poder evita parálisis, fraccionando responsabilida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uando se autoriza que una organización actúe, ella determina gran parte de lo que se hace. Cada organización percibe problemas, procesa información y desarrolla acciones en cuasi independencia (orientación política amplia). Los problemas segmentados permiten dar atención especializada a aspectos importantes. Esa atención se paga en términos de discrecionalidad respecto a lo que la organización atiende, y como programan sus respuestas.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9187-6E36-480E-8D9F-7EF3DE47D6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Conceptos organiz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162080"/>
            <a:ext cx="77724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Prioridades y percepciones parroqu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 responsabilidad por un sub conjunto estrecho de problemas produce parroquialismo, el que se refuerza por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ción selectiva y parcial disponible, Reclutamiento del personal, Inamovilidad de los individuos, Presión de pequeños grupos internos, Distribución de premios en la organizació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ación desarrolla tendencias estables respecto a prioridades operacionales, percepciones  y  temáticas. La promoción a puestos altos dependen de años de devoción demostrada y desempeño distinguido respecto a la misión organizaciona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La acción es producto organizacional. Aspecto predominante del modelo.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 acción gubernamental es programada, cualquier actuación se materializan en rutinas pre establecidas en organizaciones específica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7105-9395-4EAF-8A59-1D9578C134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La acción es predominantemente un producto organiz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7000"/>
          </a:bodyPr>
          <a:p>
            <a:pPr marL="1609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Aspecto predominante del mod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-160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 acción gubernamenta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es programada :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 materializan en rutinas pre establecidas.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 actividad organizacional se caracteriza p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-160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etas :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No son mandatos formale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ino restricciones que definen desempeño aceptabl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ersonal esencial y presupuesto aseguran supervivenci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stricciones emanan de estatuto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pectativas y demandas de otros organismo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mandas de ciudadanos o grupos de interé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 negociació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entre unidades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terna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leva a cuasi resolución del conflict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rque las restricciones n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son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mpatible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Las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stricciones son estable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y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 formulan como imperativos que evitan incomodidad y desastre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-160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tención secuencial de meta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flictos entre restriccione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operacionales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 resuelve mediante atención secuencia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uando surgen problema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las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nidades mas involucrada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lo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nejan en términos de las restriccione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que consideran mas importante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Frente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l problema siguient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tras unidade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se f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caliza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en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n conjunto diferente de restriccione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-160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rocedimientos operacionales estándar</a:t>
            </a: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POS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: la organizaciones cumplen funciones superiores como atender áreas problema, monitorear la información y preparar respuestas relevantes para contingencias probables.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Para ello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acen tareas inferiores  como presupuesta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acer informes y desarrollando hardware o softwar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El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sempeño confiable en estas tareas requiere PO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reglas simples de manual, que deben ser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 fácil aprendizaje y aplicación no ambigu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 y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ermitir la acción concertada de muchos individuos respondiendo a pistas básica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o cambian fácilmente ni en forma rápida pues son standard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r eso la acción parec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ser muy formal,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ta y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 veces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apropiad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lgunas son convenciones para coordina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 mayoría se basan en la estructura de incentivos de la organización,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en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s norma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en las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ctitudes y estilo de sus miembros.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Cuanto mas fundacional, mas difícil de modific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-160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rogramas y repertorio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el buen desempeño requiere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juntos de POS ensayados para producir acciones específica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da conjunto es un program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isponibl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que la organizació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tiene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ara tratar determinadas situacione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La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ista de programas constituyen el repertorio de la organización.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Son un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umero limitad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uando se gatillan en forma adecuada, no se pueden cambiar en forma substancial para adecuarse a la situació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uanto mas compleja la acció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y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s gente involucrad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s importante y determinante son programas y repertorios para la acció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organizativ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-160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vasión de la incertidumbr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 organizació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o determinan probabilidades, la evade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regla entornos negociados para regular la reacción de otros actores con los cuales debe interactuar. Por ejemplo repartición de presupuestos, áreas de responsabilidad aceptadas, y prácticas establecida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uando el entorno no se puede negocia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neja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las restantes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certidumbre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stableciendo escenarios standard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contingencias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ara las cuales se prepa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-160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Búsqueda dirigida al problem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Cuando la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ituació no es standard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ace proceso de búsqued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El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ipo de búsqueda y el punto en que se detiene están establecidas por rutinas existente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La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úsqueda de cursos de acción alternativos, esta orientada por el problem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Se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caliza en evitar falta de comodidad. Se busca en el entorno del síntoma, y después el vecindario de la alternativa actua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La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figuración de búsqueda refleja sesgos de especialización y entrenamient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 la experiencia en diversas partes de la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ación y las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structuras de comunicación intern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-160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prendizaje organizacional y cambi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Propensiones pueden generar intervenciones de los líderes. Rosevelt y departamento de estado, pero mas la mari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-160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iesta presupuestari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-160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ambruna presupuestaria prolong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-160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allas dramáticas en el desempeño. Entorno pide cambios mayores.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-160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prendizaje organizacional y cambi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pensiones pueden generar intervención del líde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osevelt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y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partamento de eEstado, pero mas la Marin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-160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Decisión del líder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Lider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lige organismo a través del cual opera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iempre dentro de los programas existentes en conjunto de organizacione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uede modificar el contexto usando varias organizaciones simultáneament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uede presentar el problema a una organización u otr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r ejempl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m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un problema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uestario o estratégico. Puede crear nuevas organizaciones en el largo plaz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0119-3D95-4258-A0A6-0185C644F5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3T19:55:39Z</dcterms:created>
  <dc:creator>Alvaro de la Barra G.</dc:creator>
  <dc:description/>
  <dc:language>en-US</dc:language>
  <cp:lastModifiedBy>Alvaro de la Barra G.</cp:lastModifiedBy>
  <cp:lastPrinted>2004-04-12T16:30:03Z</cp:lastPrinted>
  <dcterms:modified xsi:type="dcterms:W3CDTF">2004-12-02T21:38:10Z</dcterms:modified>
  <cp:revision>113</cp:revision>
  <dc:subject/>
  <dc:title>Sin título de diapositiva</dc:title>
</cp:coreProperties>
</file>