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657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8610480"/>
            <a:ext cx="3657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5840" y="861048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08895-1CEF-4728-B7E4-8B45CF38868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324E-A9B3-4134-AFB0-38143BD98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3156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4E19-E849-486D-BABB-BE272623E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E4CB-BF71-4177-940D-AA7D6D5D4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8F11-68AC-431F-A0CB-E015147DA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9C536-72D1-478E-B03A-6B339F331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9D762-A135-4298-B78D-2DBF09391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90924-8354-49A2-BF51-7B953A7E3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2B7BF-7941-4F96-9D77-DFAA248B6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D7CF9-0FA5-4CE1-B094-60EAAC5D7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1805C-554A-47BB-B659-4481B2A9C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71F40-F6EF-418F-B953-DA0452FB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DD6F-5727-4551-85F9-E529A9FF4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2E105-6799-4A70-A9DC-0C667BD4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6892E-8AB8-4E16-A9C4-84B4BBDD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3156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F8CCE-61CD-4E5B-9A30-63B41C302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62B26-F0A0-4E85-959B-CE21A0C18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A276A-4025-44E6-8A9F-9F2685EA8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ED18-2EA6-47FB-A7DE-91B17C3E4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1A56-2C98-48EA-8752-62A1C216F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BF91-B3B5-4AEF-AB5F-FB17EE02B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71D4-6123-4C11-A073-198B0E489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BB07-8C5F-4BE1-B743-85A32DA2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146C-E5CB-4DCB-B154-9D4CD659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8543-020C-4505-A6E9-8108B4AF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72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9F6E2-FE0D-4A93-9441-4C9D5C2118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3241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1C1CE-33F8-4EBE-B92E-57311A31B0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1752480"/>
            <a:ext cx="77724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00"/>
                </a:solidFill>
                <a:latin typeface="Arial"/>
              </a:rPr>
              <a:t>Política de Negocios</a:t>
            </a:r>
            <a:br>
              <a:rPr sz="4000"/>
            </a:br>
            <a:br>
              <a:rPr sz="2400"/>
            </a:b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 Alvaro de la Barra G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5562720"/>
            <a:ext cx="8305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77"/>
                </a:solidFill>
                <a:latin typeface="Arial"/>
              </a:rPr>
              <a:t> </a:t>
            </a:r>
            <a:r>
              <a:rPr b="1" i="1" lang="es-ES_tradnl" sz="2000" spc="-1" strike="noStrike">
                <a:solidFill>
                  <a:srgbClr val="000077"/>
                </a:solidFill>
                <a:latin typeface="Arial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F30B-4555-4BB4-BF41-57853E6E885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s-ES_tradnl" sz="2800" spc="-1" strike="noStrike">
                <a:solidFill>
                  <a:srgbClr val="800000"/>
                </a:solidFill>
                <a:latin typeface="Arial"/>
              </a:rPr>
              <a:t>Cultura Organizacional</a:t>
            </a:r>
            <a:r>
              <a:rPr b="1" i="1" lang="es-ES_tradnl" sz="2800" spc="-1" strike="noStrike">
                <a:solidFill>
                  <a:srgbClr val="800000"/>
                </a:solidFill>
                <a:latin typeface="Arial"/>
              </a:rPr>
              <a:t>	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1828800"/>
            <a:ext cx="838224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Configuración de suposiciones básicas, inventadas, descubiertas o desarrolladas por un gru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En el proceso de aprender a resolver sus proble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De adaptación exter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De integración inte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Que ha funcionado tan bien, que se considera válida, y por lo tanto debe ser enseñada a nuevos miembros como la manera correcta de percibir, pensar y sentir en relación a esos problem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8500-920D-42D0-8DA6-D5EDD5BF246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800000"/>
                </a:solidFill>
                <a:latin typeface="Arial"/>
              </a:rPr>
              <a:t>Estructura Presentación F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1. Mision 2004 y Vision 2008 : destacar la brecha. Señalar principales hipótesis hechas sobre macro entorno y competi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2. Las 5 principales estrategias y políticas y la inversión que necesitará cad u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3. Oportunidades y amenazas externas que fundamentan las estrategias y polít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4. Fortalezas y debilidades competitivas e internas que justifican las estrategias y polític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5. Presupuesto agregado proyectado hasta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6. Indicadores de gestion para cada negocio y funcion. No mas de 10 en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A774-7D1B-42A2-A021-783FAD44FC6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19040" y="990720"/>
            <a:ext cx="8305920" cy="52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1.   ¿ Que es gestión estratégica 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2.   ¿ Que son negocios y empresa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3.   ¿ Como se hace planificación en los negocio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4.   ¿ Como se describen los negocios 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5.   ¿ Que son la misión y visión operacionale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6.   ¿ Que es análisis de escenario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7   ¿ Que son Valor y Ventaja Competitiva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8.  ¿ Que es Diagnóstico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9.  ¿ Que son areas funcionale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</a:rPr>
              <a:t>10. ¿ Como se hacen estrategias en la empresa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</a:rPr>
              <a:t>11.</a:t>
            </a:r>
            <a:r>
              <a:rPr b="0" i="1" lang="es-ES_tradnl" sz="2000" spc="-1" strike="noStrike">
                <a:solidFill>
                  <a:srgbClr val="660000"/>
                </a:solidFill>
                <a:latin typeface="Arial"/>
              </a:rPr>
              <a:t>   </a:t>
            </a: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¿ Qué contienen estrategias y política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</a:rPr>
              <a:t>12</a:t>
            </a:r>
            <a:r>
              <a:rPr b="0" i="1" lang="es-ES_tradnl" sz="2000" spc="-1" strike="noStrike">
                <a:solidFill>
                  <a:srgbClr val="660000"/>
                </a:solidFill>
                <a:latin typeface="Arial"/>
              </a:rPr>
              <a:t> </a:t>
            </a: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¿ Como se evalúan las estrategia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reguntas contest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488B-CA4A-473C-852F-D2BFD424DCA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66760" y="2133720"/>
            <a:ext cx="86104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</a:rPr>
              <a:t>13 </a:t>
            </a: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¿ Que es necesario para implementar las estrategi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625320"/>
            <a:ext cx="777240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Estrategias y politicas </a:t>
            </a:r>
            <a:br>
              <a:rPr sz="2400"/>
            </a:b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reguntas a respo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9A6E-4725-4A37-880F-9BAFFCE1421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04920" y="368280"/>
            <a:ext cx="81835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222222"/>
                </a:solidFill>
                <a:latin typeface="Arial"/>
              </a:rPr>
              <a:t>IMPLEMENTA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287360" y="915840"/>
            <a:ext cx="7284960" cy="5333760"/>
            <a:chOff x="1287360" y="915840"/>
            <a:chExt cx="7284960" cy="5333760"/>
          </a:xfrm>
        </p:grpSpPr>
        <p:sp>
          <p:nvSpPr>
            <p:cNvPr id="96" name=""/>
            <p:cNvSpPr/>
            <p:nvPr/>
          </p:nvSpPr>
          <p:spPr>
            <a:xfrm>
              <a:off x="1287360" y="915840"/>
              <a:ext cx="7284960" cy="5333760"/>
            </a:xfrm>
            <a:prstGeom prst="ellipse">
              <a:avLst/>
            </a:prstGeom>
            <a:solidFill>
              <a:srgbClr val="ffff66"/>
            </a:solidFill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2189160" y="1373040"/>
              <a:ext cx="5479560" cy="4306680"/>
              <a:chOff x="2189160" y="1373040"/>
              <a:chExt cx="5479560" cy="430668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2189160" y="1603080"/>
                <a:ext cx="5479560" cy="4076640"/>
                <a:chOff x="2189160" y="1603080"/>
                <a:chExt cx="5479560" cy="407664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3740400" y="1603080"/>
                  <a:ext cx="2377440" cy="16765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ffffff"/>
                      </a:solidFill>
                      <a:latin typeface="Arial"/>
                    </a:rPr>
                    <a:t>PLANIFICAC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s-ES_tradnl" sz="1800" spc="-1" strike="noStrike">
                      <a:solidFill>
                        <a:srgbClr val="ffffff"/>
                      </a:solidFill>
                      <a:latin typeface="Arial"/>
                    </a:rPr>
                    <a:t>Y CONTRO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0" name=""/>
                <p:cNvGrpSpPr/>
                <p:nvPr/>
              </p:nvGrpSpPr>
              <p:grpSpPr>
                <a:xfrm>
                  <a:off x="2189160" y="4003560"/>
                  <a:ext cx="5479560" cy="1676160"/>
                  <a:chOff x="2189160" y="4003560"/>
                  <a:chExt cx="5479560" cy="1676160"/>
                </a:xfrm>
              </p:grpSpPr>
              <p:sp>
                <p:nvSpPr>
                  <p:cNvPr id="101" name=""/>
                  <p:cNvSpPr/>
                  <p:nvPr/>
                </p:nvSpPr>
                <p:spPr>
                  <a:xfrm>
                    <a:off x="5290920" y="4003560"/>
                    <a:ext cx="2377800" cy="16761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800" spc="-1" strike="noStrike">
                        <a:solidFill>
                          <a:srgbClr val="ffffff"/>
                        </a:solidFill>
                        <a:latin typeface="Arial"/>
                      </a:rPr>
                      <a:t>INFORMACIÓN Y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800" spc="-1" strike="noStrike">
                        <a:solidFill>
                          <a:srgbClr val="ffffff"/>
                        </a:solidFill>
                        <a:latin typeface="Arial"/>
                      </a:rPr>
                      <a:t>COMUNICACIONES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2189160" y="4003560"/>
                    <a:ext cx="2377800" cy="16761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800" spc="-1" strike="noStrike">
                        <a:solidFill>
                          <a:srgbClr val="ffffff"/>
                        </a:solidFill>
                        <a:latin typeface="Arial"/>
                      </a:rPr>
                      <a:t>COMPENSACIONES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800" spc="-1" strike="noStrike">
                        <a:solidFill>
                          <a:srgbClr val="ffffff"/>
                        </a:solidFill>
                        <a:latin typeface="Arial"/>
                      </a:rPr>
                      <a:t>E INCENTIVOS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3" name=""/>
                <p:cNvSpPr/>
                <p:nvPr/>
              </p:nvSpPr>
              <p:spPr>
                <a:xfrm>
                  <a:off x="3853080" y="3279600"/>
                  <a:ext cx="2151720" cy="762120"/>
                </a:xfrm>
                <a:prstGeom prst="rect">
                  <a:avLst/>
                </a:prstGeom>
                <a:solidFill>
                  <a:srgbClr val="0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400" spc="-1" strike="noStrike">
                      <a:solidFill>
                        <a:srgbClr val="ffffff"/>
                      </a:solidFill>
                      <a:latin typeface="Arial"/>
                    </a:rPr>
                    <a:t>ESTRUCTUR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4" name=""/>
              <p:cNvSpPr txBox="1"/>
              <p:nvPr/>
            </p:nvSpPr>
            <p:spPr>
              <a:xfrm>
                <a:off x="3524400" y="1373040"/>
                <a:ext cx="2811240" cy="87768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9900"/>
                    </a:solidFill>
                    <a:latin typeface="Arial Black"/>
                  </a:rPr>
                  <a:t>CULTURA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9900"/>
                  </a:solidFill>
                  <a:latin typeface="Arial Black"/>
                  <a:ea typeface="Arial Black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8245-731C-48D6-BEE1-067C30C416D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420840" y="228600"/>
            <a:ext cx="8301960" cy="5638680"/>
            <a:chOff x="420840" y="228600"/>
            <a:chExt cx="8301960" cy="5638680"/>
          </a:xfrm>
        </p:grpSpPr>
        <p:sp>
          <p:nvSpPr>
            <p:cNvPr id="106" name=""/>
            <p:cNvSpPr/>
            <p:nvPr/>
          </p:nvSpPr>
          <p:spPr>
            <a:xfrm>
              <a:off x="685800" y="228600"/>
              <a:ext cx="77724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800" spc="-1" strike="noStrike">
                  <a:solidFill>
                    <a:srgbClr val="000000"/>
                  </a:solidFill>
                  <a:latin typeface="Arial"/>
                </a:rPr>
                <a:t>Gestión = Planificación + Contro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20840" y="1752480"/>
              <a:ext cx="8301960" cy="4114800"/>
              <a:chOff x="420840" y="1752480"/>
              <a:chExt cx="8301960" cy="4114800"/>
            </a:xfrm>
          </p:grpSpPr>
          <p:grpSp>
            <p:nvGrpSpPr>
              <p:cNvPr id="108" name=""/>
              <p:cNvGrpSpPr/>
              <p:nvPr/>
            </p:nvGrpSpPr>
            <p:grpSpPr>
              <a:xfrm>
                <a:off x="2626920" y="3504960"/>
                <a:ext cx="6095880" cy="2362320"/>
                <a:chOff x="2626920" y="3504960"/>
                <a:chExt cx="6095880" cy="236232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2626920" y="3504960"/>
                  <a:ext cx="6095880" cy="2362320"/>
                </a:xfrm>
                <a:prstGeom prst="rect">
                  <a:avLst/>
                </a:prstGeom>
                <a:solidFill>
                  <a:srgbClr val="ffcccc"/>
                </a:solidFill>
                <a:ln w="25560">
                  <a:solidFill>
                    <a:srgbClr val="77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6209640" y="5486040"/>
                  <a:ext cx="19972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800000"/>
                      </a:solidFill>
                      <a:latin typeface="Arial"/>
                    </a:rPr>
                    <a:t>Sistema  Contro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420840" y="1752480"/>
                <a:ext cx="6016320" cy="2362320"/>
                <a:chOff x="420840" y="1752480"/>
                <a:chExt cx="6016320" cy="236232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420840" y="1752480"/>
                  <a:ext cx="6016320" cy="2362320"/>
                </a:xfrm>
                <a:prstGeom prst="rect">
                  <a:avLst/>
                </a:prstGeom>
                <a:solidFill>
                  <a:srgbClr val="ccffff"/>
                </a:solidFill>
                <a:ln w="25560">
                  <a:solidFill>
                    <a:srgbClr val="00005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495360" y="1828800"/>
                  <a:ext cx="24012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66"/>
                      </a:solidFill>
                      <a:latin typeface="Arial"/>
                    </a:rPr>
                    <a:t>Sistema Planificación</a:t>
                  </a:r>
                  <a:r>
                    <a:rPr b="1" i="1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4" name=""/>
              <p:cNvSpPr/>
              <p:nvPr/>
            </p:nvSpPr>
            <p:spPr>
              <a:xfrm>
                <a:off x="2626920" y="3504960"/>
                <a:ext cx="3809880" cy="609840"/>
              </a:xfrm>
              <a:prstGeom prst="rect">
                <a:avLst/>
              </a:prstGeom>
              <a:solidFill>
                <a:srgbClr val="ccccff"/>
              </a:solidFill>
              <a:ln w="25560">
                <a:solidFill>
                  <a:srgbClr val="66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2629080" y="2133720"/>
              <a:ext cx="3886200" cy="347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Estrategi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Programas </a:t>
              </a: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Presupuestos, Indicador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Arial"/>
                </a:rPr>
                <a:t>Operación, Seguimien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Arial"/>
                </a:rPr>
                <a:t>Evaluación de  Desempeñ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Arial"/>
                </a:rPr>
                <a:t>Análisis y Diagnósti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8E6C-DAE8-49DD-8DA2-5FA74B735C9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Presupuesto multianual</a:t>
            </a:r>
            <a:br>
              <a:rPr sz="2800"/>
            </a:b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por nego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Año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2004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2005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2006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gresos por 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Ga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Remune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Adquisi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Servicios exter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ver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fraestruc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Tecnolo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0898-6940-4F23-A8AE-42C9D24D964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Indicadores y me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19040" y="160020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Valores en el año:</a:t>
            </a: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2004</a:t>
            </a: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2005</a:t>
            </a: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2006</a:t>
            </a: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dicadores negocio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dicadores negocio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dicadores comer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dicadores adquisi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dicadores ope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dicadores tecnológ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dicadores financi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dicadores rrh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443E-18DC-4D4D-8E17-20D53DF5039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580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800000"/>
                </a:solidFill>
                <a:latin typeface="Arial"/>
              </a:rPr>
              <a:t>Organ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5360" y="1523880"/>
            <a:ext cx="815328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Conjunto de individuos y grup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Que buscan lograr objetivos compart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A través de la división del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Integrados por procesos de decis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Ligados por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Con continuidad en el tiemp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AC38-E582-473A-9506-7EFEC95B233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094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660000"/>
                </a:solidFill>
                <a:latin typeface="Arial"/>
              </a:rPr>
              <a:t>Estructura organiz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95360" y="2209680"/>
            <a:ext cx="81532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Asigna responsabilidad a pers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Entrega atribuciones y recursos necesarios para llevarlas a ca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La estructura sigue a la estrate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rincipio de conting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2796-D71C-4CC4-AE34-F5C5E752882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3T19:55:39Z</dcterms:created>
  <dc:creator>Alvaro de la Barra G.</dc:creator>
  <dc:description/>
  <dc:language>en-US</dc:language>
  <cp:lastModifiedBy>Alvaro de la Barra G.</cp:lastModifiedBy>
  <cp:lastPrinted>2004-10-19T15:49:28Z</cp:lastPrinted>
  <dcterms:modified xsi:type="dcterms:W3CDTF">2004-12-02T21:36:54Z</dcterms:modified>
  <cp:revision>82</cp:revision>
  <dc:subject/>
  <dc:title>Sin título de diapositiva</dc:title>
</cp:coreProperties>
</file>