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72D8-889C-4A1D-AB83-939550729F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5A8-F262-45BF-9B73-44876BC8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960-58F3-483C-A2F0-55B51361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2D2-C8C3-440B-9D6B-D1473AE7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D4E-5548-4187-8A8D-A6A69FDD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647E-9C34-41FC-A3B9-E4B7A27C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AEF2-AACE-490E-84A3-D7DB5342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9986-E653-4998-A94A-8146F0B0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72AC-A372-49DD-B75A-6E2D31AE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7A16-ADE9-42DD-85CC-6391B092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A893-A468-48FF-9594-1B7A30FB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0879-D05D-4576-BA92-2954D1B7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125-B342-42F2-98E2-66E35555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147C-B185-4CF2-A20E-918B4DA8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8A4A-216B-4E7E-BE61-4DA34201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29D2-5593-4DC5-974B-D2EC32E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F1A0-F9DE-4CCF-A2D8-22CE1EB6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6E0F-2CDA-4945-B64E-1CAF0219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10D-FB0A-4C3C-BD18-1EA2468E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5DB-52B6-4C20-B1EA-49FA9D92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DAE-469C-4833-9FED-0592FA20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63F-5568-4424-9CF8-7F58ED5F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D2D-E7DC-4BD0-AF64-97FEB9DE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347-A286-4FA4-9B67-85E3386C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B25-92D2-4601-A7EC-54B781FA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BD32-4E1B-4C86-BA16-F857B6FA4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51C4-0739-43FA-9447-AF96E46E6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Pol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440-9D1E-474F-A6DC-6C4018F2F6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Cultura Organizacional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	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828800"/>
            <a:ext cx="8382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figuración de suposiciones básicas, inventadas, descubiertas o desarrolladas por u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el proceso de aprender a resolver su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adaptación exte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integración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ha funcionado tan bien, que se considera válida, y por lo tanto debe ser enseñada a nuevos miembros como la manera correcta de percibir, pensar y sentir en relación a es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FE7-ABE2-493F-BFF2-C1E2A33810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Estructura Presentación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1. Mision 2004 y Vision 2008 : destacar la brecha. Señalar principales hipótesis hechas sobre macro entorno y 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2. Las 5 principales estrategias y políticas y la inversión que necesitará cad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3. Oportunidades y amenazas externas que fundamentan las estrategias y pol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4. Fortalezas y debilidades competitivas e internas que justifican las estrategias y polí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5. Presupuesto agregado proyectado hasta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6. Indicadores de gestion para cada negocio y funcion. No mas de 10 en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BA2-67C3-4E19-AC06-884C842830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9040" y="990720"/>
            <a:ext cx="83059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hace planificación en los negoc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describen los negocio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areas funcional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0. ¿ Como se hacen estrategias en la empres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1.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 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Qué contienen estrategias y polític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0000"/>
                </a:solidFill>
                <a:latin typeface="Arial"/>
              </a:rPr>
              <a:t>12</a:t>
            </a:r>
            <a:r>
              <a:rPr b="0" i="1" lang="es-ES_tradnl" sz="2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660000"/>
                </a:solidFill>
                <a:latin typeface="Arial"/>
                <a:ea typeface="Times New Roman"/>
              </a:rPr>
              <a:t>¿ Como se evalúan las estrategia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contes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363-FB83-409F-A8A6-E97DE9475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676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implementar las estrateg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i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8D8-A680-4698-B05D-3402F0DCDE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68280"/>
            <a:ext cx="8183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22222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87360" y="915840"/>
            <a:ext cx="7284960" cy="5333760"/>
            <a:chOff x="1287360" y="915840"/>
            <a:chExt cx="7284960" cy="5333760"/>
          </a:xfrm>
        </p:grpSpPr>
        <p:sp>
          <p:nvSpPr>
            <p:cNvPr id="96" name=""/>
            <p:cNvSpPr/>
            <p:nvPr/>
          </p:nvSpPr>
          <p:spPr>
            <a:xfrm>
              <a:off x="1287360" y="915840"/>
              <a:ext cx="7284960" cy="53337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189160" y="1373040"/>
              <a:ext cx="5479560" cy="4306680"/>
              <a:chOff x="2189160" y="1373040"/>
              <a:chExt cx="5479560" cy="43066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89160" y="1603080"/>
                <a:ext cx="5479560" cy="4076640"/>
                <a:chOff x="2189160" y="1603080"/>
                <a:chExt cx="5479560" cy="4076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740400" y="1603080"/>
                  <a:ext cx="2377440" cy="1676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PLANIFICA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Y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2189160" y="4003560"/>
                  <a:ext cx="5479560" cy="1676160"/>
                  <a:chOff x="2189160" y="4003560"/>
                  <a:chExt cx="5479560" cy="16761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29092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FORMACIÓN Y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COMUNICACION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189160" y="400356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COMPENSACION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E INCENTIV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" name=""/>
                <p:cNvSpPr/>
                <p:nvPr/>
              </p:nvSpPr>
              <p:spPr>
                <a:xfrm>
                  <a:off x="3853080" y="3279600"/>
                  <a:ext cx="2151720" cy="76212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ESTRUC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 txBox="1"/>
              <p:nvPr/>
            </p:nvSpPr>
            <p:spPr>
              <a:xfrm>
                <a:off x="3524400" y="1373040"/>
                <a:ext cx="2811240" cy="877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00"/>
                    </a:solidFill>
                    <a:latin typeface="Arial Black"/>
                  </a:rPr>
                  <a:t>CULTURA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EB2-7AF7-4815-AF65-6CF3D60825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420840" y="228600"/>
            <a:ext cx="8301960" cy="5638680"/>
            <a:chOff x="420840" y="228600"/>
            <a:chExt cx="8301960" cy="5638680"/>
          </a:xfrm>
        </p:grpSpPr>
        <p:sp>
          <p:nvSpPr>
            <p:cNvPr id="106" name=""/>
            <p:cNvSpPr/>
            <p:nvPr/>
          </p:nvSpPr>
          <p:spPr>
            <a:xfrm>
              <a:off x="685800" y="22860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Gestión = Planificación + 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20840" y="1752480"/>
              <a:ext cx="8301960" cy="4114800"/>
              <a:chOff x="420840" y="1752480"/>
              <a:chExt cx="8301960" cy="41148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626920" y="3504960"/>
                <a:ext cx="6095880" cy="2362320"/>
                <a:chOff x="2626920" y="3504960"/>
                <a:chExt cx="6095880" cy="2362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626920" y="3504960"/>
                  <a:ext cx="6095880" cy="2362320"/>
                </a:xfrm>
                <a:prstGeom prst="rect">
                  <a:avLst/>
                </a:prstGeom>
                <a:solidFill>
                  <a:srgbClr val="ffcccc"/>
                </a:solidFill>
                <a:ln w="25560">
                  <a:solidFill>
                    <a:srgbClr val="77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209640" y="5486040"/>
                  <a:ext cx="199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800000"/>
                      </a:solidFill>
                      <a:latin typeface="Arial"/>
                    </a:rPr>
                    <a:t>Sistema 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20840" y="1752480"/>
                <a:ext cx="6016320" cy="2362320"/>
                <a:chOff x="420840" y="1752480"/>
                <a:chExt cx="6016320" cy="23623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20840" y="1752480"/>
                  <a:ext cx="6016320" cy="2362320"/>
                </a:xfrm>
                <a:prstGeom prst="rect">
                  <a:avLst/>
                </a:prstGeom>
                <a:solidFill>
                  <a:srgbClr val="ccffff"/>
                </a:solidFill>
                <a:ln w="25560">
                  <a:solidFill>
                    <a:srgbClr val="0000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95360" y="1828800"/>
                  <a:ext cx="2401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66"/>
                      </a:solidFill>
                      <a:latin typeface="Arial"/>
                    </a:rPr>
                    <a:t>Sistema Planificación</a:t>
                  </a:r>
                  <a:r>
                    <a:rPr b="1" i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2626920" y="3504960"/>
                <a:ext cx="3809880" cy="60984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66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629080" y="2133720"/>
              <a:ext cx="3886200" cy="34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ogramas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esupuestos, Indic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Operación, Segu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Evaluación de 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nálisis y Diagnó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D27-1204-47C8-B32B-15649DEC72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anual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AA3-435A-4539-8A9B-E069BB33DF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Valores en el año: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4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a50021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4D4-3334-4DAC-9BFB-CD8768221C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1523880"/>
            <a:ext cx="8153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junto de individuos y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Que buscan lograr objetivos compar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través de la división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dos por procesos de de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igados po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 continuidad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5CD-2473-4985-AB2B-F6D48E0406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Estructura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360" y="220968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signa responsabilidad a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trega atribuciones y recursos necesarios para llevarlas a c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estructura sigue a l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E7B-0AE7-45A2-BCBD-B1DE9FE225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 G.</cp:lastModifiedBy>
  <cp:lastPrinted>2004-10-19T15:49:28Z</cp:lastPrinted>
  <dcterms:modified xsi:type="dcterms:W3CDTF">2004-12-02T21:36:54Z</dcterms:modified>
  <cp:revision>82</cp:revision>
  <dc:subject/>
  <dc:title>Sin título de diapositiva</dc:title>
</cp:coreProperties>
</file>