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7E42-07A8-48F8-8007-661484DF50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A3E-9542-43B5-92B7-717D9568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562-ACAF-42A3-B7CF-C7C09128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675-FA0B-4A7F-8B66-EB02F8C6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BD7-B094-42B9-9348-5D63B650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C42B-7530-4FAF-B55E-E3416C96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A8B4-8DC5-4C26-A560-2D131250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5E8C-062E-465F-AAE6-8F524645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5182-115B-48B7-B9B2-8C6C42D5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2B4B-F8DB-428E-BCEA-C222C5AA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4C1E-B933-4FE0-9082-793D7A6A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F7E-8F94-4335-BE33-E69D9EA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13B-C7A7-41A4-AC1D-366BED14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4DA-767F-47CC-8EE5-7BB3375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4BFD-2311-4090-8D9E-B1868CEA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19AB-06DA-4C37-9FFF-6C7404A4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4063-7118-4DD3-B416-3FC4042C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B1A3-C1F5-4596-A7FA-53715143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868-75D4-41F0-BB94-1383CFA2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C4D-20F4-4E9A-A47A-6AE3C337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3FE-5090-400A-BB72-073946CF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18E-192F-4F1D-9B05-77FDE0F7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FBF-5838-427E-A087-BE6BDA3D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26A-9253-496D-BEBA-D423827C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516-1876-4A6E-A138-A1D8516F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9AE6-C546-469A-AC43-18DDBC25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828B-5B4A-4B5C-99DB-0B6EC0C84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64A-47C9-4B66-B331-2CA04F0042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828800"/>
            <a:ext cx="8382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se considera vá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1D7-56BA-4376-95D2-248A344A79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0CC-3813-4261-9150-42F9FD24D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040" y="990720"/>
            <a:ext cx="83059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909-5C93-46C6-B646-2F387C52E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69C-B18C-49BF-AF32-774CE36A8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2222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87360" y="915840"/>
            <a:ext cx="7284960" cy="5333760"/>
            <a:chOff x="1287360" y="915840"/>
            <a:chExt cx="7284960" cy="5333760"/>
          </a:xfrm>
        </p:grpSpPr>
        <p:sp>
          <p:nvSpPr>
            <p:cNvPr id="96" name=""/>
            <p:cNvSpPr/>
            <p:nvPr/>
          </p:nvSpPr>
          <p:spPr>
            <a:xfrm>
              <a:off x="1287360" y="91584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189160" y="1373040"/>
              <a:ext cx="5479560" cy="4306680"/>
              <a:chOff x="2189160" y="1373040"/>
              <a:chExt cx="5479560" cy="43066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89160" y="1603080"/>
                <a:ext cx="5479560" cy="4076640"/>
                <a:chOff x="2189160" y="1603080"/>
                <a:chExt cx="5479560" cy="4076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740400" y="160308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PLANIFICA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2189160" y="4003560"/>
                  <a:ext cx="5479560" cy="1676160"/>
                  <a:chOff x="2189160" y="4003560"/>
                  <a:chExt cx="5479560" cy="16761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29092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18916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3853080" y="327960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 txBox="1"/>
              <p:nvPr/>
            </p:nvSpPr>
            <p:spPr>
              <a:xfrm>
                <a:off x="3524400" y="137304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12C-0A3D-4541-8271-072F4DC898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20840" y="228600"/>
            <a:ext cx="8301960" cy="5638680"/>
            <a:chOff x="420840" y="228600"/>
            <a:chExt cx="8301960" cy="5638680"/>
          </a:xfrm>
        </p:grpSpPr>
        <p:sp>
          <p:nvSpPr>
            <p:cNvPr id="106" name=""/>
            <p:cNvSpPr/>
            <p:nvPr/>
          </p:nvSpPr>
          <p:spPr>
            <a:xfrm>
              <a:off x="685800" y="22860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Gestión = Planificación + 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20840" y="1752480"/>
              <a:ext cx="8301960" cy="4114800"/>
              <a:chOff x="420840" y="1752480"/>
              <a:chExt cx="8301960" cy="41148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626920" y="3504960"/>
                <a:ext cx="6095880" cy="2362320"/>
                <a:chOff x="2626920" y="3504960"/>
                <a:chExt cx="6095880" cy="2362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626920" y="3504960"/>
                  <a:ext cx="6095880" cy="236232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77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209640" y="5486040"/>
                  <a:ext cx="19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800000"/>
                      </a:solidFill>
                      <a:latin typeface="Arial"/>
                    </a:rPr>
                    <a:t>Sistema 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0840" y="1752480"/>
                <a:ext cx="6016320" cy="2362320"/>
                <a:chOff x="420840" y="1752480"/>
                <a:chExt cx="6016320" cy="23623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20840" y="1752480"/>
                  <a:ext cx="6016320" cy="2362320"/>
                </a:xfrm>
                <a:prstGeom prst="rect">
                  <a:avLst/>
                </a:prstGeom>
                <a:solidFill>
                  <a:srgbClr val="ccffff"/>
                </a:solidFill>
                <a:ln w="25560">
                  <a:solidFill>
                    <a:srgbClr val="0000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95360" y="1828800"/>
                  <a:ext cx="2401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66"/>
                      </a:solidFill>
                      <a:latin typeface="Arial"/>
                    </a:rPr>
                    <a:t>Sistema Planificación</a:t>
                  </a: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2626920" y="3504960"/>
                <a:ext cx="3809880" cy="60984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66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629080" y="2133720"/>
              <a:ext cx="3886200" cy="34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Operación, Segu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valuación de 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nálisis y Diagnó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4DA-89B5-418F-A2E9-793011FE95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E10-A21B-4165-8259-C274BAEDE9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FC2-12BE-42B2-B236-30179F9079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1523880"/>
            <a:ext cx="8153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133-CD4C-4189-8DBA-CA3F250666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360" y="22096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E86-2D1A-4991-AA8B-2DFDF3154A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9T15:49:28Z</cp:lastPrinted>
  <dcterms:modified xsi:type="dcterms:W3CDTF">2004-12-02T21:36:54Z</dcterms:modified>
  <cp:revision>82</cp:revision>
  <dc:subject/>
  <dc:title>Sin título de diapositiva</dc:title>
</cp:coreProperties>
</file>