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6FB3-72EA-4E7D-BFCA-ABD24DDA7B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E9B-0179-49A8-A3CD-58F94F7A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8BA-8CDC-4DB0-87F3-F4315BA1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69C-8557-4C7D-ABBF-03ADB043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0B0-09A8-4ADC-AC49-7580823C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4F26-562B-43A9-99C6-7D675739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DB58-CEB3-4DA8-B6B2-CA7B88C5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E799-A447-4341-B11A-24A14150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CC54-5DAA-44C7-9E21-EF9304CC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EF96-57A0-4986-8DC9-5BB1208D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87AB-775E-4921-8FE0-867F6D77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15E9-4B06-48D2-889A-F72E1583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EA1-BA22-42A6-BEC9-93B75921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D3BB-7DF7-428B-B8E1-2D4F65E0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727A-162C-4757-83ED-7E95BD07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3896-7DF7-4552-942B-F7DA2B3D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779-E925-4CF1-9B79-A1C34B26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C7F3-54DF-4E2C-8B8D-D064DA2E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84E-AF8A-4901-BBC5-179D5E6C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1E0-C338-418D-A28E-E13B76DD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CEA-4D04-4E7E-A4AC-815CB914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25E-9F62-417D-B725-EEEAB34B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5DE-1402-401B-930D-98C24C4B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12E-BB77-4944-A0BA-6096B36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799-7FA2-4701-A8D5-004EE9B0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6CDB-37E1-4872-8632-0C0F73CBD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F75C-5FD4-479A-9D9E-678439456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2209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Fundamentos de Gestión Estratégica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EA5-4136-44E6-B7D0-9215F4A160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 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BBB-0C28-4182-98C5-A98701F73F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2362320"/>
            <a:ext cx="761976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4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Cual es la responsabilidad del ejecutivo y como evalúa las estrategi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2560" y="48276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EF1-F92D-45D5-A411-6A5B755F33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Responsabilidad del gerente o di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828800"/>
            <a:ext cx="77724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porcionar valor a los clientes con la combinación adecuada de calidad de productos o servicios y de costo de recursos utiliz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ximizar el valor del patrimonio del dueño en el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ustentar ventaja competitiva, asegurando el compromiso de todos los “stakeholder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iudadanía corporativa ética y comprometida con las comunidades en las que actú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065-6BF9-4976-A6A1-74AFFAB357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ximizar el valor del patrimonio de los d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alor medid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valor presente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flujos futuros de utilidades reti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contadas a costo alternativo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odelo simplificado de valor en 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 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1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UTJ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N     </a:t>
            </a: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</a:t>
            </a:r>
            <a:r>
              <a:rPr b="1" i="1" lang="es-ES_tradnl" sz="2400" spc="-1" strike="noStrike" baseline="4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J</a:t>
            </a:r>
            <a:r>
              <a:rPr b="1" i="1" lang="es-ES_tradnl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alor de mercad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T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utilidades añ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808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Responsabilidad Respecto al Du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B97-634D-4380-9C4C-A5CBDE2EC9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Poder: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capacidad de individuos y grupos de influir mas que otros en las estrategi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-1992600" y="107640"/>
            <a:ext cx="13281120" cy="7737480"/>
            <a:chOff x="-1992600" y="107640"/>
            <a:chExt cx="13281120" cy="7737480"/>
          </a:xfrm>
        </p:grpSpPr>
        <p:sp>
          <p:nvSpPr>
            <p:cNvPr id="135" name=""/>
            <p:cNvSpPr/>
            <p:nvPr/>
          </p:nvSpPr>
          <p:spPr>
            <a:xfrm>
              <a:off x="3152520" y="3427920"/>
              <a:ext cx="2190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Gerenci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3920" y="216720"/>
              <a:ext cx="6204600" cy="413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61" y="21490"/>
                  </a:moveTo>
                  <a:arcTo wR="10800" hR="10800" stAng="5891565" swAng="4908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261" y="21490"/>
                  </a:moveTo>
                  <a:arcTo wR="10800" hR="10800" stAng="5891565" swAng="4908435"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1640" y="3598200"/>
              <a:ext cx="6311880" cy="374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8920" y="149400"/>
              <a:ext cx="6271560" cy="295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9966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83240" y="892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270000" y="4409640"/>
              <a:ext cx="6365520" cy="343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873000" y="3264480"/>
              <a:ext cx="4676400" cy="425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92600" y="107640"/>
              <a:ext cx="5950440" cy="369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119120" y="1791720"/>
              <a:ext cx="1116360" cy="1063080"/>
              <a:chOff x="4119120" y="1791720"/>
              <a:chExt cx="1116360" cy="1063080"/>
            </a:xfrm>
          </p:grpSpPr>
          <p:sp>
            <p:nvSpPr>
              <p:cNvPr id="144" name=""/>
              <p:cNvSpPr/>
              <p:nvPr/>
            </p:nvSpPr>
            <p:spPr>
              <a:xfrm>
                <a:off x="4119120" y="1791720"/>
                <a:ext cx="1116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800000"/>
                    </a:solidFill>
                    <a:latin typeface="Arial"/>
                  </a:rPr>
                  <a:t>Dueñ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92960" y="2200320"/>
                <a:ext cx="0" cy="65448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806440" y="2691720"/>
              <a:ext cx="1675440" cy="899640"/>
              <a:chOff x="5806440" y="2691720"/>
              <a:chExt cx="1675440" cy="899640"/>
            </a:xfrm>
          </p:grpSpPr>
          <p:sp>
            <p:nvSpPr>
              <p:cNvPr id="147" name=""/>
              <p:cNvSpPr/>
              <p:nvPr/>
            </p:nvSpPr>
            <p:spPr>
              <a:xfrm>
                <a:off x="5806440" y="2691720"/>
                <a:ext cx="1675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663300"/>
                    </a:solidFill>
                    <a:latin typeface="Arial"/>
                  </a:rPr>
                  <a:t>Comun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887440" y="3100680"/>
                <a:ext cx="482400" cy="4906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567760" y="4163760"/>
              <a:ext cx="1844640" cy="938880"/>
              <a:chOff x="5567760" y="4163760"/>
              <a:chExt cx="1844640" cy="938880"/>
            </a:xfrm>
          </p:grpSpPr>
          <p:sp>
            <p:nvSpPr>
              <p:cNvPr id="150" name=""/>
              <p:cNvSpPr/>
              <p:nvPr/>
            </p:nvSpPr>
            <p:spPr>
              <a:xfrm>
                <a:off x="5567760" y="4736520"/>
                <a:ext cx="184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4c00"/>
                    </a:solidFill>
                    <a:latin typeface="Arial"/>
                  </a:rPr>
                  <a:t>Proveedor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5646240" y="4163760"/>
                <a:ext cx="482400" cy="490680"/>
              </a:xfrm>
              <a:prstGeom prst="line">
                <a:avLst/>
              </a:prstGeom>
              <a:ln w="76320">
                <a:solidFill>
                  <a:srgbClr val="004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957840" y="4736520"/>
              <a:ext cx="1015560" cy="1066680"/>
              <a:chOff x="3957840" y="4736520"/>
              <a:chExt cx="1015560" cy="1066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957840" y="5437080"/>
                <a:ext cx="1015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220466"/>
                    </a:solidFill>
                    <a:latin typeface="Arial"/>
                  </a:rPr>
                  <a:t>Est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4517280" y="4736520"/>
                <a:ext cx="0" cy="630360"/>
              </a:xfrm>
              <a:prstGeom prst="line">
                <a:avLst/>
              </a:prstGeom>
              <a:ln w="76320">
                <a:solidFill>
                  <a:srgbClr val="220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465560" y="2200680"/>
              <a:ext cx="1607760" cy="981360"/>
              <a:chOff x="1465560" y="2200680"/>
              <a:chExt cx="1607760" cy="981360"/>
            </a:xfrm>
          </p:grpSpPr>
          <p:sp>
            <p:nvSpPr>
              <p:cNvPr id="156" name=""/>
              <p:cNvSpPr/>
              <p:nvPr/>
            </p:nvSpPr>
            <p:spPr>
              <a:xfrm>
                <a:off x="1465560" y="2200680"/>
                <a:ext cx="13845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990000"/>
                    </a:solidFill>
                    <a:latin typeface="Arial"/>
                  </a:rPr>
                  <a:t>Client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10640" y="2609280"/>
                <a:ext cx="562680" cy="57276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465560" y="4000680"/>
              <a:ext cx="1913400" cy="1022040"/>
              <a:chOff x="1465560" y="4000680"/>
              <a:chExt cx="1913400" cy="1022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465560" y="4656600"/>
                <a:ext cx="191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6e0000"/>
                    </a:solidFill>
                    <a:latin typeface="Arial"/>
                  </a:rPr>
                  <a:t>Trabajador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510640" y="4000680"/>
                <a:ext cx="562320" cy="572400"/>
              </a:xfrm>
              <a:prstGeom prst="line">
                <a:avLst/>
              </a:prstGeom>
              <a:ln w="76320">
                <a:solidFill>
                  <a:srgbClr val="6a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6E3-CC06-4555-8B71-4DD0958F72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130-A058-4A85-8AE4-EA8596F7C3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222222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87360" y="915840"/>
            <a:ext cx="7284960" cy="5333760"/>
            <a:chOff x="1287360" y="915840"/>
            <a:chExt cx="7284960" cy="5333760"/>
          </a:xfrm>
        </p:grpSpPr>
        <p:sp>
          <p:nvSpPr>
            <p:cNvPr id="165" name=""/>
            <p:cNvSpPr/>
            <p:nvPr/>
          </p:nvSpPr>
          <p:spPr>
            <a:xfrm>
              <a:off x="1287360" y="91584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89160" y="1373040"/>
              <a:ext cx="5479560" cy="4306680"/>
              <a:chOff x="2189160" y="1373040"/>
              <a:chExt cx="5479560" cy="43066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2189160" y="1603080"/>
                <a:ext cx="5479560" cy="4076640"/>
                <a:chOff x="2189160" y="1603080"/>
                <a:chExt cx="5479560" cy="40766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40400" y="160308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Planifica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2189160" y="4003560"/>
                  <a:ext cx="5479560" cy="1676160"/>
                  <a:chOff x="2189160" y="4003560"/>
                  <a:chExt cx="5479560" cy="167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29092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18916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3853080" y="327960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 txBox="1"/>
              <p:nvPr/>
            </p:nvSpPr>
            <p:spPr>
              <a:xfrm>
                <a:off x="3524400" y="137304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FA1-13FC-435A-8AE4-0CB1248873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estión = Planificación +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0840" y="1752480"/>
            <a:ext cx="8301960" cy="4114800"/>
            <a:chOff x="420840" y="1752480"/>
            <a:chExt cx="8301960" cy="4114800"/>
          </a:xfrm>
        </p:grpSpPr>
        <p:grpSp>
          <p:nvGrpSpPr>
            <p:cNvPr id="176" name=""/>
            <p:cNvGrpSpPr/>
            <p:nvPr/>
          </p:nvGrpSpPr>
          <p:grpSpPr>
            <a:xfrm>
              <a:off x="420840" y="1752480"/>
              <a:ext cx="8301960" cy="4114800"/>
              <a:chOff x="420840" y="1752480"/>
              <a:chExt cx="8301960" cy="4114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626920" y="3504960"/>
                <a:ext cx="6095880" cy="2362320"/>
                <a:chOff x="2626920" y="3504960"/>
                <a:chExt cx="6095880" cy="23623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626920" y="3504960"/>
                  <a:ext cx="6095880" cy="236232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77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209640" y="5486040"/>
                  <a:ext cx="19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800000"/>
                      </a:solidFill>
                      <a:latin typeface="Arial"/>
                    </a:rPr>
                    <a:t>Sistema 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20840" y="1752480"/>
                <a:ext cx="6016320" cy="2362320"/>
                <a:chOff x="420840" y="1752480"/>
                <a:chExt cx="6016320" cy="23623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20840" y="1752480"/>
                  <a:ext cx="6016320" cy="2362320"/>
                </a:xfrm>
                <a:prstGeom prst="rect">
                  <a:avLst/>
                </a:prstGeom>
                <a:solidFill>
                  <a:srgbClr val="ccffff"/>
                </a:solidFill>
                <a:ln w="25560">
                  <a:solidFill>
                    <a:srgbClr val="0000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95360" y="1828800"/>
                  <a:ext cx="2401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66"/>
                      </a:solidFill>
                      <a:latin typeface="Arial"/>
                    </a:rPr>
                    <a:t>Sistema Planificación</a:t>
                  </a: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2626920" y="3504960"/>
                <a:ext cx="3809880" cy="60984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66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629080" y="2023920"/>
              <a:ext cx="3886200" cy="34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Operación, Segu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valuacion de 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nalisis y Diagno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DD4-88D3-43FC-8C87-3B38AED83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523880"/>
            <a:ext cx="8153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AA9-2512-42B1-B641-83C92F7407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360" y="22096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3C0-BFE3-4151-A01E-BF3229E3A3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C5F-6FB7-453D-A9C7-943620ED8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828800"/>
            <a:ext cx="8382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se considera vá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999-5CC6-488C-9595-1D7CF52460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46200" y="1219320"/>
            <a:ext cx="7851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222-E2A7-44E2-A717-8B4E37E69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1752480"/>
            <a:ext cx="83822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4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son y que contienen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2560" y="431640"/>
            <a:ext cx="7772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A9E-B6ED-494F-9959-B96EF4D1C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9040" y="6094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íticas en negocios y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trategi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Directrices a la acción prolongada en el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Orientan la asignación de todos su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Polític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Orientaciones y directrices que rigen la actuación de una organización en una situación o campo 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435-9275-4C71-94BE-2E345ACE95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2560" y="558720"/>
            <a:ext cx="7772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Caracteristicas de estrategia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360" y="1828800"/>
            <a:ext cx="8153280" cy="411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nifiestan objetivos de largo plazo,  y definen prioridades para asignar lo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n liderazgo sustentable:  a la luz desafíos externos y sus potencialidades intern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finen  el desarrollo de competencias que le dan ventaja competitiva sostenib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licitan tareas para gestión superi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n acción de empresa, negocios y un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ñalan como  contribuirá a los “stakeholders”: quienes tienen derechos sobre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A24-5E7D-422B-A8EE-44BECF4ABA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¿Que contienen las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ada una contendrá programas.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 Estas son conductas y acciónes, coherentes entre sí, que explicit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ctividades a desarrollarse durante 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sultados medibles de es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que reflejen los logros estratégicos que se  persiguen con el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tos temporales: asocien valores de los indicadores a lo largo del horizo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unidades que desarrollarán l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s recursos operacionales y de inversión que serán necesarios a lo largo d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persona responsable de obtener los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655-6B9E-4031-AB89-44A58CB1C5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 estrategias a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3520" y="1066680"/>
            <a:ext cx="8076960" cy="4952880"/>
            <a:chOff x="533520" y="1066680"/>
            <a:chExt cx="8076960" cy="4952880"/>
          </a:xfrm>
        </p:grpSpPr>
        <p:sp>
          <p:nvSpPr>
            <p:cNvPr id="104" name=""/>
            <p:cNvSpPr/>
            <p:nvPr/>
          </p:nvSpPr>
          <p:spPr>
            <a:xfrm>
              <a:off x="533520" y="1066680"/>
              <a:ext cx="8076960" cy="761760"/>
            </a:xfrm>
            <a:prstGeom prst="rect">
              <a:avLst/>
            </a:prstGeom>
            <a:solidFill>
              <a:srgbClr val="0066cc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Arial"/>
                </a:rPr>
                <a:t>Estrategias y políticas corpor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23960" y="1828440"/>
              <a:ext cx="7696080" cy="4191120"/>
              <a:chOff x="723960" y="1828440"/>
              <a:chExt cx="7696080" cy="4191120"/>
            </a:xfrm>
          </p:grpSpPr>
          <p:sp>
            <p:nvSpPr>
              <p:cNvPr id="106" name=""/>
              <p:cNvSpPr/>
              <p:nvPr/>
            </p:nvSpPr>
            <p:spPr>
              <a:xfrm>
                <a:off x="5676840" y="3276360"/>
                <a:ext cx="6098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3429000" y="1828440"/>
                <a:ext cx="2286000" cy="3581640"/>
                <a:chOff x="3429000" y="1828440"/>
                <a:chExt cx="2286000" cy="3581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467160" y="2438280"/>
                  <a:ext cx="2209680" cy="9903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Corporativ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429000" y="3962160"/>
                  <a:ext cx="2286000" cy="14479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Corpora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572000" y="1828440"/>
                  <a:ext cx="0" cy="609840"/>
                </a:xfrm>
                <a:prstGeom prst="line">
                  <a:avLst/>
                </a:prstGeom>
                <a:ln w="7632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4572000" y="3428640"/>
                  <a:ext cx="0" cy="5335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134040" y="1828440"/>
                <a:ext cx="2286000" cy="4191120"/>
                <a:chOff x="6134040" y="1828440"/>
                <a:chExt cx="2286000" cy="41911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248160" y="3124080"/>
                  <a:ext cx="2057400" cy="91440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Funcion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134040" y="4571640"/>
                  <a:ext cx="2286000" cy="144792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Fun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27704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727704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23960" y="1828440"/>
                <a:ext cx="2286000" cy="4191120"/>
                <a:chOff x="723960" y="1828440"/>
                <a:chExt cx="2286000" cy="4191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838080" y="3124080"/>
                  <a:ext cx="2057400" cy="9144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De negoc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3960" y="4571640"/>
                  <a:ext cx="2286000" cy="144792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l nego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86696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186696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857680" y="3276360"/>
                <a:ext cx="6094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615-733C-42D3-A755-CFC8FAA3A1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260-B00F-40F6-AF65-F0995267B2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9T15:49:28Z</cp:lastPrinted>
  <dcterms:modified xsi:type="dcterms:W3CDTF">2004-12-02T21:36:30Z</dcterms:modified>
  <cp:revision>76</cp:revision>
  <dc:subject/>
  <dc:title>Sin título de diapositiva</dc:title>
</cp:coreProperties>
</file>