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861048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5840" y="861048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B30F-1C7D-4F15-B32D-ED3BE3BCE56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78C3-7D68-4A71-8395-9D98499DD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6837-5351-4412-B139-5645973A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4CF3-3723-4EE5-B286-A0C67228A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CB20-9D7B-4100-AAF9-5750912D3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AC46-BE31-4A33-926E-70CD0C04C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FB3D-FE9A-453F-AC7C-84E1E13C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6A1B-3A72-495A-8A63-0AD7478E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9CBE6-CAC0-4E9E-AAB4-A85BEFA0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D360-95B7-4480-AEF1-14D5FFB6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41934-C326-44F4-B0AE-77AC3F3A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C075-E216-416D-A8F4-4A744870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97FC-C05D-4471-BC4F-6AC1DAD8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7388-EE92-484B-998F-680BA94F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8361-0E8A-49B8-848D-6A495ADD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2FD02-57CC-4870-AD85-90F7EF83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B257-8165-4416-AEDC-8B825BDAC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8831-B8C0-4612-9873-C037E43A4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B92A-63CD-42A6-8A30-A831AD28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C1E4-540A-4D72-92E9-2951C5CD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BC68-E8F4-4B0E-8300-E9B03AB8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7114-15F9-4016-A1A6-66FBB295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9846-99A4-4BE2-9847-67131B23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6648-17F5-4D1D-BC23-41349F7F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0C9C-CC4B-43C1-A613-54313080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72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FB1E-A361-4C52-A506-FA656DAC7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3241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A957-2181-4DAB-90F7-F6EFC7EA3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2209680"/>
            <a:ext cx="77724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Fundamentos de Gestión Estratégica</a:t>
            </a:r>
            <a:br>
              <a:rPr sz="4000"/>
            </a:b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Alvaro de la Barra G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5562720"/>
            <a:ext cx="8305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77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000077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8AA4-9050-451C-90F4-8173D7E1328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Presupuesto multianual por 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Año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2005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2006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2007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gresos por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Ga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Remun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Adquisi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ervicios exter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ver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fra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Tecn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F502-051F-4249-8180-E09544842E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2362320"/>
            <a:ext cx="7619760" cy="31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</a:rPr>
              <a:t>12</a:t>
            </a:r>
            <a:r>
              <a:rPr b="0" i="1" lang="es-ES_tradnl" sz="2400" spc="-1" strike="noStrike">
                <a:solidFill>
                  <a:srgbClr val="660000"/>
                </a:solidFill>
                <a:latin typeface="Arial"/>
              </a:rPr>
              <a:t> </a:t>
            </a: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¿ Cual es la responsabilidad del ejecutivo y como evalúa las estrategia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2560" y="482760"/>
            <a:ext cx="77724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Estrategias y politicas </a:t>
            </a: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s a 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0516-69EA-4025-B012-485E4D41BD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228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660000"/>
                </a:solidFill>
                <a:latin typeface="Arial"/>
              </a:rPr>
              <a:t>Responsabilidad del gerente o direc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1828800"/>
            <a:ext cx="777240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Proporcionar valor a los clientes con la combinación adecuada de calidad de productos o servicios y de costo de recursos utiliz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Maximizar el valor del patrimonio del dueño en el largo pla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ustentar ventaja competitiva, asegurando el compromiso de todos los “stakeholders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Ciudadanía corporativa ética y comprometida con las comunidades en las que actú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E2D8-4E55-4BC1-9AF5-DC44EC2121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Maximizar el valor del patrimonio de los due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Valor medido en 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l valor presente pond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 flujos futuros de utilidades retir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scontadas a costo alternativo de patrimon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002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Modelo simplificado de valor en e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2200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M   =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      UT1     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+ …… +</a:t>
            </a:r>
            <a:r>
              <a:rPr b="1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     UTJ     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+ …… +</a:t>
            </a:r>
            <a:r>
              <a:rPr b="1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      UTN     </a:t>
            </a:r>
            <a:r>
              <a:rPr b="1" i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1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(1+TDP)</a:t>
            </a:r>
            <a:r>
              <a:rPr b="1" i="1" lang="es-ES_tradnl" sz="2400" spc="-1" strike="noStrike" baseline="30000">
                <a:solidFill>
                  <a:srgbClr val="000000"/>
                </a:solidFill>
                <a:latin typeface="Arial"/>
              </a:rPr>
              <a:t>^</a:t>
            </a:r>
            <a:r>
              <a:rPr b="1" i="1" lang="es-ES_tradnl" sz="2400" spc="-1" strike="noStrike" baseline="40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       (1+TDP)</a:t>
            </a:r>
            <a:r>
              <a:rPr b="1" i="1" lang="es-ES_tradnl" sz="2400" spc="-1" strike="noStrike" baseline="30000">
                <a:solidFill>
                  <a:srgbClr val="000000"/>
                </a:solidFill>
                <a:latin typeface="Arial"/>
              </a:rPr>
              <a:t>^J</a:t>
            </a:r>
            <a:r>
              <a:rPr b="1" i="1" lang="es-ES_tradnl" sz="2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               (1+TDP)</a:t>
            </a:r>
            <a:r>
              <a:rPr b="1" i="1" lang="es-ES_tradnl" sz="2400" spc="-1" strike="noStrike" baseline="30000">
                <a:solidFill>
                  <a:srgbClr val="000000"/>
                </a:solidFill>
                <a:latin typeface="Arial"/>
              </a:rPr>
              <a:t>^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: valor de mercado de las 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UTJ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: utilidades año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TDP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: tasa de descuento patrimon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380880"/>
            <a:ext cx="77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Responsabilidad Respecto al Due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9C77-7237-4B29-89C1-4EB2BB5DF5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s-ES_tradnl" sz="2800" spc="-1" strike="noStrike">
                <a:solidFill>
                  <a:srgbClr val="800000"/>
                </a:solidFill>
                <a:latin typeface="Arial"/>
              </a:rPr>
              <a:t>Poder: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 capacidad de individuos y grupos de influir mas que otros en las estrategia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-1992600" y="107640"/>
            <a:ext cx="13281120" cy="7737480"/>
            <a:chOff x="-1992600" y="107640"/>
            <a:chExt cx="13281120" cy="7737480"/>
          </a:xfrm>
        </p:grpSpPr>
        <p:sp>
          <p:nvSpPr>
            <p:cNvPr id="135" name=""/>
            <p:cNvSpPr/>
            <p:nvPr/>
          </p:nvSpPr>
          <p:spPr>
            <a:xfrm>
              <a:off x="3152520" y="3427920"/>
              <a:ext cx="2190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i="1" lang="es-ES_tradnl" sz="3200" spc="-1" strike="noStrike">
                  <a:solidFill>
                    <a:srgbClr val="000000"/>
                  </a:solidFill>
                  <a:latin typeface="Arial"/>
                </a:rPr>
                <a:t>Gerencia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83920" y="216720"/>
              <a:ext cx="6204600" cy="4132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261" y="21490"/>
                  </a:moveTo>
                  <a:arcTo wR="10800" hR="10800" stAng="5891565" swAng="4908435"/>
                  <a:lnTo>
                    <a:pt x="10800" y="10800"/>
                  </a:lnTo>
                  <a:close/>
                </a:path>
                <a:path fill="none" w="21600" h="21600">
                  <a:moveTo>
                    <a:pt x="9261" y="21490"/>
                  </a:moveTo>
                  <a:arcTo wR="10800" hR="10800" stAng="5891565" swAng="4908435"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61640" y="3598200"/>
              <a:ext cx="6311880" cy="374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78920" y="149400"/>
              <a:ext cx="6271560" cy="295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9966"/>
            </a:solidFill>
            <a:ln w="381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783240" y="8920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cc33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-270000" y="4409640"/>
              <a:ext cx="6365520" cy="343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-873000" y="3264480"/>
              <a:ext cx="4676400" cy="4253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-1992600" y="107640"/>
              <a:ext cx="5950440" cy="369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4119120" y="1791720"/>
              <a:ext cx="1116360" cy="1063080"/>
              <a:chOff x="4119120" y="1791720"/>
              <a:chExt cx="1116360" cy="1063080"/>
            </a:xfrm>
          </p:grpSpPr>
          <p:sp>
            <p:nvSpPr>
              <p:cNvPr id="144" name=""/>
              <p:cNvSpPr/>
              <p:nvPr/>
            </p:nvSpPr>
            <p:spPr>
              <a:xfrm>
                <a:off x="4119120" y="1791720"/>
                <a:ext cx="11163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800000"/>
                    </a:solidFill>
                    <a:latin typeface="Arial"/>
                  </a:rPr>
                  <a:t>Dueño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692960" y="2200320"/>
                <a:ext cx="0" cy="654480"/>
              </a:xfrm>
              <a:prstGeom prst="line">
                <a:avLst/>
              </a:prstGeom>
              <a:ln w="7632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5806440" y="2691720"/>
              <a:ext cx="1675440" cy="899640"/>
              <a:chOff x="5806440" y="2691720"/>
              <a:chExt cx="1675440" cy="899640"/>
            </a:xfrm>
          </p:grpSpPr>
          <p:sp>
            <p:nvSpPr>
              <p:cNvPr id="147" name=""/>
              <p:cNvSpPr/>
              <p:nvPr/>
            </p:nvSpPr>
            <p:spPr>
              <a:xfrm>
                <a:off x="5806440" y="2691720"/>
                <a:ext cx="1675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663300"/>
                    </a:solidFill>
                    <a:latin typeface="Arial"/>
                  </a:rPr>
                  <a:t>Comunida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5887440" y="3100680"/>
                <a:ext cx="482400" cy="49068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5567760" y="4163760"/>
              <a:ext cx="1844640" cy="938880"/>
              <a:chOff x="5567760" y="4163760"/>
              <a:chExt cx="1844640" cy="938880"/>
            </a:xfrm>
          </p:grpSpPr>
          <p:sp>
            <p:nvSpPr>
              <p:cNvPr id="150" name=""/>
              <p:cNvSpPr/>
              <p:nvPr/>
            </p:nvSpPr>
            <p:spPr>
              <a:xfrm>
                <a:off x="5567760" y="4736520"/>
                <a:ext cx="1844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004c00"/>
                    </a:solidFill>
                    <a:latin typeface="Arial"/>
                  </a:rPr>
                  <a:t>Proveedor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 flipV="1">
                <a:off x="5646240" y="4163760"/>
                <a:ext cx="482400" cy="490680"/>
              </a:xfrm>
              <a:prstGeom prst="line">
                <a:avLst/>
              </a:prstGeom>
              <a:ln w="76320">
                <a:solidFill>
                  <a:srgbClr val="004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957840" y="4736520"/>
              <a:ext cx="1015560" cy="1066680"/>
              <a:chOff x="3957840" y="4736520"/>
              <a:chExt cx="1015560" cy="1066680"/>
            </a:xfrm>
          </p:grpSpPr>
          <p:sp>
            <p:nvSpPr>
              <p:cNvPr id="153" name=""/>
              <p:cNvSpPr/>
              <p:nvPr/>
            </p:nvSpPr>
            <p:spPr>
              <a:xfrm>
                <a:off x="3957840" y="5437080"/>
                <a:ext cx="10155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220466"/>
                    </a:solidFill>
                    <a:latin typeface="Arial"/>
                  </a:rPr>
                  <a:t>Estad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4517280" y="4736520"/>
                <a:ext cx="0" cy="630360"/>
              </a:xfrm>
              <a:prstGeom prst="line">
                <a:avLst/>
              </a:prstGeom>
              <a:ln w="76320">
                <a:solidFill>
                  <a:srgbClr val="2204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1465560" y="2200680"/>
              <a:ext cx="1607760" cy="981360"/>
              <a:chOff x="1465560" y="2200680"/>
              <a:chExt cx="1607760" cy="981360"/>
            </a:xfrm>
          </p:grpSpPr>
          <p:sp>
            <p:nvSpPr>
              <p:cNvPr id="156" name=""/>
              <p:cNvSpPr/>
              <p:nvPr/>
            </p:nvSpPr>
            <p:spPr>
              <a:xfrm>
                <a:off x="1465560" y="2200680"/>
                <a:ext cx="138456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800" spc="-1" strike="noStrike">
                    <a:solidFill>
                      <a:srgbClr val="990000"/>
                    </a:solidFill>
                    <a:latin typeface="Arial"/>
                  </a:rPr>
                  <a:t>Cliente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510640" y="2609280"/>
                <a:ext cx="562680" cy="572760"/>
              </a:xfrm>
              <a:prstGeom prst="line">
                <a:avLst/>
              </a:prstGeom>
              <a:ln w="7632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1465560" y="4000680"/>
              <a:ext cx="1913400" cy="1022040"/>
              <a:chOff x="1465560" y="4000680"/>
              <a:chExt cx="1913400" cy="1022040"/>
            </a:xfrm>
          </p:grpSpPr>
          <p:sp>
            <p:nvSpPr>
              <p:cNvPr id="159" name=""/>
              <p:cNvSpPr/>
              <p:nvPr/>
            </p:nvSpPr>
            <p:spPr>
              <a:xfrm>
                <a:off x="1465560" y="4656600"/>
                <a:ext cx="19134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6e0000"/>
                    </a:solidFill>
                    <a:latin typeface="Arial"/>
                  </a:rPr>
                  <a:t>Trabajador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2510640" y="4000680"/>
                <a:ext cx="562320" cy="572400"/>
              </a:xfrm>
              <a:prstGeom prst="line">
                <a:avLst/>
              </a:prstGeom>
              <a:ln w="76320">
                <a:solidFill>
                  <a:srgbClr val="6a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07B8-40AF-4166-A450-4F80CA28B7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66760" y="2133720"/>
            <a:ext cx="86104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</a:rPr>
              <a:t>13 </a:t>
            </a: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¿ Que es necesario para implementar las estrategi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2560" y="625320"/>
            <a:ext cx="777240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Estrategias y politicas </a:t>
            </a: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s a 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7DAD-B6AF-432F-9E2A-9A35A4E097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04920" y="368280"/>
            <a:ext cx="81835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222222"/>
                </a:solidFill>
                <a:latin typeface="Arial"/>
              </a:rPr>
              <a:t>Implement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287360" y="915840"/>
            <a:ext cx="7284960" cy="5333760"/>
            <a:chOff x="1287360" y="915840"/>
            <a:chExt cx="7284960" cy="5333760"/>
          </a:xfrm>
        </p:grpSpPr>
        <p:sp>
          <p:nvSpPr>
            <p:cNvPr id="165" name=""/>
            <p:cNvSpPr/>
            <p:nvPr/>
          </p:nvSpPr>
          <p:spPr>
            <a:xfrm>
              <a:off x="1287360" y="915840"/>
              <a:ext cx="7284960" cy="5333760"/>
            </a:xfrm>
            <a:prstGeom prst="ellipse">
              <a:avLst/>
            </a:prstGeom>
            <a:solidFill>
              <a:srgbClr val="ffff66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189160" y="1373040"/>
              <a:ext cx="5479560" cy="4306680"/>
              <a:chOff x="2189160" y="1373040"/>
              <a:chExt cx="5479560" cy="430668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2189160" y="1603080"/>
                <a:ext cx="5479560" cy="4076640"/>
                <a:chOff x="2189160" y="1603080"/>
                <a:chExt cx="5479560" cy="40766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740400" y="1603080"/>
                  <a:ext cx="2377440" cy="16765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ffffff"/>
                      </a:solidFill>
                      <a:latin typeface="Arial"/>
                    </a:rPr>
                    <a:t>Planificacio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i="1" lang="es-ES_tradnl" sz="2000" spc="-1" strike="noStrike">
                      <a:solidFill>
                        <a:srgbClr val="ffffff"/>
                      </a:solidFill>
                      <a:latin typeface="Arial"/>
                    </a:rPr>
                    <a:t>y contro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2189160" y="4003560"/>
                  <a:ext cx="5479560" cy="1676160"/>
                  <a:chOff x="2189160" y="4003560"/>
                  <a:chExt cx="5479560" cy="167616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5290920" y="4003560"/>
                    <a:ext cx="2377800" cy="1676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2000" spc="-1" strike="noStrike">
                        <a:solidFill>
                          <a:srgbClr val="ffffff"/>
                        </a:solidFill>
                        <a:latin typeface="Arial"/>
                      </a:rPr>
                      <a:t>Información y 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2000" spc="-1" strike="noStrike">
                        <a:solidFill>
                          <a:srgbClr val="ffffff"/>
                        </a:solidFill>
                        <a:latin typeface="Arial"/>
                      </a:rPr>
                      <a:t>Comunicacione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2189160" y="4003560"/>
                    <a:ext cx="2377800" cy="1676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2000" spc="-1" strike="noStrike">
                        <a:solidFill>
                          <a:srgbClr val="ffffff"/>
                        </a:solidFill>
                        <a:latin typeface="Arial"/>
                      </a:rPr>
                      <a:t>Compensacione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2000" spc="-1" strike="noStrike">
                        <a:solidFill>
                          <a:srgbClr val="ffffff"/>
                        </a:solidFill>
                        <a:latin typeface="Arial"/>
                      </a:rPr>
                      <a:t>e incentivo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3853080" y="3279600"/>
                  <a:ext cx="2151720" cy="762120"/>
                </a:xfrm>
                <a:prstGeom prst="rect">
                  <a:avLst/>
                </a:prstGeom>
                <a:solidFill>
                  <a:srgbClr val="0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400" spc="-1" strike="noStrike">
                      <a:solidFill>
                        <a:srgbClr val="ffffff"/>
                      </a:solidFill>
                      <a:latin typeface="Arial"/>
                    </a:rPr>
                    <a:t>Estructur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" name=""/>
              <p:cNvSpPr txBox="1"/>
              <p:nvPr/>
            </p:nvSpPr>
            <p:spPr>
              <a:xfrm>
                <a:off x="3524400" y="1373040"/>
                <a:ext cx="2811240" cy="87768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9900"/>
                    </a:solidFill>
                    <a:latin typeface="Arial Black"/>
                  </a:rPr>
                  <a:t>CULTURA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00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2423-EF7E-4656-AE42-B60D526FF8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Gestión = Planificación +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20840" y="1752480"/>
            <a:ext cx="8301960" cy="4114800"/>
            <a:chOff x="420840" y="1752480"/>
            <a:chExt cx="8301960" cy="4114800"/>
          </a:xfrm>
        </p:grpSpPr>
        <p:grpSp>
          <p:nvGrpSpPr>
            <p:cNvPr id="176" name=""/>
            <p:cNvGrpSpPr/>
            <p:nvPr/>
          </p:nvGrpSpPr>
          <p:grpSpPr>
            <a:xfrm>
              <a:off x="420840" y="1752480"/>
              <a:ext cx="8301960" cy="4114800"/>
              <a:chOff x="420840" y="1752480"/>
              <a:chExt cx="8301960" cy="411480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2626920" y="3504960"/>
                <a:ext cx="6095880" cy="2362320"/>
                <a:chOff x="2626920" y="3504960"/>
                <a:chExt cx="6095880" cy="236232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2626920" y="3504960"/>
                  <a:ext cx="6095880" cy="2362320"/>
                </a:xfrm>
                <a:prstGeom prst="rect">
                  <a:avLst/>
                </a:prstGeom>
                <a:solidFill>
                  <a:srgbClr val="ffcccc"/>
                </a:solidFill>
                <a:ln w="25560">
                  <a:solidFill>
                    <a:srgbClr val="77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209640" y="5486040"/>
                  <a:ext cx="1997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800000"/>
                      </a:solidFill>
                      <a:latin typeface="Arial"/>
                    </a:rPr>
                    <a:t>Sistema  Contro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420840" y="1752480"/>
                <a:ext cx="6016320" cy="2362320"/>
                <a:chOff x="420840" y="1752480"/>
                <a:chExt cx="6016320" cy="23623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20840" y="1752480"/>
                  <a:ext cx="6016320" cy="2362320"/>
                </a:xfrm>
                <a:prstGeom prst="rect">
                  <a:avLst/>
                </a:prstGeom>
                <a:solidFill>
                  <a:srgbClr val="ccffff"/>
                </a:solidFill>
                <a:ln w="25560">
                  <a:solidFill>
                    <a:srgbClr val="0000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95360" y="1828800"/>
                  <a:ext cx="24012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66"/>
                      </a:solidFill>
                      <a:latin typeface="Arial"/>
                    </a:rPr>
                    <a:t>Sistema Planificación</a:t>
                  </a:r>
                  <a:r>
                    <a:rPr b="1" i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" name=""/>
              <p:cNvSpPr/>
              <p:nvPr/>
            </p:nvSpPr>
            <p:spPr>
              <a:xfrm>
                <a:off x="2626920" y="3504960"/>
                <a:ext cx="3809880" cy="609840"/>
              </a:xfrm>
              <a:prstGeom prst="rect">
                <a:avLst/>
              </a:prstGeom>
              <a:solidFill>
                <a:srgbClr val="ccccff"/>
              </a:solidFill>
              <a:ln w="25560">
                <a:solidFill>
                  <a:srgbClr val="66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2629080" y="2023920"/>
              <a:ext cx="3886200" cy="347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Estrategi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Programas 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Presupuestos, Indicado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Operación, Seguimi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Evaluacion de  Desempeñ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Analisis y Diagnost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AF41-5741-4459-8F0F-FA3E699CFD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58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800000"/>
                </a:solidFill>
                <a:latin typeface="Arial"/>
              </a:rPr>
              <a:t>Organ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95360" y="1523880"/>
            <a:ext cx="81532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onjunto de individuos y grup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Que buscan lograr objetivos compart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A través de la división del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ntegrados por procesos de decis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Ligados por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on continuidad en el tiemp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45F6-C668-48FA-A308-4661B3D2A5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6094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660000"/>
                </a:solidFill>
                <a:latin typeface="Arial"/>
              </a:rPr>
              <a:t>Estructura organiz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5360" y="2209680"/>
            <a:ext cx="81532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Asigna responsabilidad a pers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Entrega atribuciones y recursos necesarios para llevarlas a ca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La estructura sigue a la 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incipio de contin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C933-6C2E-4CF9-94D6-A2CA73210C0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800000"/>
                </a:solidFill>
                <a:latin typeface="Arial"/>
              </a:rPr>
              <a:t>Estructura Presentación F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1. Mision 2004 y Vision 2008 : destacar la brecha. Señalar principales hipótesis hechas sobre macro entorno y competi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2. Las 5 principales estrategias y políticas y la inversión que necesitará cad u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3. Oportunidades y amenazas externas que fundamentan las estrategias y polí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4. Fortalezas y debilidades competitivas e internas que justifican las estrategias y polític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5. Presupuesto agregado proyectado hasta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6. Indicadores de gestion para cada negocio y funcion. No mas de 10 en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22F5-2115-42D3-9B19-6952118467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s-ES_tradnl" sz="2800" spc="-1" strike="noStrike">
                <a:solidFill>
                  <a:srgbClr val="800000"/>
                </a:solidFill>
                <a:latin typeface="Arial"/>
              </a:rPr>
              <a:t>Cultura Organizacional</a:t>
            </a:r>
            <a:r>
              <a:rPr b="1" i="1" lang="es-ES_tradnl" sz="2800" spc="-1" strike="noStrike">
                <a:solidFill>
                  <a:srgbClr val="800000"/>
                </a:solidFill>
                <a:latin typeface="Arial"/>
              </a:rPr>
              <a:t>	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1828800"/>
            <a:ext cx="83822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Configuración de suposiciones básicas, inventadas, descubiertas o desarrolladas por un gru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n el proceso de aprender a resolver sus proble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 adaptación exter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 integración in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Que ha funcionado tan bien, que se considera válida, y por lo tanto debe ser enseñada a nuevos miembros como la manera correcta de percibir, pensar y sentir en relación a esos problem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B5B8-4459-4280-9B5B-6F05481B42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46200" y="1219320"/>
            <a:ext cx="7851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1.   ¿ Que es gestión estratégica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2.   ¿ Que son negocios y empresa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3.   ¿ Como se hace planificación en los negocio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4.   ¿ Como se describen los negocios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5.   ¿ Que son la misión y visión operacional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6.   ¿ Que es análisis de escenario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7   ¿ Que son Valor y Ventaja Competitiva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8.  ¿ Que es Diagnóstico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9.  ¿ Que son areas funcional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</a:rPr>
              <a:t>10. ¿ Como se hacen estrategias en la empresa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s contest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F9BF-D586-46AE-A466-EF3248EA02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0880" y="1752480"/>
            <a:ext cx="8382240" cy="37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</a:rPr>
              <a:t>11.</a:t>
            </a:r>
            <a:r>
              <a:rPr b="0" i="1" lang="es-ES_tradnl" sz="2400" spc="-1" strike="noStrike">
                <a:solidFill>
                  <a:srgbClr val="660000"/>
                </a:solidFill>
                <a:latin typeface="Arial"/>
              </a:rPr>
              <a:t>   </a:t>
            </a: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¿ Qué son y que contienen estrategias y política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2560" y="431640"/>
            <a:ext cx="777240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s a 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1BBA-68ED-46C7-B40C-93486980D2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19040" y="60948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Estrategias y políticas en negocios y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752480"/>
            <a:ext cx="77724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Estrategias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Directrices a la acción prolongada en el horizonte de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Orientan la asignación de todos sus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2400" spc="-1" strike="noStrike">
                <a:solidFill>
                  <a:srgbClr val="000066"/>
                </a:solidFill>
                <a:latin typeface="Arial"/>
              </a:rPr>
              <a:t>Política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66"/>
                </a:solidFill>
                <a:latin typeface="Arial"/>
              </a:rPr>
              <a:t>Orientaciones y directrices que rigen la actuación de una organización en una situación o campo determi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5A63-669D-4316-A52C-FF89FE8D5E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2560" y="558720"/>
            <a:ext cx="77724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a50021"/>
                </a:solidFill>
                <a:latin typeface="Arial"/>
              </a:rPr>
              <a:t>Caracteristicas de estrategias y polí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360" y="1828800"/>
            <a:ext cx="8153280" cy="41148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Manifiestan objetivos de largo plazo,  y definen prioridades para asignar los recurs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Buscan liderazgo sustentable:  a la luz desafíos externos y sus potencialidades intern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finen  el desarrollo de competencias que le dan ventaja competitiva sostenibl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xplicitan tareas para gestión superio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tegran acción de empresa, negocios y unidad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eñalan como  contribuirá a los “stakeholders”: quienes tienen derechos sobre el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D271-648F-47C3-81F0-3E4A2F94A0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¿Que contienen las estrategias y política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Cada una contendrá programas.</a:t>
            </a: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 Estas son conductas y acciónes, coherentes entre sí, que explicita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Actividades a desarrollarse durante el horizo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Resultados medibles de esas activida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Indicadores que reflejen los logros estratégicos que se  persiguen con el progra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Hitos temporales: asocien valores de los indicadores a lo largo del horizont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as unidades que desarrollarán las activida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os recursos operacionales y de inversión que serán necesarios a lo largo del horizo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as persona responsable de obtener los  resul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AD05-F0AA-47C0-9F2E-BF917D4523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De estrategias a presupue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33520" y="1066680"/>
            <a:ext cx="8076960" cy="4952880"/>
            <a:chOff x="533520" y="1066680"/>
            <a:chExt cx="8076960" cy="4952880"/>
          </a:xfrm>
        </p:grpSpPr>
        <p:sp>
          <p:nvSpPr>
            <p:cNvPr id="104" name=""/>
            <p:cNvSpPr/>
            <p:nvPr/>
          </p:nvSpPr>
          <p:spPr>
            <a:xfrm>
              <a:off x="533520" y="1066680"/>
              <a:ext cx="8076960" cy="761760"/>
            </a:xfrm>
            <a:prstGeom prst="rect">
              <a:avLst/>
            </a:prstGeom>
            <a:solidFill>
              <a:srgbClr val="0066cc"/>
            </a:solidFill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800" spc="-1" strike="noStrike">
                  <a:solidFill>
                    <a:srgbClr val="ffffff"/>
                  </a:solidFill>
                  <a:latin typeface="Arial"/>
                </a:rPr>
                <a:t>Estrategias y políticas corporativ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723960" y="1828440"/>
              <a:ext cx="7696080" cy="4191120"/>
              <a:chOff x="723960" y="1828440"/>
              <a:chExt cx="7696080" cy="4191120"/>
            </a:xfrm>
          </p:grpSpPr>
          <p:sp>
            <p:nvSpPr>
              <p:cNvPr id="106" name=""/>
              <p:cNvSpPr/>
              <p:nvPr/>
            </p:nvSpPr>
            <p:spPr>
              <a:xfrm>
                <a:off x="5676840" y="3276360"/>
                <a:ext cx="60984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" name=""/>
              <p:cNvGrpSpPr/>
              <p:nvPr/>
            </p:nvGrpSpPr>
            <p:grpSpPr>
              <a:xfrm>
                <a:off x="3429000" y="1828440"/>
                <a:ext cx="2286000" cy="3581640"/>
                <a:chOff x="3429000" y="1828440"/>
                <a:chExt cx="2286000" cy="358164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3467160" y="2438280"/>
                  <a:ext cx="2209680" cy="990360"/>
                </a:xfrm>
                <a:prstGeom prst="rect">
                  <a:avLst/>
                </a:prstGeom>
                <a:solidFill>
                  <a:srgbClr val="ff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Programa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Corporativo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429000" y="3962160"/>
                  <a:ext cx="2286000" cy="1447920"/>
                </a:xfrm>
                <a:prstGeom prst="rect">
                  <a:avLst/>
                </a:prstGeom>
                <a:solidFill>
                  <a:srgbClr val="ff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Presupuestos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Multianu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e indicador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De contro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Corporativ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4572000" y="1828440"/>
                  <a:ext cx="0" cy="609840"/>
                </a:xfrm>
                <a:prstGeom prst="line">
                  <a:avLst/>
                </a:prstGeom>
                <a:ln w="7632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flipV="1">
                  <a:off x="4572000" y="3428640"/>
                  <a:ext cx="0" cy="533520"/>
                </a:xfrm>
                <a:prstGeom prst="line">
                  <a:avLst/>
                </a:prstGeom>
                <a:ln w="57240">
                  <a:solidFill>
                    <a:srgbClr val="ff66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6134040" y="1828440"/>
                <a:ext cx="2286000" cy="4191120"/>
                <a:chOff x="6134040" y="1828440"/>
                <a:chExt cx="2286000" cy="419112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6248160" y="3124080"/>
                  <a:ext cx="2057400" cy="914400"/>
                </a:xfrm>
                <a:prstGeom prst="rect">
                  <a:avLst/>
                </a:prstGeom>
                <a:solidFill>
                  <a:srgbClr val="cc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Programas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Funcional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6134040" y="4571640"/>
                  <a:ext cx="2286000" cy="1447920"/>
                </a:xfrm>
                <a:prstGeom prst="rect">
                  <a:avLst/>
                </a:prstGeom>
                <a:solidFill>
                  <a:srgbClr val="cc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Presupuestos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Multianu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e indicador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De contro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Funciona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7277040" y="1828440"/>
                  <a:ext cx="0" cy="1295640"/>
                </a:xfrm>
                <a:prstGeom prst="line">
                  <a:avLst/>
                </a:prstGeom>
                <a:ln w="76320">
                  <a:solidFill>
                    <a:srgbClr val="99cc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flipV="1">
                  <a:off x="7277040" y="4038120"/>
                  <a:ext cx="0" cy="533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723960" y="1828440"/>
                <a:ext cx="2286000" cy="4191120"/>
                <a:chOff x="723960" y="1828440"/>
                <a:chExt cx="2286000" cy="419112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838080" y="3124080"/>
                  <a:ext cx="2057400" cy="914400"/>
                </a:xfrm>
                <a:prstGeom prst="rect">
                  <a:avLst/>
                </a:prstGeom>
                <a:solidFill>
                  <a:srgbClr val="ff7c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Programas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De negocio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723960" y="4571640"/>
                  <a:ext cx="2286000" cy="1447920"/>
                </a:xfrm>
                <a:prstGeom prst="rect">
                  <a:avLst/>
                </a:prstGeom>
                <a:solidFill>
                  <a:srgbClr val="ff7c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Presupuestos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Multianu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e indicador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De contro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Del negoci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866960" y="1828440"/>
                  <a:ext cx="0" cy="1295640"/>
                </a:xfrm>
                <a:prstGeom prst="line">
                  <a:avLst/>
                </a:prstGeom>
                <a:ln w="7632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V="1">
                  <a:off x="1866960" y="4038120"/>
                  <a:ext cx="0" cy="5331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857680" y="3276360"/>
                <a:ext cx="60948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54E0-1CDE-4E09-8393-C6698C891F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Indicadores y m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19040" y="16002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Valores en el año: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2005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2006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2007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negocio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negocio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comer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adquisi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op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tecn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financi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rrh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B5C8-3856-4BDB-A990-DE399A52BB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3T19:55:39Z</dcterms:created>
  <dc:creator>Alvaro de la Barra G.</dc:creator>
  <dc:description/>
  <dc:language>en-US</dc:language>
  <cp:lastModifiedBy>Alvaro de la Barra G.</cp:lastModifiedBy>
  <cp:lastPrinted>2004-10-19T15:49:28Z</cp:lastPrinted>
  <dcterms:modified xsi:type="dcterms:W3CDTF">2004-12-02T21:36:30Z</dcterms:modified>
  <cp:revision>76</cp:revision>
  <dc:subject/>
  <dc:title>Sin título de diapositiva</dc:title>
</cp:coreProperties>
</file>