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3377-79CF-4697-8159-49B933FCDE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C66-0483-4D7A-8D13-FDBF7B6B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CC7-8C3F-4AAD-AD2A-F0F6FBF3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2996-0398-426F-918B-A61D2BCF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6849-B2CA-440D-81C6-FC004C30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2110-6DDA-4BF5-BC37-FE3227EE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631C-279B-465D-8000-E2441746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931D-9532-4605-BC31-F793053C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D3A5-6991-4B01-9C1C-554CF8C7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424B-5EAD-4471-9DC5-9EC65892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AE8F-3BB6-4D0D-80AB-E736E6F8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B3F3-B9CA-4991-BBF2-CBA86304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447-F817-4850-9E97-0E94E3E9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3151-4771-47BA-86F4-16A6A0EA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44F3-1919-4F6F-8BAA-5276DAF8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0E8C-37D5-4C5C-A37B-24E0C1F1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D9C2-F424-43E1-83A6-E13BCB63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CF60-E120-4A36-BB91-2685A45A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C4B-C12E-4E72-A08E-4CB06BDE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7F8-F32C-4388-A9D8-A61F6057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EF3-6A0C-40AE-AD25-42CCDEAD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5F4-25DD-4C9B-8D41-F8134D11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957A-D9F3-4124-93BB-E670839B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E762-AF96-436A-A9FB-5EC69275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01A-08FB-4467-BFE1-D80E57F0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C381-92E4-456E-84CB-3E22DFBBF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BA40-28AB-47ED-AA50-DFCFD0188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22096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Fundamentos de Gestión Estratégica</a:t>
            </a:r>
            <a:br>
              <a:rPr sz="4000"/>
            </a:b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lvaro de la Barra G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5627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BFA-6B02-469C-B721-34D88DE83E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esupuesto multianual por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ño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7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gresos por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a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mun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rvicios ex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DA78-32E1-416F-836B-4DEE123259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2362320"/>
            <a:ext cx="761976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2</a:t>
            </a:r>
            <a:r>
              <a:rPr b="0" i="1" lang="es-ES_tradnl" sz="24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Cual es la responsabilidad del ejecutivo y como evalúa las estrategi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2560" y="482760"/>
            <a:ext cx="77724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rategias y politica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00C-DE0A-4747-9A25-7B3D170E88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660000"/>
                </a:solidFill>
                <a:latin typeface="Arial"/>
              </a:rPr>
              <a:t>Responsabilidad del gerente o dire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828800"/>
            <a:ext cx="77724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roporcionar valor a los clientes con la combinación adecuada de calidad de productos o servicios y de costo de recursos utiliz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aximizar el valor del patrimonio del dueño en el larg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ustentar ventaja competitiva, asegurando el compromiso de todos los “stakeholder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iudadanía corporativa ética y comprometida con las comunidades en las que actú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ECC-25E9-4619-A363-928E71743F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Maximizar el valor del patrimonio de los due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Valor medido en 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l valor presente pond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flujos futuros de utilidades reti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scontadas a costo alternativo de p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2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Modelo simplificado de valor en 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2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   =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UT1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+ …… +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UTJ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+ …… +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UTN     </a:t>
            </a: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(1+TDP)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Arial"/>
              </a:rPr>
              <a:t>^</a:t>
            </a:r>
            <a:r>
              <a:rPr b="1" i="1" lang="es-ES_tradnl" sz="2400" spc="-1" strike="noStrike" baseline="4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(1+TDP)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Arial"/>
              </a:rPr>
              <a:t>^J</a:t>
            </a:r>
            <a:r>
              <a:rPr b="1" i="1" lang="es-ES_tradnl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     (1+TDP)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Arial"/>
              </a:rPr>
              <a:t>^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valor de mercad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UTJ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utilidades añ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DP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tasa de descuento patrimon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38088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Responsabilidad Respecto al Du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7F3-22B2-467F-90A5-463BE0916A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Poder: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 capacidad de individuos y grupos de influir mas que otros en las estrategia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-1992600" y="107640"/>
            <a:ext cx="13281120" cy="7737480"/>
            <a:chOff x="-1992600" y="107640"/>
            <a:chExt cx="13281120" cy="7737480"/>
          </a:xfrm>
        </p:grpSpPr>
        <p:sp>
          <p:nvSpPr>
            <p:cNvPr id="135" name=""/>
            <p:cNvSpPr/>
            <p:nvPr/>
          </p:nvSpPr>
          <p:spPr>
            <a:xfrm>
              <a:off x="3152520" y="3427920"/>
              <a:ext cx="2190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es-ES_tradnl" sz="3200" spc="-1" strike="noStrike">
                  <a:solidFill>
                    <a:srgbClr val="000000"/>
                  </a:solidFill>
                  <a:latin typeface="Arial"/>
                </a:rPr>
                <a:t>Gerenci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83920" y="216720"/>
              <a:ext cx="6204600" cy="413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61" y="21490"/>
                  </a:moveTo>
                  <a:arcTo wR="10800" hR="10800" stAng="5891565" swAng="4908435"/>
                  <a:lnTo>
                    <a:pt x="10800" y="10800"/>
                  </a:lnTo>
                  <a:close/>
                </a:path>
                <a:path fill="none" w="21600" h="21600">
                  <a:moveTo>
                    <a:pt x="9261" y="21490"/>
                  </a:moveTo>
                  <a:arcTo wR="10800" hR="10800" stAng="5891565" swAng="4908435"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61640" y="3598200"/>
              <a:ext cx="6311880" cy="374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8920" y="149400"/>
              <a:ext cx="6271560" cy="295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9966"/>
            </a:solidFill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83240" y="892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270000" y="4409640"/>
              <a:ext cx="6365520" cy="343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873000" y="3264480"/>
              <a:ext cx="4676400" cy="425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1992600" y="107640"/>
              <a:ext cx="5950440" cy="369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4119120" y="1791720"/>
              <a:ext cx="1116360" cy="1063080"/>
              <a:chOff x="4119120" y="1791720"/>
              <a:chExt cx="1116360" cy="1063080"/>
            </a:xfrm>
          </p:grpSpPr>
          <p:sp>
            <p:nvSpPr>
              <p:cNvPr id="144" name=""/>
              <p:cNvSpPr/>
              <p:nvPr/>
            </p:nvSpPr>
            <p:spPr>
              <a:xfrm>
                <a:off x="4119120" y="1791720"/>
                <a:ext cx="1116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800000"/>
                    </a:solidFill>
                    <a:latin typeface="Arial"/>
                  </a:rPr>
                  <a:t>Dueñ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92960" y="2200320"/>
                <a:ext cx="0" cy="654480"/>
              </a:xfrm>
              <a:prstGeom prst="line">
                <a:avLst/>
              </a:prstGeom>
              <a:ln w="7632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806440" y="2691720"/>
              <a:ext cx="1675440" cy="899640"/>
              <a:chOff x="5806440" y="2691720"/>
              <a:chExt cx="1675440" cy="899640"/>
            </a:xfrm>
          </p:grpSpPr>
          <p:sp>
            <p:nvSpPr>
              <p:cNvPr id="147" name=""/>
              <p:cNvSpPr/>
              <p:nvPr/>
            </p:nvSpPr>
            <p:spPr>
              <a:xfrm>
                <a:off x="5806440" y="2691720"/>
                <a:ext cx="1675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663300"/>
                    </a:solidFill>
                    <a:latin typeface="Arial"/>
                  </a:rPr>
                  <a:t>Comunid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887440" y="3100680"/>
                <a:ext cx="482400" cy="49068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567760" y="4163760"/>
              <a:ext cx="1844640" cy="938880"/>
              <a:chOff x="5567760" y="4163760"/>
              <a:chExt cx="1844640" cy="938880"/>
            </a:xfrm>
          </p:grpSpPr>
          <p:sp>
            <p:nvSpPr>
              <p:cNvPr id="150" name=""/>
              <p:cNvSpPr/>
              <p:nvPr/>
            </p:nvSpPr>
            <p:spPr>
              <a:xfrm>
                <a:off x="5567760" y="4736520"/>
                <a:ext cx="1844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004c00"/>
                    </a:solidFill>
                    <a:latin typeface="Arial"/>
                  </a:rPr>
                  <a:t>Proveedor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5646240" y="4163760"/>
                <a:ext cx="482400" cy="490680"/>
              </a:xfrm>
              <a:prstGeom prst="line">
                <a:avLst/>
              </a:prstGeom>
              <a:ln w="76320">
                <a:solidFill>
                  <a:srgbClr val="004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957840" y="4736520"/>
              <a:ext cx="1015560" cy="1066680"/>
              <a:chOff x="3957840" y="4736520"/>
              <a:chExt cx="1015560" cy="1066680"/>
            </a:xfrm>
          </p:grpSpPr>
          <p:sp>
            <p:nvSpPr>
              <p:cNvPr id="153" name=""/>
              <p:cNvSpPr/>
              <p:nvPr/>
            </p:nvSpPr>
            <p:spPr>
              <a:xfrm>
                <a:off x="3957840" y="5437080"/>
                <a:ext cx="10155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220466"/>
                    </a:solidFill>
                    <a:latin typeface="Arial"/>
                  </a:rPr>
                  <a:t>Est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4517280" y="4736520"/>
                <a:ext cx="0" cy="630360"/>
              </a:xfrm>
              <a:prstGeom prst="line">
                <a:avLst/>
              </a:prstGeom>
              <a:ln w="76320">
                <a:solidFill>
                  <a:srgbClr val="2204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465560" y="2200680"/>
              <a:ext cx="1607760" cy="981360"/>
              <a:chOff x="1465560" y="2200680"/>
              <a:chExt cx="1607760" cy="981360"/>
            </a:xfrm>
          </p:grpSpPr>
          <p:sp>
            <p:nvSpPr>
              <p:cNvPr id="156" name=""/>
              <p:cNvSpPr/>
              <p:nvPr/>
            </p:nvSpPr>
            <p:spPr>
              <a:xfrm>
                <a:off x="1465560" y="2200680"/>
                <a:ext cx="13845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990000"/>
                    </a:solidFill>
                    <a:latin typeface="Arial"/>
                  </a:rPr>
                  <a:t>Client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510640" y="2609280"/>
                <a:ext cx="562680" cy="572760"/>
              </a:xfrm>
              <a:prstGeom prst="line">
                <a:avLst/>
              </a:prstGeom>
              <a:ln w="7632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465560" y="4000680"/>
              <a:ext cx="1913400" cy="1022040"/>
              <a:chOff x="1465560" y="4000680"/>
              <a:chExt cx="1913400" cy="1022040"/>
            </a:xfrm>
          </p:grpSpPr>
          <p:sp>
            <p:nvSpPr>
              <p:cNvPr id="159" name=""/>
              <p:cNvSpPr/>
              <p:nvPr/>
            </p:nvSpPr>
            <p:spPr>
              <a:xfrm>
                <a:off x="1465560" y="4656600"/>
                <a:ext cx="191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6e0000"/>
                    </a:solidFill>
                    <a:latin typeface="Arial"/>
                  </a:rPr>
                  <a:t>Trabajador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2510640" y="4000680"/>
                <a:ext cx="562320" cy="572400"/>
              </a:xfrm>
              <a:prstGeom prst="line">
                <a:avLst/>
              </a:prstGeom>
              <a:ln w="76320">
                <a:solidFill>
                  <a:srgbClr val="6a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3A5C-9CD3-4634-B960-3A36BB3131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66760" y="213372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3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Que es necesario para implementar las estrateg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2560" y="625320"/>
            <a:ext cx="77724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rategias y politica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6F8-CEFE-4130-8172-E77B33B79A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368280"/>
            <a:ext cx="8183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222222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87360" y="915840"/>
            <a:ext cx="7284960" cy="5333760"/>
            <a:chOff x="1287360" y="915840"/>
            <a:chExt cx="7284960" cy="5333760"/>
          </a:xfrm>
        </p:grpSpPr>
        <p:sp>
          <p:nvSpPr>
            <p:cNvPr id="165" name=""/>
            <p:cNvSpPr/>
            <p:nvPr/>
          </p:nvSpPr>
          <p:spPr>
            <a:xfrm>
              <a:off x="1287360" y="915840"/>
              <a:ext cx="7284960" cy="533376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189160" y="1373040"/>
              <a:ext cx="5479560" cy="4306680"/>
              <a:chOff x="2189160" y="1373040"/>
              <a:chExt cx="5479560" cy="430668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2189160" y="1603080"/>
                <a:ext cx="5479560" cy="4076640"/>
                <a:chOff x="2189160" y="1603080"/>
                <a:chExt cx="5479560" cy="40766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40400" y="1603080"/>
                  <a:ext cx="2377440" cy="16765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Planifica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y contro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2189160" y="4003560"/>
                  <a:ext cx="5479560" cy="1676160"/>
                  <a:chOff x="2189160" y="4003560"/>
                  <a:chExt cx="5479560" cy="16761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290920" y="400356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Información y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Comunicacion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2189160" y="400356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Compensacion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e incentiv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3853080" y="3279600"/>
                  <a:ext cx="2151720" cy="76212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Estructur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 txBox="1"/>
              <p:nvPr/>
            </p:nvSpPr>
            <p:spPr>
              <a:xfrm>
                <a:off x="3524400" y="1373040"/>
                <a:ext cx="2811240" cy="877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9900"/>
                    </a:solidFill>
                    <a:latin typeface="Arial Black"/>
                  </a:rPr>
                  <a:t>CULTURA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818-AD9A-40A5-8AE9-F14E08EBBF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Gestión = Planificación +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20840" y="1752480"/>
            <a:ext cx="8301960" cy="4114800"/>
            <a:chOff x="420840" y="1752480"/>
            <a:chExt cx="8301960" cy="4114800"/>
          </a:xfrm>
        </p:grpSpPr>
        <p:grpSp>
          <p:nvGrpSpPr>
            <p:cNvPr id="176" name=""/>
            <p:cNvGrpSpPr/>
            <p:nvPr/>
          </p:nvGrpSpPr>
          <p:grpSpPr>
            <a:xfrm>
              <a:off x="420840" y="1752480"/>
              <a:ext cx="8301960" cy="4114800"/>
              <a:chOff x="420840" y="1752480"/>
              <a:chExt cx="8301960" cy="411480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2626920" y="3504960"/>
                <a:ext cx="6095880" cy="2362320"/>
                <a:chOff x="2626920" y="3504960"/>
                <a:chExt cx="6095880" cy="23623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626920" y="3504960"/>
                  <a:ext cx="6095880" cy="2362320"/>
                </a:xfrm>
                <a:prstGeom prst="rect">
                  <a:avLst/>
                </a:prstGeom>
                <a:solidFill>
                  <a:srgbClr val="ffcccc"/>
                </a:solidFill>
                <a:ln w="25560">
                  <a:solidFill>
                    <a:srgbClr val="77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209640" y="5486040"/>
                  <a:ext cx="199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800000"/>
                      </a:solidFill>
                      <a:latin typeface="Arial"/>
                    </a:rPr>
                    <a:t>Sistema 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20840" y="1752480"/>
                <a:ext cx="6016320" cy="2362320"/>
                <a:chOff x="420840" y="1752480"/>
                <a:chExt cx="6016320" cy="23623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20840" y="1752480"/>
                  <a:ext cx="6016320" cy="2362320"/>
                </a:xfrm>
                <a:prstGeom prst="rect">
                  <a:avLst/>
                </a:prstGeom>
                <a:solidFill>
                  <a:srgbClr val="ccffff"/>
                </a:solidFill>
                <a:ln w="25560">
                  <a:solidFill>
                    <a:srgbClr val="0000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95360" y="1828800"/>
                  <a:ext cx="2401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66"/>
                      </a:solidFill>
                      <a:latin typeface="Arial"/>
                    </a:rPr>
                    <a:t>Sistema Planificación</a:t>
                  </a: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2626920" y="3504960"/>
                <a:ext cx="3809880" cy="60984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66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629080" y="2023920"/>
              <a:ext cx="3886200" cy="34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strateg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ogramas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esupuestos, Indicad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Operación, Segui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Evaluacion de  Desempeñ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nalisis y Diagnos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E42-5FD3-4761-AFA1-95F2C07A20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Orga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360" y="1523880"/>
            <a:ext cx="81532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junto de individuos y gru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Que buscan lograr objetivos compar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 través de la división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tegrados por procesos de dec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igados po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 continuidad en el ti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8F0-366C-474D-870E-7CD8424BDC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660000"/>
                </a:solidFill>
                <a:latin typeface="Arial"/>
              </a:rPr>
              <a:t>Estructura organiz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5360" y="2209680"/>
            <a:ext cx="8153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signa responsabilidad a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ntrega atribuciones y recursos necesarios para llevarlas a ca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a estructura sigue a la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incipio de contin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4E2-77E4-4B77-BF8F-A9E71DB5BC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Estructura Presentación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1. Mision 2004 y Vision 2008 : destacar la brecha. Señalar principales hipótesis hechas sobre macro entorno y 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2. Las 5 principales estrategias y políticas y la inversión que necesitará cad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3. Oportunidades y amenazas externas que fundamentan las estrategias y polí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4. Fortalezas y debilidades competitivas e internas que justifican las estrategias y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5. Presupuesto agregado proyectado hasta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6. Indicadores de gestion para cada negocio y funcion. No mas de 10 en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F30-37CF-4B81-AF7F-9BA44A77A9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Cultura Organizacional</a:t>
            </a: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	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828800"/>
            <a:ext cx="8382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figuración de suposiciones básicas, inventadas, descubiertas o desarrolladas por un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 el proceso de aprender a resolver sus proble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adaptación exter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integración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Que ha funcionado tan bien, que se considera válida, y por lo tanto debe ser enseñada a nuevos miembros como la manera correcta de percibir, pensar y sentir en relación a esos proble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B7E-01F5-4152-A43B-3671CF6DB5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46200" y="1219320"/>
            <a:ext cx="7851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hace planificación en los negoci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describen los negocio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areas funciona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0. ¿ Como se hacen estrategias en la empres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contes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BA7E-A652-49E2-9833-45EC341563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1752480"/>
            <a:ext cx="838224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1.</a:t>
            </a:r>
            <a:r>
              <a:rPr b="0" i="1" lang="es-ES_tradnl" sz="2400" spc="-1" strike="noStrike">
                <a:solidFill>
                  <a:srgbClr val="660000"/>
                </a:solidFill>
                <a:latin typeface="Arial"/>
              </a:rPr>
              <a:t>  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Qué son y que contienen estrategias y polític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2560" y="431640"/>
            <a:ext cx="77724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334-CACF-4DDA-BAF0-B2B7177F09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19040" y="6094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y políticas en negocios y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752480"/>
            <a:ext cx="7772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Estrategia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Directrices a la acción prolongada en el horizonte de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Orientan la asignación de todos su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000066"/>
                </a:solidFill>
                <a:latin typeface="Arial"/>
              </a:rPr>
              <a:t>Polític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Arial"/>
              </a:rPr>
              <a:t>Orientaciones y directrices que rigen la actuación de una organización en una situación o campo de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CE7-AF4A-409F-9CFA-01297646E9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2560" y="558720"/>
            <a:ext cx="77724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Caracteristicas de estrategias y pol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360" y="1828800"/>
            <a:ext cx="8153280" cy="411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anifiestan objetivos de largo plazo,  y definen prioridades para asignar los recurs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uscan liderazgo sustentable:  a la luz desafíos externos y sus potencialidades intern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finen  el desarrollo de competencias que le dan ventaja competitiva sostenibl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xplicitan tareas para gestión superi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gran acción de empresa, negocios y unida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ñalan como  contribuirá a los “stakeholders”: quienes tienen derechos sobre e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7251-E85D-4034-A15B-03130649DB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¿Que contienen las estrategias y polític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ada una contendrá programas.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 Estas son conductas y acciónes, coherentes entre sí, que explicit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ctividades a desarrollarse durante el horizo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sultados medibles de esas activ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que reflejen los logros estratégicos que se  persiguen con el prog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itos temporales: asocien valores de los indicadores a lo largo del horizo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s unidades que desarrollarán las activ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os recursos operacionales y de inversión que serán necesarios a lo largo del horizo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s persona responsable de obtener los 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F55-0E95-46F1-9D69-F0D218F3F3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De estrategias a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3520" y="1066680"/>
            <a:ext cx="8076960" cy="4952880"/>
            <a:chOff x="533520" y="1066680"/>
            <a:chExt cx="8076960" cy="4952880"/>
          </a:xfrm>
        </p:grpSpPr>
        <p:sp>
          <p:nvSpPr>
            <p:cNvPr id="104" name=""/>
            <p:cNvSpPr/>
            <p:nvPr/>
          </p:nvSpPr>
          <p:spPr>
            <a:xfrm>
              <a:off x="533520" y="1066680"/>
              <a:ext cx="8076960" cy="761760"/>
            </a:xfrm>
            <a:prstGeom prst="rect">
              <a:avLst/>
            </a:prstGeom>
            <a:solidFill>
              <a:srgbClr val="0066cc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Arial"/>
                </a:rPr>
                <a:t>Estrategias y políticas corporativ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23960" y="1828440"/>
              <a:ext cx="7696080" cy="4191120"/>
              <a:chOff x="723960" y="1828440"/>
              <a:chExt cx="7696080" cy="4191120"/>
            </a:xfrm>
          </p:grpSpPr>
          <p:sp>
            <p:nvSpPr>
              <p:cNvPr id="106" name=""/>
              <p:cNvSpPr/>
              <p:nvPr/>
            </p:nvSpPr>
            <p:spPr>
              <a:xfrm>
                <a:off x="5676840" y="3276360"/>
                <a:ext cx="6098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3429000" y="1828440"/>
                <a:ext cx="2286000" cy="3581640"/>
                <a:chOff x="3429000" y="1828440"/>
                <a:chExt cx="2286000" cy="35816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3467160" y="2438280"/>
                  <a:ext cx="2209680" cy="99036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Corporativ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429000" y="3962160"/>
                  <a:ext cx="2286000" cy="144792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Corporativ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572000" y="1828440"/>
                  <a:ext cx="0" cy="609840"/>
                </a:xfrm>
                <a:prstGeom prst="line">
                  <a:avLst/>
                </a:prstGeom>
                <a:ln w="7632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4572000" y="3428640"/>
                  <a:ext cx="0" cy="5335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134040" y="1828440"/>
                <a:ext cx="2286000" cy="4191120"/>
                <a:chOff x="6134040" y="1828440"/>
                <a:chExt cx="2286000" cy="41911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248160" y="3124080"/>
                  <a:ext cx="2057400" cy="914400"/>
                </a:xfrm>
                <a:prstGeom prst="rect">
                  <a:avLst/>
                </a:prstGeom>
                <a:solidFill>
                  <a:srgbClr val="cc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Funciona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134040" y="4571640"/>
                  <a:ext cx="2286000" cy="1447920"/>
                </a:xfrm>
                <a:prstGeom prst="rect">
                  <a:avLst/>
                </a:prstGeom>
                <a:solidFill>
                  <a:srgbClr val="cc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Funcion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277040" y="1828440"/>
                  <a:ext cx="0" cy="1295640"/>
                </a:xfrm>
                <a:prstGeom prst="line">
                  <a:avLst/>
                </a:prstGeom>
                <a:ln w="76320">
                  <a:solidFill>
                    <a:srgbClr val="99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7277040" y="4038120"/>
                  <a:ext cx="0" cy="533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723960" y="1828440"/>
                <a:ext cx="2286000" cy="4191120"/>
                <a:chOff x="723960" y="1828440"/>
                <a:chExt cx="2286000" cy="41911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838080" y="3124080"/>
                  <a:ext cx="2057400" cy="914400"/>
                </a:xfrm>
                <a:prstGeom prst="rect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De negoci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23960" y="4571640"/>
                  <a:ext cx="2286000" cy="1447920"/>
                </a:xfrm>
                <a:prstGeom prst="rect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l negoci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866960" y="1828440"/>
                  <a:ext cx="0" cy="12956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1866960" y="4038120"/>
                  <a:ext cx="0" cy="533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857680" y="3276360"/>
                <a:ext cx="60948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893B-55A9-4F67-AE08-73A18522B4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dicadores y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9040" y="16002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Valores en el año: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7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7F0-96DF-4345-9433-D935C54CE2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9:55:39Z</dcterms:created>
  <dc:creator>Alvaro de la Barra G.</dc:creator>
  <dc:description/>
  <dc:language>en-US</dc:language>
  <cp:lastModifiedBy>Alvaro de la Barra G.</cp:lastModifiedBy>
  <cp:lastPrinted>2004-10-19T15:49:28Z</cp:lastPrinted>
  <dcterms:modified xsi:type="dcterms:W3CDTF">2004-12-02T21:36:30Z</dcterms:modified>
  <cp:revision>76</cp:revision>
  <dc:subject/>
  <dc:title>Sin título de diapositiva</dc:title>
</cp:coreProperties>
</file>