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C809-0002-49FC-B18C-7D5E5F51E70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¿AGROPESUR o Agrosup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E25-79E4-4BA2-A9C4-7E0FAF8A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3CD8-3F2F-4CD3-85F1-55978ADA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1A0-EAEE-4CBF-B457-C62CAB47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CA1-5469-4602-86B7-F4C93809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83FE-1388-4AD3-B8EE-62D4661A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B670-D52E-45FD-AEBD-4B405FCE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807F-868A-4289-B9C5-5B2EBC97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D64E-2EF4-4AEA-9486-0728D7C5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5A46-B3F8-44E2-A52C-D0FF377F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076F-F8CB-4B77-A0F0-2BFCB639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7B19-2268-4F7B-8EBD-83E67387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3A2-68FF-4CAE-BB61-4CC512AB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1AAD-7AEB-4261-9020-FEBC7DC0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21B4-29BA-490B-9EF0-48F3AC8F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A599-C281-4222-9D7F-757267E8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1891-74A8-41DB-B3B6-2C6C179D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9B56-47F8-4BD8-935E-0185174F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E71-6D87-4365-B715-A8725E4D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33E-66EC-4EA1-8246-4A6FF4DE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5B4-EFD1-40FA-B2DD-9A7DF5FC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FF3-4346-4363-BC8A-A9825E1D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0C5-56FC-4CFE-B587-A607C61E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242-4680-48C2-BC96-C55BA1B7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319F-B9E0-4C8D-82CE-19DC0093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1B20-7EE3-488E-882D-462D3D2C1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5C87-5D23-4F8F-AFB8-D978A246F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7524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Política de Negocios</a:t>
            </a:r>
            <a:br>
              <a:rPr sz="4000"/>
            </a:b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lvaro de la Barra G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627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2F8-6C01-4CD9-A3B0-41F8763EB9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76360" y="228600"/>
            <a:ext cx="7991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660000"/>
                </a:solidFill>
                <a:latin typeface="Arial"/>
              </a:rPr>
              <a:t>Aporte Corporativo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nálisis de escenarios ex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erspectivas económicas y competi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cursos críticos: humanos, insumos, tecnología,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torno legal, político y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nálisis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cursos a compart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segurar sinergias en cadenas de val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porte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ficiencia en el uso de todos los recursos - no sólo el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apacidad de nego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mpetencias nucleares para ventaja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amaño y crecimiento. Ventas, ut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-desplegar recursos : invertir, des-invertir, divers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AE6-E60D-4CC6-A59D-C7D545A6EF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2860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Aporte Corporativo </a:t>
            </a:r>
            <a:br>
              <a:rPr sz="28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recimiento y Participacion</a:t>
            </a:r>
            <a:br>
              <a:rPr sz="2400"/>
            </a:br>
            <a:r>
              <a:rPr b="1" i="1" lang="es-ES_tradnl" sz="2000" spc="-1" strike="noStrike">
                <a:solidFill>
                  <a:srgbClr val="cc0000"/>
                </a:solidFill>
                <a:latin typeface="Arial"/>
              </a:rPr>
              <a:t>Tener unidades que generan y otras que utilizan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07920" y="1752480"/>
            <a:ext cx="7328160" cy="46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3CA6-136A-4D21-8EE2-7F6A9A9DE7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mpetencia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85800" y="1143000"/>
            <a:ext cx="7772400" cy="4989600"/>
            <a:chOff x="685800" y="1143000"/>
            <a:chExt cx="7772400" cy="4989600"/>
          </a:xfrm>
        </p:grpSpPr>
        <p:grpSp>
          <p:nvGrpSpPr>
            <p:cNvPr id="190" name=""/>
            <p:cNvGrpSpPr/>
            <p:nvPr/>
          </p:nvGrpSpPr>
          <p:grpSpPr>
            <a:xfrm>
              <a:off x="838080" y="3686400"/>
              <a:ext cx="7467840" cy="2249280"/>
              <a:chOff x="838080" y="3686400"/>
              <a:chExt cx="7467840" cy="224928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2305080" y="3686400"/>
                <a:ext cx="4533840" cy="992160"/>
                <a:chOff x="2305080" y="3686400"/>
                <a:chExt cx="4533840" cy="9921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305080" y="3686400"/>
                  <a:ext cx="4533840" cy="99216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514960" y="3952800"/>
                  <a:ext cx="365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     </a:t>
                  </a: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Productos Nuclear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838080" y="4792680"/>
                <a:ext cx="7467840" cy="1143000"/>
                <a:chOff x="838080" y="4792680"/>
                <a:chExt cx="7467840" cy="1143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481560" y="4792680"/>
                  <a:ext cx="2209680" cy="114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Negocio 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38080" y="4792680"/>
                  <a:ext cx="2210040" cy="114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Negocio 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095880" y="4792680"/>
                  <a:ext cx="2210040" cy="114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Negocio 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685800" y="1143000"/>
              <a:ext cx="7772400" cy="4989600"/>
              <a:chOff x="685800" y="1143000"/>
              <a:chExt cx="7772400" cy="49896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1181160" y="2049480"/>
                <a:ext cx="6781680" cy="1542960"/>
                <a:chOff x="1181160" y="2049480"/>
                <a:chExt cx="6781680" cy="15429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1600200" y="2516400"/>
                  <a:ext cx="5943600" cy="609480"/>
                  <a:chOff x="1600200" y="2516400"/>
                  <a:chExt cx="5943600" cy="6094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1600200" y="2516400"/>
                    <a:ext cx="1828800" cy="609480"/>
                  </a:xfrm>
                  <a:prstGeom prst="rect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I.</a:t>
                    </a:r>
                    <a:r>
                      <a:rPr b="1" i="1" lang="es-ES_tradnl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Financiera</a:t>
                    </a:r>
                    <a:r>
                      <a:rPr b="1" i="1" lang="es-ES_tradnl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5715000" y="2516400"/>
                    <a:ext cx="1828800" cy="609480"/>
                  </a:xfrm>
                  <a:prstGeom prst="rect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I. Médica</a:t>
                    </a:r>
                    <a:r>
                      <a:rPr b="1" i="1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809880" y="2516400"/>
                    <a:ext cx="1524240" cy="609480"/>
                  </a:xfrm>
                  <a:prstGeom prst="rect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I.Eléctrica</a:t>
                    </a:r>
                    <a:r>
                      <a:rPr b="1" i="1" lang="es-ES_tradnl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1181160" y="2049480"/>
                  <a:ext cx="6781680" cy="1542960"/>
                  <a:chOff x="1181160" y="2049480"/>
                  <a:chExt cx="6781680" cy="15429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1181160" y="2049480"/>
                    <a:ext cx="6781680" cy="1542960"/>
                  </a:xfrm>
                  <a:prstGeom prst="rect">
                    <a:avLst/>
                  </a:prstGeom>
                  <a:noFill/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794760" y="2049480"/>
                    <a:ext cx="1316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400" spc="-1" strike="noStrike">
                        <a:solidFill>
                          <a:srgbClr val="cc0000"/>
                        </a:solidFill>
                        <a:latin typeface="Arial"/>
                      </a:rPr>
                      <a:t>Gestió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" name=""/>
              <p:cNvGrpSpPr/>
              <p:nvPr/>
            </p:nvGrpSpPr>
            <p:grpSpPr>
              <a:xfrm>
                <a:off x="685800" y="1143000"/>
                <a:ext cx="7772400" cy="4989600"/>
                <a:chOff x="685800" y="1143000"/>
                <a:chExt cx="7772400" cy="49896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85800" y="1143000"/>
                  <a:ext cx="7772400" cy="4989600"/>
                </a:xfrm>
                <a:prstGeom prst="rect">
                  <a:avLst/>
                </a:prstGeom>
                <a:noFill/>
                <a:ln w="127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728880" y="1143000"/>
                  <a:ext cx="1467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003366"/>
                      </a:solidFill>
                      <a:latin typeface="Arial"/>
                    </a:rPr>
                    <a:t>Empres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0AC-0303-4973-BB48-043DE289D7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Competencias Nucle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9907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ompetitividad a largo plazo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apacidad de generar nuevos servicios y productos a menor costo y tiempo que competi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Competencias 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nucleares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 de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prendizaje colectivo que da la capacidad de organizar el trabajo para entregar val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ermite coordinar distintas destrezas productivas e integrar diferentes tecnologí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on dificiles de imitar y se potecian con el u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Productos nucle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resión física de las competencias. Elementos que agregan mucho valor a producto final,  ya que reducen costos, tiempo o riesgo de desarrollo. Generan economías de escala. Dan  acceso a muchos nego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839-4A6F-41C8-84BA-E22C0EAE93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1752480"/>
            <a:ext cx="838224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1.</a:t>
            </a:r>
            <a:r>
              <a:rPr b="0" i="1" lang="es-ES_tradnl" sz="2400" spc="-1" strike="noStrike">
                <a:solidFill>
                  <a:srgbClr val="660000"/>
                </a:solidFill>
                <a:latin typeface="Arial"/>
              </a:rPr>
              <a:t>  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Qué son y que contienen estrategias y polític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2560" y="431640"/>
            <a:ext cx="77724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EC1-04E5-42FC-AA66-CAE431334A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19040" y="6094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y políticas en negocios y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Estrategia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Directrices a la acción prolongada en el horizonte de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Orientan la asignación de todos su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000066"/>
                </a:solidFill>
                <a:latin typeface="Arial"/>
              </a:rPr>
              <a:t>Polític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Arial"/>
              </a:rPr>
              <a:t>Orientaciones y directrices que rigen la actuación de una organización en una situación o campo de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4D1E-3380-49A4-BD9A-45165180B1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2560" y="558720"/>
            <a:ext cx="77724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Caracteristicas de estrategias y pol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360" y="1828800"/>
            <a:ext cx="8153280" cy="3911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anifiestan objetivos de largo plazo,  y definen prioridades para asignar los recurs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uscan liderazgo sustentable:  a la luz desafíos externos y sus potencialidades intern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finen  el desarrollo de competencias que le dan ventaja competitiva sostenibl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licitan tareas para gestión superior. Son marco que  integra acción de negocios y unida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velan su contribución a los “stakeholders”: quienes tienen derechos sobre 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988-69C2-47CB-BCA9-6415FF351B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¿Que contienen las estrategias y polític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ada una contendrá programas.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 Estas son conductas y acciónes, coherentes entre sí, que explicit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ctividades a desarrollarse durante el horizo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sultados medibles de esas activ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que reflejen los logros estratégicos que se  persiguen con el prog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itos temporales, que asocien valores de los indicadores a lo largo del horizo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s unidades de gestión que desarrollarán las activ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os requerimientos de recursos operacionales y de inversión a lo largo del horizo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s persona responsable de obtener los 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B01-2764-4525-BDDF-889C0BA996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De estrategias a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066680"/>
            <a:ext cx="8076960" cy="4952880"/>
            <a:chOff x="533520" y="1066680"/>
            <a:chExt cx="8076960" cy="4952880"/>
          </a:xfrm>
        </p:grpSpPr>
        <p:sp>
          <p:nvSpPr>
            <p:cNvPr id="222" name=""/>
            <p:cNvSpPr/>
            <p:nvPr/>
          </p:nvSpPr>
          <p:spPr>
            <a:xfrm>
              <a:off x="533520" y="1066680"/>
              <a:ext cx="8076960" cy="761760"/>
            </a:xfrm>
            <a:prstGeom prst="rect">
              <a:avLst/>
            </a:prstGeom>
            <a:solidFill>
              <a:srgbClr val="0066cc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Arial"/>
                </a:rPr>
                <a:t>Estrategias y políticas corporativ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723960" y="1828440"/>
              <a:ext cx="7696080" cy="4191120"/>
              <a:chOff x="723960" y="1828440"/>
              <a:chExt cx="7696080" cy="4191120"/>
            </a:xfrm>
          </p:grpSpPr>
          <p:sp>
            <p:nvSpPr>
              <p:cNvPr id="224" name=""/>
              <p:cNvSpPr/>
              <p:nvPr/>
            </p:nvSpPr>
            <p:spPr>
              <a:xfrm>
                <a:off x="5676840" y="3276360"/>
                <a:ext cx="6098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429000" y="1828440"/>
                <a:ext cx="2286000" cy="3581640"/>
                <a:chOff x="3429000" y="1828440"/>
                <a:chExt cx="2286000" cy="358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467160" y="2438280"/>
                  <a:ext cx="2209680" cy="99036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y proyect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Corporativ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429000" y="3962160"/>
                  <a:ext cx="2286000" cy="144792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Corporativ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572000" y="1828440"/>
                  <a:ext cx="0" cy="609840"/>
                </a:xfrm>
                <a:prstGeom prst="line">
                  <a:avLst/>
                </a:prstGeom>
                <a:ln w="7632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4572000" y="3428640"/>
                  <a:ext cx="0" cy="5335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134040" y="1828440"/>
                <a:ext cx="2286000" cy="4191120"/>
                <a:chOff x="6134040" y="1828440"/>
                <a:chExt cx="2286000" cy="41911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248160" y="3124080"/>
                  <a:ext cx="2057400" cy="914400"/>
                </a:xfrm>
                <a:prstGeom prst="rect">
                  <a:avLst/>
                </a:prstGeom>
                <a:solidFill>
                  <a:srgbClr val="cc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y proyect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Funciona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134040" y="4571640"/>
                  <a:ext cx="2286000" cy="1447920"/>
                </a:xfrm>
                <a:prstGeom prst="rect">
                  <a:avLst/>
                </a:prstGeom>
                <a:solidFill>
                  <a:srgbClr val="cc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Funcion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277040" y="1828440"/>
                  <a:ext cx="0" cy="1295640"/>
                </a:xfrm>
                <a:prstGeom prst="line">
                  <a:avLst/>
                </a:prstGeom>
                <a:ln w="76320">
                  <a:solidFill>
                    <a:srgbClr val="99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7277040" y="4038120"/>
                  <a:ext cx="0" cy="533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723960" y="1828440"/>
                <a:ext cx="2286000" cy="4191120"/>
                <a:chOff x="723960" y="1828440"/>
                <a:chExt cx="2286000" cy="41911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838080" y="3124080"/>
                  <a:ext cx="2057400" cy="91440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y proyect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De negoci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23960" y="4571640"/>
                  <a:ext cx="2286000" cy="144792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l negoci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866960" y="1828440"/>
                  <a:ext cx="0" cy="12956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1866960" y="4038120"/>
                  <a:ext cx="0" cy="533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2857680" y="3276360"/>
                <a:ext cx="60948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5BF-EDF9-43A8-8237-0F2A3EBC9B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esupuesto multianual</a:t>
            </a: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or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ño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4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gresos por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a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mun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89F8-F75C-4270-95DE-4E598EDA8B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46200" y="1415880"/>
            <a:ext cx="785160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hace planificación en los negoci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describen los negocio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areas funcion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2560" y="431640"/>
            <a:ext cx="77724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conte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784-3602-4DC1-8E5D-9A5538D515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dicadores y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9040" y="16002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Valores en el año: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4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CEA-8607-4AD9-9BEA-259A497DBA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Estructura Presentación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1. Mision 2004 y Vision 2009 : destacar la brecha. Señalar las principales hipótesis sobre macro entorno y 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2. Las 5 principales estrategias y políticas y la inversión que necesitará cad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3. Oportunidades y amenazas externas que fundamentan las estrategias y polí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4. Fortalezas y debilidades competitivas e internas que justifican las estraategias y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5. Presupuesto agregado proyectado hasta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6. Indicadores de gestion para cada negocio y funcion. No mas de 10 e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C41-54E4-4407-B666-6B706AE4C9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Maximizar el valor del patrimonio de los due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Valor medido en 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l valor presente pon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flujos futuros de utilidades reti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scontadas a costo alternativo de 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Modelo simplificado de valor en 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2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   =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UT1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+ …… +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UTJ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+ …… +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UTN     </a:t>
            </a: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(1+TDP)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Arial"/>
              </a:rPr>
              <a:t>^</a:t>
            </a:r>
            <a:r>
              <a:rPr b="1" i="1" lang="es-ES_tradnl" sz="2400" spc="-1" strike="noStrike" baseline="4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(1+TDP)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Arial"/>
              </a:rPr>
              <a:t>^J</a:t>
            </a:r>
            <a:r>
              <a:rPr b="1" i="1" lang="es-ES_tradnl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(1+TDP)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Arial"/>
              </a:rPr>
              <a:t>^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valor de mercad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UTJ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utilidades añ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DP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tasa de descuento patrimon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38088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Responsabilidad Respecto al Du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06D-0836-4984-A3F6-122CAC3231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2590920"/>
            <a:ext cx="761976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0. ¿ Como se hacen Estrategias en la Empres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A)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Criterios para incluir en car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B)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Complemetariedad entre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c)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Aporte Corpo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31640"/>
            <a:ext cx="777240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rategias y politica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DF6D-7D41-4C94-BF17-9BF41415DB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33440" y="58428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66"/>
                </a:solidFill>
                <a:latin typeface="Arial"/>
              </a:rPr>
              <a:t>Integració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9480" y="1523880"/>
            <a:ext cx="8020080" cy="4419720"/>
            <a:chOff x="609480" y="1523880"/>
            <a:chExt cx="8020080" cy="4419720"/>
          </a:xfrm>
        </p:grpSpPr>
        <p:sp>
          <p:nvSpPr>
            <p:cNvPr id="96" name=""/>
            <p:cNvSpPr/>
            <p:nvPr/>
          </p:nvSpPr>
          <p:spPr>
            <a:xfrm>
              <a:off x="609480" y="1523880"/>
              <a:ext cx="8020080" cy="1524240"/>
            </a:xfrm>
            <a:prstGeom prst="rect">
              <a:avLst/>
            </a:prstGeom>
            <a:solidFill>
              <a:srgbClr val="d20000"/>
            </a:solidFill>
            <a:ln w="9360">
              <a:solidFill>
                <a:srgbClr val="d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ffffff"/>
                  </a:solidFill>
                  <a:latin typeface="Arial"/>
                </a:rPr>
                <a:t>Empres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14240" y="3048120"/>
              <a:ext cx="7810560" cy="2895480"/>
              <a:chOff x="714240" y="3048120"/>
              <a:chExt cx="7810560" cy="28954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714240" y="3048120"/>
                <a:ext cx="2286000" cy="2895480"/>
                <a:chOff x="714240" y="3048120"/>
                <a:chExt cx="2286000" cy="2895480"/>
              </a:xfrm>
            </p:grpSpPr>
            <p:grpSp>
              <p:nvGrpSpPr>
                <p:cNvPr id="99" name=""/>
                <p:cNvGrpSpPr/>
                <p:nvPr/>
              </p:nvGrpSpPr>
              <p:grpSpPr>
                <a:xfrm>
                  <a:off x="714240" y="3657600"/>
                  <a:ext cx="2286000" cy="2286000"/>
                  <a:chOff x="714240" y="3657600"/>
                  <a:chExt cx="2286000" cy="228600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714240" y="3657600"/>
                    <a:ext cx="2286000" cy="2286000"/>
                  </a:xfrm>
                  <a:prstGeom prst="ellipse">
                    <a:avLst/>
                  </a:prstGeom>
                  <a:solidFill>
                    <a:srgbClr val="0000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096920" y="5257800"/>
                    <a:ext cx="1374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rcado 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" name=""/>
                <p:cNvSpPr/>
                <p:nvPr/>
              </p:nvSpPr>
              <p:spPr>
                <a:xfrm>
                  <a:off x="1095120" y="3962520"/>
                  <a:ext cx="152424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857240" y="3048120"/>
                  <a:ext cx="0" cy="91440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476520" y="3086280"/>
                <a:ext cx="2286000" cy="2818800"/>
                <a:chOff x="3476520" y="3086280"/>
                <a:chExt cx="2286000" cy="281880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3476520" y="3619440"/>
                  <a:ext cx="2286000" cy="2285640"/>
                  <a:chOff x="3476520" y="3619440"/>
                  <a:chExt cx="2286000" cy="228564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3476520" y="3619440"/>
                    <a:ext cx="2286000" cy="2285640"/>
                  </a:xfrm>
                  <a:prstGeom prst="ellips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843360" y="5219280"/>
                    <a:ext cx="1374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rcado 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"/>
                <p:cNvSpPr/>
                <p:nvPr/>
              </p:nvSpPr>
              <p:spPr>
                <a:xfrm>
                  <a:off x="3857400" y="3924360"/>
                  <a:ext cx="152424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19520" y="3086280"/>
                  <a:ext cx="0" cy="83808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238800" y="3086280"/>
                <a:ext cx="2286000" cy="2818800"/>
                <a:chOff x="6238800" y="3086280"/>
                <a:chExt cx="2286000" cy="281880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6238800" y="3619440"/>
                  <a:ext cx="2286000" cy="2285640"/>
                  <a:chOff x="6238800" y="3619440"/>
                  <a:chExt cx="2286000" cy="22856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6238800" y="3619440"/>
                    <a:ext cx="2286000" cy="228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6621480" y="5219280"/>
                    <a:ext cx="1374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rcado 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"/>
                <p:cNvSpPr/>
                <p:nvPr/>
              </p:nvSpPr>
              <p:spPr>
                <a:xfrm>
                  <a:off x="6619680" y="3924360"/>
                  <a:ext cx="152388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381800" y="3086280"/>
                  <a:ext cx="0" cy="83808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C92-D14D-4E4B-BFCD-FCEAC76451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riterios para incluir en cartera </a:t>
            </a:r>
            <a:br>
              <a:rPr sz="28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iclo de Vida del producto</a:t>
            </a:r>
            <a:br>
              <a:rPr sz="2800"/>
            </a:b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Estar en industrias en 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72280" y="5708520"/>
            <a:ext cx="527040" cy="208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216080" y="3198960"/>
            <a:ext cx="6444000" cy="214920"/>
            <a:chOff x="1216080" y="3198960"/>
            <a:chExt cx="6444000" cy="214920"/>
          </a:xfrm>
        </p:grpSpPr>
        <p:sp>
          <p:nvSpPr>
            <p:cNvPr id="119" name=""/>
            <p:cNvSpPr/>
            <p:nvPr/>
          </p:nvSpPr>
          <p:spPr>
            <a:xfrm>
              <a:off x="4957560" y="319896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55"/>
                  </a:solidFill>
                  <a:latin typeface="Arial"/>
                </a:rPr>
                <a:t>Madure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59640" y="3198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800080"/>
                  </a:solidFill>
                  <a:latin typeface="Arial"/>
                </a:rPr>
                <a:t>Declin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40680" y="3200400"/>
              <a:ext cx="103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820000"/>
                  </a:solidFill>
                  <a:latin typeface="Arial"/>
                </a:rPr>
                <a:t>Creci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16080" y="3198960"/>
              <a:ext cx="1078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4400"/>
                  </a:solidFill>
                  <a:latin typeface="Arial"/>
                </a:rPr>
                <a:t>Introdu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009800" y="2292480"/>
            <a:ext cx="95040" cy="152280"/>
          </a:xfrm>
          <a:custGeom>
            <a:avLst/>
            <a:gdLst/>
            <a:ahLst/>
            <a:rect l="l" t="t" r="r" b="b"/>
            <a:pathLst>
              <a:path w="60" h="96">
                <a:moveTo>
                  <a:pt x="30" y="0"/>
                </a:moveTo>
                <a:lnTo>
                  <a:pt x="60" y="96"/>
                </a:lnTo>
                <a:lnTo>
                  <a:pt x="0" y="96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69240" y="5764320"/>
            <a:ext cx="131760" cy="110880"/>
          </a:xfrm>
          <a:custGeom>
            <a:avLst/>
            <a:gdLst/>
            <a:ahLst/>
            <a:rect l="l" t="t" r="r" b="b"/>
            <a:pathLst>
              <a:path w="83" h="70">
                <a:moveTo>
                  <a:pt x="83" y="35"/>
                </a:moveTo>
                <a:lnTo>
                  <a:pt x="0" y="70"/>
                </a:lnTo>
                <a:lnTo>
                  <a:pt x="0" y="0"/>
                </a:lnTo>
                <a:lnTo>
                  <a:pt x="83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33520" y="1828800"/>
            <a:ext cx="7440480" cy="4251960"/>
            <a:chOff x="533520" y="1828800"/>
            <a:chExt cx="7440480" cy="4251960"/>
          </a:xfrm>
        </p:grpSpPr>
        <p:sp>
          <p:nvSpPr>
            <p:cNvPr id="126" name=""/>
            <p:cNvSpPr/>
            <p:nvPr/>
          </p:nvSpPr>
          <p:spPr>
            <a:xfrm>
              <a:off x="533520" y="1828800"/>
              <a:ext cx="1295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Ventas Total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de Industria ($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37440" y="5867280"/>
              <a:ext cx="63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057320" y="2320920"/>
              <a:ext cx="6916680" cy="3498840"/>
              <a:chOff x="1057320" y="2320920"/>
              <a:chExt cx="6916680" cy="3498840"/>
            </a:xfrm>
          </p:grpSpPr>
          <p:sp>
            <p:nvSpPr>
              <p:cNvPr id="129" name=""/>
              <p:cNvSpPr/>
              <p:nvPr/>
            </p:nvSpPr>
            <p:spPr>
              <a:xfrm>
                <a:off x="1057320" y="2320920"/>
                <a:ext cx="1440" cy="349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66680" y="5791320"/>
                <a:ext cx="6907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212840" y="3524400"/>
              <a:ext cx="6103800" cy="2296800"/>
              <a:chOff x="1212840" y="3524400"/>
              <a:chExt cx="6103800" cy="2296800"/>
            </a:xfrm>
          </p:grpSpPr>
          <p:sp>
            <p:nvSpPr>
              <p:cNvPr id="132" name=""/>
              <p:cNvSpPr/>
              <p:nvPr/>
            </p:nvSpPr>
            <p:spPr>
              <a:xfrm>
                <a:off x="5362560" y="3524400"/>
                <a:ext cx="1440" cy="2266920"/>
              </a:xfrm>
              <a:prstGeom prst="line">
                <a:avLst/>
              </a:prstGeom>
              <a:ln w="36360">
                <a:solidFill>
                  <a:srgbClr val="0000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78440" y="3524400"/>
                <a:ext cx="1800" cy="2266920"/>
              </a:xfrm>
              <a:prstGeom prst="line">
                <a:avLst/>
              </a:prstGeom>
              <a:ln w="36360">
                <a:solidFill>
                  <a:srgbClr val="0000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614920" y="3524400"/>
                <a:ext cx="1800" cy="2266920"/>
              </a:xfrm>
              <a:prstGeom prst="line">
                <a:avLst/>
              </a:prstGeom>
              <a:ln w="36360">
                <a:solidFill>
                  <a:srgbClr val="0000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29360" y="3524400"/>
                <a:ext cx="1440" cy="2266920"/>
              </a:xfrm>
              <a:prstGeom prst="line">
                <a:avLst/>
              </a:prstGeom>
              <a:ln w="36360">
                <a:solidFill>
                  <a:srgbClr val="0000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6395760" y="3581280"/>
                <a:ext cx="4680" cy="2210040"/>
              </a:xfrm>
              <a:prstGeom prst="line">
                <a:avLst/>
              </a:prstGeom>
              <a:ln w="36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10280" y="3733920"/>
                <a:ext cx="1800" cy="2060280"/>
              </a:xfrm>
              <a:prstGeom prst="line">
                <a:avLst/>
              </a:prstGeom>
              <a:ln w="36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705720" y="3657600"/>
                <a:ext cx="0" cy="2133720"/>
              </a:xfrm>
              <a:prstGeom prst="line">
                <a:avLst/>
              </a:prstGeom>
              <a:ln w="36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315200" y="3886200"/>
                <a:ext cx="1440" cy="1920960"/>
              </a:xfrm>
              <a:prstGeom prst="line">
                <a:avLst/>
              </a:prstGeom>
              <a:ln w="36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1212840" y="3524400"/>
                <a:ext cx="3898800" cy="2296800"/>
                <a:chOff x="1212840" y="3524400"/>
                <a:chExt cx="3898800" cy="22968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110200" y="3524400"/>
                  <a:ext cx="1440" cy="2266920"/>
                </a:xfrm>
                <a:prstGeom prst="line">
                  <a:avLst/>
                </a:prstGeom>
                <a:ln w="36360">
                  <a:solidFill>
                    <a:srgbClr val="0000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82920" y="3565440"/>
                  <a:ext cx="1800" cy="2225880"/>
                </a:xfrm>
                <a:prstGeom prst="line">
                  <a:avLst/>
                </a:prstGeom>
                <a:ln w="36360">
                  <a:solidFill>
                    <a:srgbClr val="0000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032360" y="3606840"/>
                  <a:ext cx="1440" cy="2184480"/>
                </a:xfrm>
                <a:prstGeom prst="line">
                  <a:avLst/>
                </a:prstGeom>
                <a:ln w="36360">
                  <a:solidFill>
                    <a:srgbClr val="0000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799160" y="3565440"/>
                  <a:ext cx="1440" cy="2225880"/>
                </a:xfrm>
                <a:prstGeom prst="line">
                  <a:avLst/>
                </a:prstGeom>
                <a:ln w="36360">
                  <a:solidFill>
                    <a:srgbClr val="0000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546440" y="3565440"/>
                  <a:ext cx="1800" cy="2225880"/>
                </a:xfrm>
                <a:prstGeom prst="line">
                  <a:avLst/>
                </a:prstGeom>
                <a:ln w="36360">
                  <a:solidFill>
                    <a:srgbClr val="0000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780000" y="3648240"/>
                  <a:ext cx="1440" cy="2143080"/>
                </a:xfrm>
                <a:prstGeom prst="line">
                  <a:avLst/>
                </a:prstGeom>
                <a:ln w="36360">
                  <a:solidFill>
                    <a:srgbClr val="a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505320" y="3886200"/>
                  <a:ext cx="1440" cy="1935000"/>
                </a:xfrm>
                <a:prstGeom prst="line">
                  <a:avLst/>
                </a:prstGeom>
                <a:ln w="36360">
                  <a:solidFill>
                    <a:srgbClr val="a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1212840" y="4008600"/>
                  <a:ext cx="2052720" cy="1782720"/>
                  <a:chOff x="1212840" y="4008600"/>
                  <a:chExt cx="2052720" cy="1782720"/>
                </a:xfrm>
              </p:grpSpPr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2514600" y="4008600"/>
                    <a:ext cx="750960" cy="1782720"/>
                    <a:chOff x="2514600" y="4008600"/>
                    <a:chExt cx="750960" cy="178272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2514600" y="5105520"/>
                      <a:ext cx="0" cy="685800"/>
                    </a:xfrm>
                    <a:prstGeom prst="line">
                      <a:avLst/>
                    </a:prstGeom>
                    <a:ln w="36360">
                      <a:solidFill>
                        <a:srgbClr val="aa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743200" y="4876920"/>
                      <a:ext cx="0" cy="914400"/>
                    </a:xfrm>
                    <a:prstGeom prst="line">
                      <a:avLst/>
                    </a:prstGeom>
                    <a:ln w="36360">
                      <a:solidFill>
                        <a:srgbClr val="aa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3000240" y="4492800"/>
                      <a:ext cx="1800" cy="1298520"/>
                    </a:xfrm>
                    <a:prstGeom prst="line">
                      <a:avLst/>
                    </a:prstGeom>
                    <a:ln w="36360">
                      <a:solidFill>
                        <a:srgbClr val="aa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263760" y="4008600"/>
                      <a:ext cx="1800" cy="1782720"/>
                    </a:xfrm>
                    <a:prstGeom prst="line">
                      <a:avLst/>
                    </a:prstGeom>
                    <a:ln w="36360">
                      <a:solidFill>
                        <a:srgbClr val="aa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" name=""/>
                  <p:cNvSpPr/>
                  <p:nvPr/>
                </p:nvSpPr>
                <p:spPr>
                  <a:xfrm>
                    <a:off x="1465200" y="5695920"/>
                    <a:ext cx="1800" cy="82440"/>
                  </a:xfrm>
                  <a:prstGeom prst="line">
                    <a:avLst/>
                  </a:prstGeom>
                  <a:ln w="36360">
                    <a:solidFill>
                      <a:srgbClr val="0044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717560" y="5599080"/>
                    <a:ext cx="1800" cy="179280"/>
                  </a:xfrm>
                  <a:prstGeom prst="line">
                    <a:avLst/>
                  </a:prstGeom>
                  <a:ln w="36360">
                    <a:solidFill>
                      <a:srgbClr val="0044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81080" y="5473800"/>
                    <a:ext cx="1800" cy="304560"/>
                  </a:xfrm>
                  <a:prstGeom prst="line">
                    <a:avLst/>
                  </a:prstGeom>
                  <a:ln w="36360">
                    <a:solidFill>
                      <a:srgbClr val="0044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212840" y="5737320"/>
                    <a:ext cx="1440" cy="41040"/>
                  </a:xfrm>
                  <a:prstGeom prst="line">
                    <a:avLst/>
                  </a:prstGeom>
                  <a:ln w="36360">
                    <a:solidFill>
                      <a:srgbClr val="0044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2209680" y="5334120"/>
                    <a:ext cx="1800" cy="457200"/>
                  </a:xfrm>
                  <a:prstGeom prst="line">
                    <a:avLst/>
                  </a:prstGeom>
                  <a:ln w="36360">
                    <a:solidFill>
                      <a:srgbClr val="0044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9CD-C54D-4D5E-8F9D-EAEEA95FA8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71680" y="228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riterios para incluir en cartera </a:t>
            </a:r>
            <a:br>
              <a:rPr sz="28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urva de experiencia</a:t>
            </a:r>
            <a:br>
              <a:rPr sz="2800"/>
            </a:br>
            <a:r>
              <a:rPr b="1" i="1" lang="es-ES_tradnl" sz="2000" spc="-1" strike="noStrike">
                <a:solidFill>
                  <a:srgbClr val="cc0000"/>
                </a:solidFill>
                <a:latin typeface="Arial"/>
              </a:rPr>
              <a:t>Tener alta fracción de mercado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1820880"/>
            <a:ext cx="7772400" cy="44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E52-3E8A-4D98-BD2E-FEB7F7206A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a Nivel Empr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44792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. Criterios para incluir en car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egocios en los que competirá. (¿ Crecimiento Industrias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orma de competir en cada uno. (¿ Fracción de mercado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riterios conjuntos en car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20000"/>
                </a:solidFill>
                <a:latin typeface="Arial"/>
              </a:rPr>
              <a:t>B. Complementariedad entr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mplementariedades entre cadenas de valor. Sinergia económica y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gración vertical: complementación entre actividades direc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gración horizontal : complementación entre actividades de apoy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sarrollo: Negocios con utilidades hoy generan recursos para negocios que las generarán mañ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conomías en negocios mayores que costo de super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6920-BC56-4D7D-B5DC-B530BB080F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mplementariedad entre negocios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egración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9040" y="13712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uscar economías entre actividades primarias: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Logística de entrada o sa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Fabricación, producción u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Ventas, comercialización y servi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onocer mercados de clientes o usuario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Negociar con canales y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09480" y="3886200"/>
            <a:ext cx="7429680" cy="1933200"/>
            <a:chOff x="609480" y="3886200"/>
            <a:chExt cx="7429680" cy="1933200"/>
          </a:xfrm>
        </p:grpSpPr>
        <p:grpSp>
          <p:nvGrpSpPr>
            <p:cNvPr id="166" name=""/>
            <p:cNvGrpSpPr/>
            <p:nvPr/>
          </p:nvGrpSpPr>
          <p:grpSpPr>
            <a:xfrm>
              <a:off x="2895480" y="3910680"/>
              <a:ext cx="2819520" cy="1908720"/>
              <a:chOff x="2895480" y="3910680"/>
              <a:chExt cx="2819520" cy="1908720"/>
            </a:xfrm>
          </p:grpSpPr>
          <p:sp>
            <p:nvSpPr>
              <p:cNvPr id="167" name=""/>
              <p:cNvSpPr/>
              <p:nvPr/>
            </p:nvSpPr>
            <p:spPr>
              <a:xfrm>
                <a:off x="2895480" y="3910680"/>
                <a:ext cx="2819520" cy="1908720"/>
              </a:xfrm>
              <a:custGeom>
                <a:avLst/>
                <a:gdLst>
                  <a:gd name="textAreaLeft" fmla="*/ 0 w 2819520"/>
                  <a:gd name="textAreaRight" fmla="*/ 2819880 w 2819520"/>
                  <a:gd name="textAreaTop" fmla="*/ 0 h 1908720"/>
                  <a:gd name="textAreaBottom" fmla="*/ 1909080 h 190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0560" y="4727160"/>
                <a:ext cx="953280" cy="3682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Car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09480" y="3910680"/>
              <a:ext cx="2819520" cy="1908720"/>
              <a:chOff x="609480" y="3910680"/>
              <a:chExt cx="2819520" cy="1908720"/>
            </a:xfrm>
          </p:grpSpPr>
          <p:sp>
            <p:nvSpPr>
              <p:cNvPr id="170" name=""/>
              <p:cNvSpPr/>
              <p:nvPr/>
            </p:nvSpPr>
            <p:spPr>
              <a:xfrm>
                <a:off x="609480" y="3910680"/>
                <a:ext cx="2819520" cy="1908720"/>
              </a:xfrm>
              <a:custGeom>
                <a:avLst/>
                <a:gdLst>
                  <a:gd name="textAreaLeft" fmla="*/ 0 w 2819520"/>
                  <a:gd name="textAreaRight" fmla="*/ 2819880 w 2819520"/>
                  <a:gd name="textAreaTop" fmla="*/ 0 h 1908720"/>
                  <a:gd name="textAreaBottom" fmla="*/ 1909080 h 190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640160" y="4727160"/>
                <a:ext cx="1297800" cy="36828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Ganade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5219640" y="3886200"/>
              <a:ext cx="2819520" cy="1908720"/>
              <a:chOff x="5219640" y="3886200"/>
              <a:chExt cx="2819520" cy="1908720"/>
            </a:xfrm>
          </p:grpSpPr>
          <p:sp>
            <p:nvSpPr>
              <p:cNvPr id="173" name=""/>
              <p:cNvSpPr/>
              <p:nvPr/>
            </p:nvSpPr>
            <p:spPr>
              <a:xfrm>
                <a:off x="5219640" y="3886200"/>
                <a:ext cx="2819520" cy="1908720"/>
              </a:xfrm>
              <a:custGeom>
                <a:avLst/>
                <a:gdLst>
                  <a:gd name="textAreaLeft" fmla="*/ 0 w 2819520"/>
                  <a:gd name="textAreaRight" fmla="*/ 2819880 w 2819520"/>
                  <a:gd name="textAreaTop" fmla="*/ 0 h 1908720"/>
                  <a:gd name="textAreaBottom" fmla="*/ 1909080 h 190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98400" y="4700520"/>
                <a:ext cx="1055520" cy="368280"/>
              </a:xfrm>
              <a:prstGeom prst="rect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Cecin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464-C5B1-4BBF-B2D3-F025902409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mplementariedad entre negocios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egración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4572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uscar posibles economías en  actividades de apoyo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onocer merc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Obtener recursos financi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Obtener recursos hu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Obtener insumos prod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Obtener tecnología y know- 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Negociar con 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80880" y="1676520"/>
            <a:ext cx="3276720" cy="4190400"/>
            <a:chOff x="380880" y="1676520"/>
            <a:chExt cx="3276720" cy="4190400"/>
          </a:xfrm>
        </p:grpSpPr>
        <p:grpSp>
          <p:nvGrpSpPr>
            <p:cNvPr id="178" name=""/>
            <p:cNvGrpSpPr/>
            <p:nvPr/>
          </p:nvGrpSpPr>
          <p:grpSpPr>
            <a:xfrm>
              <a:off x="380880" y="1676520"/>
              <a:ext cx="3276720" cy="1981080"/>
              <a:chOff x="380880" y="1676520"/>
              <a:chExt cx="3276720" cy="1981080"/>
            </a:xfrm>
          </p:grpSpPr>
          <p:sp>
            <p:nvSpPr>
              <p:cNvPr id="179" name=""/>
              <p:cNvSpPr/>
              <p:nvPr/>
            </p:nvSpPr>
            <p:spPr>
              <a:xfrm>
                <a:off x="380880" y="1676520"/>
                <a:ext cx="3276720" cy="1981080"/>
              </a:xfrm>
              <a:custGeom>
                <a:avLst/>
                <a:gdLst>
                  <a:gd name="textAreaLeft" fmla="*/ 0 w 3276720"/>
                  <a:gd name="textAreaRight" fmla="*/ 3277080 w 3276720"/>
                  <a:gd name="textAreaTop" fmla="*/ 0 h 1981080"/>
                  <a:gd name="textAreaBottom" fmla="*/ 1981440 h 19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09760" y="2346120"/>
                <a:ext cx="114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Codelc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N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80880" y="3886200"/>
              <a:ext cx="3276720" cy="1980720"/>
              <a:chOff x="380880" y="3886200"/>
              <a:chExt cx="3276720" cy="1980720"/>
            </a:xfrm>
          </p:grpSpPr>
          <p:sp>
            <p:nvSpPr>
              <p:cNvPr id="182" name=""/>
              <p:cNvSpPr/>
              <p:nvPr/>
            </p:nvSpPr>
            <p:spPr>
              <a:xfrm>
                <a:off x="380880" y="3886200"/>
                <a:ext cx="3276720" cy="1980720"/>
              </a:xfrm>
              <a:custGeom>
                <a:avLst/>
                <a:gdLst>
                  <a:gd name="textAreaLeft" fmla="*/ 0 w 3276720"/>
                  <a:gd name="textAreaRight" fmla="*/ 3277080 w 3276720"/>
                  <a:gd name="textAreaTop" fmla="*/ 0 h 1980720"/>
                  <a:gd name="textAreaBottom" fmla="*/ 1981080 h 198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09760" y="4555800"/>
                <a:ext cx="114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Codelc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Teni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A3E-4D34-49F8-86A3-FEA9F1F9DF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9:55:39Z</dcterms:created>
  <dc:creator>Alvaro de la Barra G.</dc:creator>
  <dc:description/>
  <dc:language>en-US</dc:language>
  <cp:lastModifiedBy>Alvaro de la Barra G.</cp:lastModifiedBy>
  <cp:lastPrinted>2004-10-12T15:24:42Z</cp:lastPrinted>
  <dcterms:modified xsi:type="dcterms:W3CDTF">2004-12-02T21:35:53Z</dcterms:modified>
  <cp:revision>74</cp:revision>
  <dc:subject/>
  <dc:title>Sin título de diapositiva</dc:title>
</cp:coreProperties>
</file>