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2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657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8610480"/>
            <a:ext cx="3657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5840" y="861048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A5023-0897-4EE8-B668-9156C0BA011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¿AGROPESUR o Agrosup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0EDB-4098-47BD-BF2F-DFE5BE5EE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3156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8D3B-5FE5-41A3-A04D-BEB8D9DB6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7ED9-0184-4469-8087-BD41DF6C8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A460-0523-4185-A8E5-451DBF029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22E3D-2485-4F10-8968-609323610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714DE-E6E9-4A25-B0D3-25885E747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7EDB2-F615-4B6A-843E-528872226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A893E-C2EE-4896-884B-8F8C9F981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D5C58-5D75-4104-8D36-B111A5A13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DEBFD-60E2-4870-BA14-1AF6F5475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65FAD-662F-4454-84C4-0478EDB3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8D7D-30A3-4FBD-B5E4-47CFFC6FA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0BDEC-8B22-4647-8B3E-350FAA6B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78633-4BBE-47DA-8C2F-03C50E39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3156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B1F69-96CC-42A1-9A60-01BBC9E93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E938A-0D87-46AC-91AB-B6A0D5D7D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182D9-54EA-41C9-A59C-5B51ECAE5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BF8E-9FAA-4E4D-8625-9C82A1212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EFE5-8729-4758-8FA3-5056B363B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8BCE-1811-4E1C-9E9C-84252C0B9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3F82-D1F1-4F3A-8BB8-DA52C932C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9A76-5F85-4F38-84BA-E68BEEFA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0F78-FD31-4260-A883-55DBA0EC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E509-17B4-457A-984E-6887FD0D9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72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6E4FE-1FA6-4716-B914-A1728DBD17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3241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0A25A-F5ED-47AC-90A0-856DD3DFF5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1752480"/>
            <a:ext cx="77724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00"/>
                </a:solidFill>
                <a:latin typeface="Arial"/>
              </a:rPr>
              <a:t>Política de Negocios</a:t>
            </a:r>
            <a:br>
              <a:rPr sz="4000"/>
            </a:br>
            <a:br>
              <a:rPr sz="2400"/>
            </a:b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 Alvaro de la Barra G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5562720"/>
            <a:ext cx="8305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77"/>
                </a:solidFill>
                <a:latin typeface="Arial"/>
              </a:rPr>
              <a:t> </a:t>
            </a:r>
            <a:r>
              <a:rPr b="1" i="1" lang="es-ES_tradnl" sz="2000" spc="-1" strike="noStrike">
                <a:solidFill>
                  <a:srgbClr val="000077"/>
                </a:solidFill>
                <a:latin typeface="Arial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A014-F198-4928-B2E4-BC6AE3E5028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576360" y="228600"/>
            <a:ext cx="7991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000" spc="-1" strike="noStrike">
                <a:solidFill>
                  <a:srgbClr val="660000"/>
                </a:solidFill>
                <a:latin typeface="Arial"/>
              </a:rPr>
              <a:t>Aporte Corporativo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1295280"/>
            <a:ext cx="83822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Análisis de escenarios exter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Perspectivas económicas y competitiv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Recursos críticos: humanos, insumos, tecnología,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Entorno legal, político y 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Análisis inte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Recursos a compart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Asegurar sinergias en cadenas de val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Aportes corpor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Eficiencia en el uso de todos los recursos - no sólo el financi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Capacidad de negoci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Competencias nucleares para ventaja competi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Tamaño y crecimiento. Ventas, util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Asignación de 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Re-desplegar recursos : invertir, des-invertir, diversifi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BD20-57F6-4AEB-B080-4FBEF0C838F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09480" y="228600"/>
            <a:ext cx="792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Aporte Corporativo </a:t>
            </a:r>
            <a:br>
              <a:rPr sz="2800"/>
            </a:b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Crecimiento y Participacion</a:t>
            </a:r>
            <a:br>
              <a:rPr sz="2400"/>
            </a:br>
            <a:r>
              <a:rPr b="1" i="1" lang="es-ES_tradnl" sz="2000" spc="-1" strike="noStrike">
                <a:solidFill>
                  <a:srgbClr val="cc0000"/>
                </a:solidFill>
                <a:latin typeface="Arial"/>
              </a:rPr>
              <a:t>Tener unidades que generan y otras que utilizan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907920" y="1752480"/>
            <a:ext cx="7328160" cy="468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5471-2BB6-4409-ABEC-1C2953FCF43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85800" y="228600"/>
            <a:ext cx="777240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Competencias Nucle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685800" y="1143000"/>
            <a:ext cx="7772400" cy="4989600"/>
            <a:chOff x="685800" y="1143000"/>
            <a:chExt cx="7772400" cy="4989600"/>
          </a:xfrm>
        </p:grpSpPr>
        <p:grpSp>
          <p:nvGrpSpPr>
            <p:cNvPr id="190" name=""/>
            <p:cNvGrpSpPr/>
            <p:nvPr/>
          </p:nvGrpSpPr>
          <p:grpSpPr>
            <a:xfrm>
              <a:off x="838080" y="3686400"/>
              <a:ext cx="7467840" cy="2249280"/>
              <a:chOff x="838080" y="3686400"/>
              <a:chExt cx="7467840" cy="2249280"/>
            </a:xfrm>
          </p:grpSpPr>
          <p:grpSp>
            <p:nvGrpSpPr>
              <p:cNvPr id="191" name=""/>
              <p:cNvGrpSpPr/>
              <p:nvPr/>
            </p:nvGrpSpPr>
            <p:grpSpPr>
              <a:xfrm>
                <a:off x="2305080" y="3686400"/>
                <a:ext cx="4533840" cy="992160"/>
                <a:chOff x="2305080" y="3686400"/>
                <a:chExt cx="4533840" cy="99216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2305080" y="3686400"/>
                  <a:ext cx="4533840" cy="99216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2514960" y="3952800"/>
                  <a:ext cx="3653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400" spc="-1" strike="noStrike">
                      <a:solidFill>
                        <a:srgbClr val="ffffff"/>
                      </a:solidFill>
                      <a:latin typeface="Arial"/>
                    </a:rPr>
                    <a:t>     </a:t>
                  </a:r>
                  <a:r>
                    <a:rPr b="1" i="1" lang="es-ES_tradnl" sz="2400" spc="-1" strike="noStrike">
                      <a:solidFill>
                        <a:srgbClr val="ffffff"/>
                      </a:solidFill>
                      <a:latin typeface="Arial"/>
                    </a:rPr>
                    <a:t>Productos Nucleare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838080" y="4792680"/>
                <a:ext cx="7467840" cy="1143000"/>
                <a:chOff x="838080" y="4792680"/>
                <a:chExt cx="7467840" cy="114300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3481560" y="4792680"/>
                  <a:ext cx="2209680" cy="114300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400" spc="-1" strike="noStrike">
                      <a:solidFill>
                        <a:srgbClr val="ffffff"/>
                      </a:solidFill>
                      <a:latin typeface="Arial"/>
                    </a:rPr>
                    <a:t>Negocio 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838080" y="4792680"/>
                  <a:ext cx="2210040" cy="114300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400" spc="-1" strike="noStrike">
                      <a:solidFill>
                        <a:srgbClr val="ffffff"/>
                      </a:solidFill>
                      <a:latin typeface="Arial"/>
                    </a:rPr>
                    <a:t>Negocio 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6095880" y="4792680"/>
                  <a:ext cx="2210040" cy="114300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400" spc="-1" strike="noStrike">
                      <a:solidFill>
                        <a:srgbClr val="ffffff"/>
                      </a:solidFill>
                      <a:latin typeface="Arial"/>
                    </a:rPr>
                    <a:t>Negocio 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8" name=""/>
            <p:cNvGrpSpPr/>
            <p:nvPr/>
          </p:nvGrpSpPr>
          <p:grpSpPr>
            <a:xfrm>
              <a:off x="685800" y="1143000"/>
              <a:ext cx="7772400" cy="4989600"/>
              <a:chOff x="685800" y="1143000"/>
              <a:chExt cx="7772400" cy="4989600"/>
            </a:xfrm>
          </p:grpSpPr>
          <p:grpSp>
            <p:nvGrpSpPr>
              <p:cNvPr id="199" name=""/>
              <p:cNvGrpSpPr/>
              <p:nvPr/>
            </p:nvGrpSpPr>
            <p:grpSpPr>
              <a:xfrm>
                <a:off x="1181160" y="2049480"/>
                <a:ext cx="6781680" cy="1542960"/>
                <a:chOff x="1181160" y="2049480"/>
                <a:chExt cx="6781680" cy="1542960"/>
              </a:xfrm>
            </p:grpSpPr>
            <p:grpSp>
              <p:nvGrpSpPr>
                <p:cNvPr id="200" name=""/>
                <p:cNvGrpSpPr/>
                <p:nvPr/>
              </p:nvGrpSpPr>
              <p:grpSpPr>
                <a:xfrm>
                  <a:off x="1600200" y="2516400"/>
                  <a:ext cx="5943600" cy="609480"/>
                  <a:chOff x="1600200" y="2516400"/>
                  <a:chExt cx="5943600" cy="60948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>
                    <a:off x="1600200" y="2516400"/>
                    <a:ext cx="1828800" cy="609480"/>
                  </a:xfrm>
                  <a:prstGeom prst="rect">
                    <a:avLst/>
                  </a:prstGeom>
                  <a:solidFill>
                    <a:srgbClr val="cc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2400" spc="-1" strike="noStrike">
                        <a:solidFill>
                          <a:srgbClr val="000000"/>
                        </a:solidFill>
                        <a:latin typeface="Arial"/>
                      </a:rPr>
                      <a:t>  </a:t>
                    </a:r>
                    <a:r>
                      <a:rPr b="1" i="1" lang="es-ES_tradnl" sz="2000" spc="-1" strike="noStrike">
                        <a:solidFill>
                          <a:srgbClr val="ffffff"/>
                        </a:solidFill>
                        <a:latin typeface="Arial"/>
                      </a:rPr>
                      <a:t>I.</a:t>
                    </a:r>
                    <a:r>
                      <a:rPr b="1" i="1" lang="es-ES_tradnl" sz="20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r>
                      <a:rPr b="1" i="1" lang="es-ES_tradnl" sz="2000" spc="-1" strike="noStrike">
                        <a:solidFill>
                          <a:srgbClr val="ffffff"/>
                        </a:solidFill>
                        <a:latin typeface="Arial"/>
                      </a:rPr>
                      <a:t>Financiera</a:t>
                    </a:r>
                    <a:r>
                      <a:rPr b="1" i="1" lang="es-ES_tradnl" sz="2000" spc="-1" strike="noStrike">
                        <a:solidFill>
                          <a:srgbClr val="000000"/>
                        </a:solidFill>
                        <a:latin typeface="Arial"/>
                      </a:rPr>
                      <a:t>  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5715000" y="2516400"/>
                    <a:ext cx="1828800" cy="609480"/>
                  </a:xfrm>
                  <a:prstGeom prst="rect">
                    <a:avLst/>
                  </a:prstGeom>
                  <a:solidFill>
                    <a:srgbClr val="cc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2400" spc="-1" strike="noStrike">
                        <a:solidFill>
                          <a:srgbClr val="000000"/>
                        </a:solidFill>
                        <a:latin typeface="Arial"/>
                      </a:rPr>
                      <a:t>  </a:t>
                    </a:r>
                    <a:r>
                      <a:rPr b="1" i="1" lang="es-ES_tradnl" sz="2000" spc="-1" strike="noStrike">
                        <a:solidFill>
                          <a:srgbClr val="ffffff"/>
                        </a:solidFill>
                        <a:latin typeface="Arial"/>
                      </a:rPr>
                      <a:t>I. Médica</a:t>
                    </a:r>
                    <a:r>
                      <a:rPr b="1" i="1" lang="es-ES_tradnl" sz="18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3809880" y="2516400"/>
                    <a:ext cx="1524240" cy="609480"/>
                  </a:xfrm>
                  <a:prstGeom prst="rect">
                    <a:avLst/>
                  </a:prstGeom>
                  <a:solidFill>
                    <a:srgbClr val="cc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2400" spc="-1" strike="noStrike">
                        <a:solidFill>
                          <a:srgbClr val="000000"/>
                        </a:solidFill>
                        <a:latin typeface="Arial"/>
                      </a:rPr>
                      <a:t>  </a:t>
                    </a:r>
                    <a:r>
                      <a:rPr b="1" i="1" lang="es-ES_tradnl" sz="2000" spc="-1" strike="noStrike">
                        <a:solidFill>
                          <a:srgbClr val="ffffff"/>
                        </a:solidFill>
                        <a:latin typeface="Arial"/>
                      </a:rPr>
                      <a:t>I.Eléctrica</a:t>
                    </a:r>
                    <a:r>
                      <a:rPr b="1" i="1" lang="es-ES_tradnl" sz="20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4" name=""/>
                <p:cNvGrpSpPr/>
                <p:nvPr/>
              </p:nvGrpSpPr>
              <p:grpSpPr>
                <a:xfrm>
                  <a:off x="1181160" y="2049480"/>
                  <a:ext cx="6781680" cy="1542960"/>
                  <a:chOff x="1181160" y="2049480"/>
                  <a:chExt cx="6781680" cy="1542960"/>
                </a:xfrm>
              </p:grpSpPr>
              <p:sp>
                <p:nvSpPr>
                  <p:cNvPr id="205" name=""/>
                  <p:cNvSpPr/>
                  <p:nvPr/>
                </p:nvSpPr>
                <p:spPr>
                  <a:xfrm>
                    <a:off x="1181160" y="2049480"/>
                    <a:ext cx="6781680" cy="1542960"/>
                  </a:xfrm>
                  <a:prstGeom prst="rect">
                    <a:avLst/>
                  </a:prstGeom>
                  <a:noFill/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3794760" y="2049480"/>
                    <a:ext cx="13161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2400" spc="-1" strike="noStrike">
                        <a:solidFill>
                          <a:srgbClr val="cc0000"/>
                        </a:solidFill>
                        <a:latin typeface="Arial"/>
                      </a:rPr>
                      <a:t>Gestió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7" name=""/>
              <p:cNvGrpSpPr/>
              <p:nvPr/>
            </p:nvGrpSpPr>
            <p:grpSpPr>
              <a:xfrm>
                <a:off x="685800" y="1143000"/>
                <a:ext cx="7772400" cy="4989600"/>
                <a:chOff x="685800" y="1143000"/>
                <a:chExt cx="7772400" cy="498960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685800" y="1143000"/>
                  <a:ext cx="7772400" cy="4989600"/>
                </a:xfrm>
                <a:prstGeom prst="rect">
                  <a:avLst/>
                </a:prstGeom>
                <a:noFill/>
                <a:ln w="127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728880" y="1143000"/>
                  <a:ext cx="1467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400" spc="-1" strike="noStrike">
                      <a:solidFill>
                        <a:srgbClr val="003366"/>
                      </a:solidFill>
                      <a:latin typeface="Arial"/>
                    </a:rPr>
                    <a:t>Empres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A71D-7522-4DCF-9959-1004EED00B2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0948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Arial"/>
              </a:rPr>
              <a:t>Competencias Nucle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04920" y="9907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Competitividad a largo plazo 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Capacidad de generar nuevos servicios y productos a menor costo y tiempo que competido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</a:rPr>
              <a:t>Competencias </a:t>
            </a: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nucleares</a:t>
            </a:r>
            <a:r>
              <a:rPr b="1" i="1" lang="es-ES_tradnl" sz="2000" spc="-1" strike="noStrike">
                <a:solidFill>
                  <a:srgbClr val="660000"/>
                </a:solidFill>
                <a:latin typeface="Arial"/>
              </a:rPr>
              <a:t> de la empr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Aprendizaje colectivo que da la capacidad de organizar el trabajo para entregar valo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Permite coordinar distintas destrezas productivas e integrar diferentes tecnologí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Son dificiles de imitar y se potecian con el u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</a:rPr>
              <a:t>Productos nucle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Expresión física de las competencias. Elementos que agregan mucho valor a producto final,  ya que reducen costos, tiempo o riesgo de desarrollo. Generan economías de escala. Dan  acceso a muchos negoc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FAF8-6EBD-44BD-B64F-6C4527F9022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80880" y="1752480"/>
            <a:ext cx="8382240" cy="37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</a:rPr>
              <a:t>11.</a:t>
            </a:r>
            <a:r>
              <a:rPr b="0" i="1" lang="es-ES_tradnl" sz="2400" spc="-1" strike="noStrike">
                <a:solidFill>
                  <a:srgbClr val="660000"/>
                </a:solidFill>
                <a:latin typeface="Arial"/>
              </a:rPr>
              <a:t>   </a:t>
            </a: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¿ Qué son y que contienen estrategias y política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2560" y="431640"/>
            <a:ext cx="777240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reguntas a respo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D190-6587-4AFD-B87C-CED53E15328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419040" y="609480"/>
            <a:ext cx="8305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Estrategias y políticas en negocios y emp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1752480"/>
            <a:ext cx="777240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Estrategias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Directrices a la acción prolongada en el horizonte de plan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Orientan la asignación de todos sus 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2400" spc="-1" strike="noStrike">
                <a:solidFill>
                  <a:srgbClr val="000066"/>
                </a:solidFill>
                <a:latin typeface="Arial"/>
              </a:rPr>
              <a:t>Política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66"/>
                </a:solidFill>
                <a:latin typeface="Arial"/>
              </a:rPr>
              <a:t>Orientaciones y directrices que rigen la actuación de una organización en una situación o campo determin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3E06-5932-4DCB-9D78-B1E17219F00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682560" y="558720"/>
            <a:ext cx="77724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a50021"/>
                </a:solidFill>
                <a:latin typeface="Arial"/>
              </a:rPr>
              <a:t>Caracteristicas de estrategias y polí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95360" y="1828800"/>
            <a:ext cx="8153280" cy="39117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Manifiestan objetivos de largo plazo,  y definen prioridades para asignar los recurs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Buscan liderazgo sustentable:  a la luz desafíos externos y sus potencialidades interna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Definen  el desarrollo de competencias que le dan ventaja competitiva sostenible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Explicitan tareas para gestión superior. Son marco que  integra acción de negocios y unidad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Revelan su contribución a los “stakeholders”: quienes tienen derechos sobre el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AF2B-8C31-4156-8AE3-01E02AFFAD7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¿Que contienen las estrategias y política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Cada una contendrá programas.</a:t>
            </a: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 Estas son conductas y acciónes, coherentes entre sí, que explicita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Actividades a desarrollarse durante el horizo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Resultados medibles de esas actividad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Indicadores que reflejen los logros estratégicos que se  persiguen con el progra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Hitos temporales, que asocien valores de los indicadores a lo largo del horizont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Las unidades de gestión que desarrollarán las actividad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Los requerimientos de recursos operacionales y de inversión a lo largo del horizo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Las persona responsable de obtener los  result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6A71-B23D-4740-B372-E22163808D3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De estrategias a presupue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533520" y="1066680"/>
            <a:ext cx="8076960" cy="4952880"/>
            <a:chOff x="533520" y="1066680"/>
            <a:chExt cx="8076960" cy="4952880"/>
          </a:xfrm>
        </p:grpSpPr>
        <p:sp>
          <p:nvSpPr>
            <p:cNvPr id="222" name=""/>
            <p:cNvSpPr/>
            <p:nvPr/>
          </p:nvSpPr>
          <p:spPr>
            <a:xfrm>
              <a:off x="533520" y="1066680"/>
              <a:ext cx="8076960" cy="761760"/>
            </a:xfrm>
            <a:prstGeom prst="rect">
              <a:avLst/>
            </a:prstGeom>
            <a:solidFill>
              <a:srgbClr val="0066cc"/>
            </a:solidFill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800" spc="-1" strike="noStrike">
                  <a:solidFill>
                    <a:srgbClr val="ffffff"/>
                  </a:solidFill>
                  <a:latin typeface="Arial"/>
                </a:rPr>
                <a:t>Estrategias y políticas corporativ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723960" y="1828440"/>
              <a:ext cx="7696080" cy="4191120"/>
              <a:chOff x="723960" y="1828440"/>
              <a:chExt cx="7696080" cy="4191120"/>
            </a:xfrm>
          </p:grpSpPr>
          <p:sp>
            <p:nvSpPr>
              <p:cNvPr id="224" name=""/>
              <p:cNvSpPr/>
              <p:nvPr/>
            </p:nvSpPr>
            <p:spPr>
              <a:xfrm>
                <a:off x="5676840" y="3276360"/>
                <a:ext cx="609840" cy="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3429000" y="1828440"/>
                <a:ext cx="2286000" cy="3581640"/>
                <a:chOff x="3429000" y="1828440"/>
                <a:chExt cx="2286000" cy="358164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3467160" y="2438280"/>
                  <a:ext cx="2209680" cy="990360"/>
                </a:xfrm>
                <a:prstGeom prst="rect">
                  <a:avLst/>
                </a:prstGeom>
                <a:solidFill>
                  <a:srgbClr val="ff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Programa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i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y proyecto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i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Corporativo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429000" y="3962160"/>
                  <a:ext cx="2286000" cy="1447920"/>
                </a:xfrm>
                <a:prstGeom prst="rect">
                  <a:avLst/>
                </a:prstGeom>
                <a:solidFill>
                  <a:srgbClr val="ff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Presupuestos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Multianual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e indicador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De contro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Corporativ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4572000" y="1828440"/>
                  <a:ext cx="0" cy="609840"/>
                </a:xfrm>
                <a:prstGeom prst="line">
                  <a:avLst/>
                </a:prstGeom>
                <a:ln w="7632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flipV="1">
                  <a:off x="4572000" y="3428640"/>
                  <a:ext cx="0" cy="533520"/>
                </a:xfrm>
                <a:prstGeom prst="line">
                  <a:avLst/>
                </a:prstGeom>
                <a:ln w="57240">
                  <a:solidFill>
                    <a:srgbClr val="ff66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6134040" y="1828440"/>
                <a:ext cx="2286000" cy="4191120"/>
                <a:chOff x="6134040" y="1828440"/>
                <a:chExt cx="2286000" cy="419112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248160" y="3124080"/>
                  <a:ext cx="2057400" cy="914400"/>
                </a:xfrm>
                <a:prstGeom prst="rect">
                  <a:avLst/>
                </a:prstGeom>
                <a:solidFill>
                  <a:srgbClr val="cc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Programas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y proyecto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i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Funcionale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134040" y="4571640"/>
                  <a:ext cx="2286000" cy="1447920"/>
                </a:xfrm>
                <a:prstGeom prst="rect">
                  <a:avLst/>
                </a:prstGeom>
                <a:solidFill>
                  <a:srgbClr val="cc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Presupuestos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Multianual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e indicador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De contro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Funciona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7277040" y="1828440"/>
                  <a:ext cx="0" cy="1295640"/>
                </a:xfrm>
                <a:prstGeom prst="line">
                  <a:avLst/>
                </a:prstGeom>
                <a:ln w="76320">
                  <a:solidFill>
                    <a:srgbClr val="99cc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 flipV="1">
                  <a:off x="7277040" y="4038120"/>
                  <a:ext cx="0" cy="533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723960" y="1828440"/>
                <a:ext cx="2286000" cy="4191120"/>
                <a:chOff x="723960" y="1828440"/>
                <a:chExt cx="2286000" cy="41911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838080" y="3124080"/>
                  <a:ext cx="2057400" cy="914400"/>
                </a:xfrm>
                <a:prstGeom prst="rect">
                  <a:avLst/>
                </a:prstGeom>
                <a:solidFill>
                  <a:srgbClr val="ff7c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Programas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y proyecto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i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De negocio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23960" y="4571640"/>
                  <a:ext cx="2286000" cy="1447920"/>
                </a:xfrm>
                <a:prstGeom prst="rect">
                  <a:avLst/>
                </a:prstGeom>
                <a:solidFill>
                  <a:srgbClr val="ff7c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Presupuestos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Multianual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e indicador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De contro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Del negoci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866960" y="1828440"/>
                  <a:ext cx="0" cy="1295640"/>
                </a:xfrm>
                <a:prstGeom prst="line">
                  <a:avLst/>
                </a:prstGeom>
                <a:ln w="7632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flipV="1">
                  <a:off x="1866960" y="4038120"/>
                  <a:ext cx="0" cy="53316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0" name=""/>
              <p:cNvSpPr/>
              <p:nvPr/>
            </p:nvSpPr>
            <p:spPr>
              <a:xfrm>
                <a:off x="2857680" y="3276360"/>
                <a:ext cx="609480" cy="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F1A2-DB00-4F56-A1AD-E243012D9F9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Presupuesto multianual</a:t>
            </a:r>
            <a:br>
              <a:rPr sz="2800"/>
            </a:b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por nego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Año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2004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2005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2006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gresos por 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Ga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Remune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Adquisi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Servicios exter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ver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fraestruc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Tecnolo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B9AD-9BAE-4F63-956A-1A631ED9386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46200" y="1415880"/>
            <a:ext cx="7851600" cy="43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1.   ¿ Que es gestión estratégica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2.   ¿ Que son negocios y empresa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3.   ¿ Como se hace planificación en los negocio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4.   ¿ Como se describen los negocios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5.   ¿ Que son la misión y visión operacionale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6.   ¿ Que es análisis de escenario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7   ¿ Que son Valor y Ventaja Competitiva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8.  ¿ Que es Diagnóstico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9.  ¿ Que son areas funcionale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2560" y="431640"/>
            <a:ext cx="77724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reguntas contest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0368-AD7A-4BD7-B3F0-4639DC11998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Indicadores y me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19040" y="160020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Valores en el año:</a:t>
            </a: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2004</a:t>
            </a: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2005</a:t>
            </a: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2006</a:t>
            </a: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dicadores negocio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dicadores negocio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dicadores comer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dicadores adquisi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dicadores ope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dicadores tecnológ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dicadores financi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dicadores rrh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C20F-3977-4D6B-9F1E-C08A42ED2A2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Arial"/>
              </a:rPr>
              <a:t>Estructura Presentación F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1. Mision 2004 y Vision 2009 : destacar la brecha. Señalar las principales hipótesis sobre macro entorno y competi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2. Las 5 principales estrategias y políticas y la inversión que necesitará cad u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3. Oportunidades y amenazas externas que fundamentan las estrategias y polít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4. Fortalezas y debilidades competitivas e internas que justifican las estraategias y polític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5. Presupuesto agregado proyectado hasta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6. Indicadores de gestion para cada negocio y funcion. No mas de 10 en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7883-31F2-4475-8422-4EFDF41F24D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Maximizar el valor del patrimonio de los due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Valor medido en el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El valor presente ponde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De flujos futuros de utilidades retir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Descontadas a costo alternativo de patrimon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002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Modelo simplificado de valor en el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2200"/>
                </a:solidFill>
                <a:latin typeface="Arial"/>
              </a:rPr>
              <a:t>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M   =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      UT1     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+ …… +</a:t>
            </a:r>
            <a:r>
              <a:rPr b="1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     UTJ     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+ …… +</a:t>
            </a:r>
            <a:r>
              <a:rPr b="1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      UTN     </a:t>
            </a:r>
            <a:r>
              <a:rPr b="1" i="1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r>
              <a:rPr b="1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(1+TDP)</a:t>
            </a:r>
            <a:r>
              <a:rPr b="1" i="1" lang="es-ES_tradnl" sz="2400" spc="-1" strike="noStrike" baseline="30000">
                <a:solidFill>
                  <a:srgbClr val="000000"/>
                </a:solidFill>
                <a:latin typeface="Arial"/>
              </a:rPr>
              <a:t>^</a:t>
            </a:r>
            <a:r>
              <a:rPr b="1" i="1" lang="es-ES_tradnl" sz="2400" spc="-1" strike="noStrike" baseline="40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       (1+TDP)</a:t>
            </a:r>
            <a:r>
              <a:rPr b="1" i="1" lang="es-ES_tradnl" sz="2400" spc="-1" strike="noStrike" baseline="30000">
                <a:solidFill>
                  <a:srgbClr val="000000"/>
                </a:solidFill>
                <a:latin typeface="Arial"/>
              </a:rPr>
              <a:t>^J</a:t>
            </a:r>
            <a:r>
              <a:rPr b="1" i="1" lang="es-ES_tradnl" sz="20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               (1+TDP)</a:t>
            </a:r>
            <a:r>
              <a:rPr b="1" i="1" lang="es-ES_tradnl" sz="2400" spc="-1" strike="noStrike" baseline="30000">
                <a:solidFill>
                  <a:srgbClr val="000000"/>
                </a:solidFill>
                <a:latin typeface="Arial"/>
              </a:rPr>
              <a:t>^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: valor de mercado de las a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UTJ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: utilidades año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TDP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: tasa de descuento patrimon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380880"/>
            <a:ext cx="7772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Responsabilidad Respecto al Dueñ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0BAC-3A5E-4E64-9462-1B5DFE5E21E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62120" y="2590920"/>
            <a:ext cx="7619760" cy="25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</a:rPr>
              <a:t>10. ¿ Como se hacen Estrategias en la Empresa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</a:rPr>
              <a:t>A)</a:t>
            </a:r>
            <a:r>
              <a:rPr b="1" i="1" lang="es-ES_tradnl" sz="2000" spc="-1" strike="noStrike">
                <a:solidFill>
                  <a:srgbClr val="66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66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660000"/>
                </a:solidFill>
                <a:latin typeface="Arial"/>
              </a:rPr>
              <a:t>Criterios para incluir en cart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</a:rPr>
              <a:t>B)</a:t>
            </a:r>
            <a:r>
              <a:rPr b="1" i="1" lang="es-ES_tradnl" sz="2000" spc="-1" strike="noStrike">
                <a:solidFill>
                  <a:srgbClr val="66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66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660000"/>
                </a:solidFill>
                <a:latin typeface="Arial"/>
              </a:rPr>
              <a:t>Complemetariedad entre nego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</a:rPr>
              <a:t>c)</a:t>
            </a:r>
            <a:r>
              <a:rPr b="1" i="1" lang="es-ES_tradnl" sz="2000" spc="-1" strike="noStrike">
                <a:solidFill>
                  <a:srgbClr val="66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66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660000"/>
                </a:solidFill>
                <a:latin typeface="Arial"/>
              </a:rPr>
              <a:t>Aporte Corpor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31640"/>
            <a:ext cx="777240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Estrategias y politicas </a:t>
            </a:r>
            <a:br>
              <a:rPr sz="2400"/>
            </a:b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reguntas a respo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4A3D-7320-471D-89C0-835A2BE84E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333440" y="584280"/>
            <a:ext cx="6477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0066"/>
                </a:solidFill>
                <a:latin typeface="Arial"/>
              </a:rPr>
              <a:t>Integració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609480" y="1523880"/>
            <a:ext cx="8020080" cy="4419720"/>
            <a:chOff x="609480" y="1523880"/>
            <a:chExt cx="8020080" cy="4419720"/>
          </a:xfrm>
        </p:grpSpPr>
        <p:sp>
          <p:nvSpPr>
            <p:cNvPr id="96" name=""/>
            <p:cNvSpPr/>
            <p:nvPr/>
          </p:nvSpPr>
          <p:spPr>
            <a:xfrm>
              <a:off x="609480" y="1523880"/>
              <a:ext cx="8020080" cy="1524240"/>
            </a:xfrm>
            <a:prstGeom prst="rect">
              <a:avLst/>
            </a:prstGeom>
            <a:solidFill>
              <a:srgbClr val="d20000"/>
            </a:solidFill>
            <a:ln w="9360">
              <a:solidFill>
                <a:srgbClr val="d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3600" spc="-1" strike="noStrike">
                  <a:solidFill>
                    <a:srgbClr val="ffffff"/>
                  </a:solidFill>
                  <a:latin typeface="Arial"/>
                </a:rPr>
                <a:t>Empres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714240" y="3048120"/>
              <a:ext cx="7810560" cy="2895480"/>
              <a:chOff x="714240" y="3048120"/>
              <a:chExt cx="7810560" cy="289548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714240" y="3048120"/>
                <a:ext cx="2286000" cy="2895480"/>
                <a:chOff x="714240" y="3048120"/>
                <a:chExt cx="2286000" cy="2895480"/>
              </a:xfrm>
            </p:grpSpPr>
            <p:grpSp>
              <p:nvGrpSpPr>
                <p:cNvPr id="99" name=""/>
                <p:cNvGrpSpPr/>
                <p:nvPr/>
              </p:nvGrpSpPr>
              <p:grpSpPr>
                <a:xfrm>
                  <a:off x="714240" y="3657600"/>
                  <a:ext cx="2286000" cy="2286000"/>
                  <a:chOff x="714240" y="3657600"/>
                  <a:chExt cx="2286000" cy="2286000"/>
                </a:xfrm>
              </p:grpSpPr>
              <p:sp>
                <p:nvSpPr>
                  <p:cNvPr id="100" name=""/>
                  <p:cNvSpPr/>
                  <p:nvPr/>
                </p:nvSpPr>
                <p:spPr>
                  <a:xfrm>
                    <a:off x="714240" y="3657600"/>
                    <a:ext cx="2286000" cy="2286000"/>
                  </a:xfrm>
                  <a:prstGeom prst="ellipse">
                    <a:avLst/>
                  </a:prstGeom>
                  <a:solidFill>
                    <a:srgbClr val="0000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1096920" y="5257800"/>
                    <a:ext cx="13741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18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i="1" lang="es-ES_tradnl" sz="1800" spc="-1" strike="noStrike">
                        <a:solidFill>
                          <a:srgbClr val="ffffff"/>
                        </a:solidFill>
                        <a:latin typeface="Arial"/>
                      </a:rPr>
                      <a:t>Mercado 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2" name=""/>
                <p:cNvSpPr/>
                <p:nvPr/>
              </p:nvSpPr>
              <p:spPr>
                <a:xfrm>
                  <a:off x="1095120" y="3962520"/>
                  <a:ext cx="1524240" cy="398880"/>
                </a:xfrm>
                <a:prstGeom prst="rect">
                  <a:avLst/>
                </a:prstGeom>
                <a:solidFill>
                  <a:srgbClr val="d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ffffff"/>
                      </a:solidFill>
                      <a:latin typeface="Arial"/>
                    </a:rPr>
                    <a:t>Negocio 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1857240" y="3048120"/>
                  <a:ext cx="0" cy="914400"/>
                </a:xfrm>
                <a:prstGeom prst="line">
                  <a:avLst/>
                </a:prstGeom>
                <a:ln w="38160">
                  <a:solidFill>
                    <a:srgbClr val="d2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3476520" y="3086280"/>
                <a:ext cx="2286000" cy="2818800"/>
                <a:chOff x="3476520" y="3086280"/>
                <a:chExt cx="2286000" cy="2818800"/>
              </a:xfrm>
            </p:grpSpPr>
            <p:grpSp>
              <p:nvGrpSpPr>
                <p:cNvPr id="105" name=""/>
                <p:cNvGrpSpPr/>
                <p:nvPr/>
              </p:nvGrpSpPr>
              <p:grpSpPr>
                <a:xfrm>
                  <a:off x="3476520" y="3619440"/>
                  <a:ext cx="2286000" cy="2285640"/>
                  <a:chOff x="3476520" y="3619440"/>
                  <a:chExt cx="2286000" cy="2285640"/>
                </a:xfrm>
              </p:grpSpPr>
              <p:sp>
                <p:nvSpPr>
                  <p:cNvPr id="106" name=""/>
                  <p:cNvSpPr/>
                  <p:nvPr/>
                </p:nvSpPr>
                <p:spPr>
                  <a:xfrm>
                    <a:off x="3476520" y="3619440"/>
                    <a:ext cx="2286000" cy="2285640"/>
                  </a:xfrm>
                  <a:prstGeom prst="ellipse">
                    <a:avLst/>
                  </a:prstGeom>
                  <a:solidFill>
                    <a:srgbClr val="0099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3843360" y="5219280"/>
                    <a:ext cx="13741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18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i="1" lang="es-ES_tradnl" sz="1800" spc="-1" strike="noStrike">
                        <a:solidFill>
                          <a:srgbClr val="ffffff"/>
                        </a:solidFill>
                        <a:latin typeface="Arial"/>
                      </a:rPr>
                      <a:t>Mercado 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8" name=""/>
                <p:cNvSpPr/>
                <p:nvPr/>
              </p:nvSpPr>
              <p:spPr>
                <a:xfrm>
                  <a:off x="3857400" y="3924360"/>
                  <a:ext cx="1524240" cy="398880"/>
                </a:xfrm>
                <a:prstGeom prst="rect">
                  <a:avLst/>
                </a:prstGeom>
                <a:solidFill>
                  <a:srgbClr val="d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ffffff"/>
                      </a:solidFill>
                      <a:latin typeface="Arial"/>
                    </a:rPr>
                    <a:t>Negocio 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4619520" y="3086280"/>
                  <a:ext cx="0" cy="838080"/>
                </a:xfrm>
                <a:prstGeom prst="line">
                  <a:avLst/>
                </a:prstGeom>
                <a:ln w="38160">
                  <a:solidFill>
                    <a:srgbClr val="d2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6238800" y="3086280"/>
                <a:ext cx="2286000" cy="2818800"/>
                <a:chOff x="6238800" y="3086280"/>
                <a:chExt cx="2286000" cy="2818800"/>
              </a:xfrm>
            </p:grpSpPr>
            <p:grpSp>
              <p:nvGrpSpPr>
                <p:cNvPr id="111" name=""/>
                <p:cNvGrpSpPr/>
                <p:nvPr/>
              </p:nvGrpSpPr>
              <p:grpSpPr>
                <a:xfrm>
                  <a:off x="6238800" y="3619440"/>
                  <a:ext cx="2286000" cy="2285640"/>
                  <a:chOff x="6238800" y="3619440"/>
                  <a:chExt cx="2286000" cy="2285640"/>
                </a:xfrm>
              </p:grpSpPr>
              <p:sp>
                <p:nvSpPr>
                  <p:cNvPr id="112" name=""/>
                  <p:cNvSpPr/>
                  <p:nvPr/>
                </p:nvSpPr>
                <p:spPr>
                  <a:xfrm>
                    <a:off x="6238800" y="3619440"/>
                    <a:ext cx="2286000" cy="228564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6621480" y="5219280"/>
                    <a:ext cx="13741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18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i="1" lang="es-ES_tradnl" sz="1800" spc="-1" strike="noStrike">
                        <a:solidFill>
                          <a:srgbClr val="ffffff"/>
                        </a:solidFill>
                        <a:latin typeface="Arial"/>
                      </a:rPr>
                      <a:t>Mercado 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4" name=""/>
                <p:cNvSpPr/>
                <p:nvPr/>
              </p:nvSpPr>
              <p:spPr>
                <a:xfrm>
                  <a:off x="6619680" y="3924360"/>
                  <a:ext cx="1523880" cy="398880"/>
                </a:xfrm>
                <a:prstGeom prst="rect">
                  <a:avLst/>
                </a:prstGeom>
                <a:solidFill>
                  <a:srgbClr val="d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ffffff"/>
                      </a:solidFill>
                      <a:latin typeface="Arial"/>
                    </a:rPr>
                    <a:t>Negocio 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7381800" y="3086280"/>
                  <a:ext cx="0" cy="838080"/>
                </a:xfrm>
                <a:prstGeom prst="line">
                  <a:avLst/>
                </a:prstGeom>
                <a:ln w="38160">
                  <a:solidFill>
                    <a:srgbClr val="d2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4B67-D89C-4D2E-8A48-6E20BBEC949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Criterios para incluir en cartera </a:t>
            </a:r>
            <a:br>
              <a:rPr sz="2800"/>
            </a:b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Ciclo de Vida del producto</a:t>
            </a:r>
            <a:br>
              <a:rPr sz="2800"/>
            </a:br>
            <a:r>
              <a:rPr b="1" i="1" lang="es-ES_tradnl" sz="2000" spc="-1" strike="noStrike">
                <a:solidFill>
                  <a:srgbClr val="ff0000"/>
                </a:solidFill>
                <a:latin typeface="Arial"/>
              </a:rPr>
              <a:t>Estar en industrias en crec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72280" y="5708520"/>
            <a:ext cx="527040" cy="208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216080" y="3198960"/>
            <a:ext cx="6444000" cy="214920"/>
            <a:chOff x="1216080" y="3198960"/>
            <a:chExt cx="6444000" cy="214920"/>
          </a:xfrm>
        </p:grpSpPr>
        <p:sp>
          <p:nvSpPr>
            <p:cNvPr id="119" name=""/>
            <p:cNvSpPr/>
            <p:nvPr/>
          </p:nvSpPr>
          <p:spPr>
            <a:xfrm>
              <a:off x="4957560" y="3198960"/>
              <a:ext cx="723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55"/>
                  </a:solidFill>
                  <a:latin typeface="Arial"/>
                </a:rPr>
                <a:t>Madure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659640" y="3198960"/>
              <a:ext cx="1000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800080"/>
                  </a:solidFill>
                  <a:latin typeface="Arial"/>
                </a:rPr>
                <a:t>Declina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740680" y="3200400"/>
              <a:ext cx="1031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820000"/>
                  </a:solidFill>
                  <a:latin typeface="Arial"/>
                </a:rPr>
                <a:t>Creci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216080" y="3198960"/>
              <a:ext cx="1078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4400"/>
                  </a:solidFill>
                  <a:latin typeface="Arial"/>
                </a:rPr>
                <a:t>Introduc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1009800" y="2292480"/>
            <a:ext cx="95040" cy="152280"/>
          </a:xfrm>
          <a:custGeom>
            <a:avLst/>
            <a:gdLst/>
            <a:ahLst/>
            <a:rect l="l" t="t" r="r" b="b"/>
            <a:pathLst>
              <a:path w="60" h="96">
                <a:moveTo>
                  <a:pt x="30" y="0"/>
                </a:moveTo>
                <a:lnTo>
                  <a:pt x="60" y="96"/>
                </a:lnTo>
                <a:lnTo>
                  <a:pt x="0" y="96"/>
                </a:lnTo>
                <a:lnTo>
                  <a:pt x="3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869240" y="5764320"/>
            <a:ext cx="131760" cy="110880"/>
          </a:xfrm>
          <a:custGeom>
            <a:avLst/>
            <a:gdLst/>
            <a:ahLst/>
            <a:rect l="l" t="t" r="r" b="b"/>
            <a:pathLst>
              <a:path w="83" h="70">
                <a:moveTo>
                  <a:pt x="83" y="35"/>
                </a:moveTo>
                <a:lnTo>
                  <a:pt x="0" y="70"/>
                </a:lnTo>
                <a:lnTo>
                  <a:pt x="0" y="0"/>
                </a:lnTo>
                <a:lnTo>
                  <a:pt x="83" y="3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533520" y="1828800"/>
            <a:ext cx="7440480" cy="4251960"/>
            <a:chOff x="533520" y="1828800"/>
            <a:chExt cx="7440480" cy="4251960"/>
          </a:xfrm>
        </p:grpSpPr>
        <p:sp>
          <p:nvSpPr>
            <p:cNvPr id="126" name=""/>
            <p:cNvSpPr/>
            <p:nvPr/>
          </p:nvSpPr>
          <p:spPr>
            <a:xfrm>
              <a:off x="533520" y="1828800"/>
              <a:ext cx="129528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Arial"/>
                </a:rPr>
                <a:t>Ventas Totale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Arial"/>
                </a:rPr>
                <a:t>de Industria ($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237440" y="5867280"/>
              <a:ext cx="633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Arial"/>
                </a:rPr>
                <a:t>Tiemp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1057320" y="2320920"/>
              <a:ext cx="6916680" cy="3498840"/>
              <a:chOff x="1057320" y="2320920"/>
              <a:chExt cx="6916680" cy="3498840"/>
            </a:xfrm>
          </p:grpSpPr>
          <p:sp>
            <p:nvSpPr>
              <p:cNvPr id="129" name=""/>
              <p:cNvSpPr/>
              <p:nvPr/>
            </p:nvSpPr>
            <p:spPr>
              <a:xfrm>
                <a:off x="1057320" y="2320920"/>
                <a:ext cx="1440" cy="349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066680" y="5791320"/>
                <a:ext cx="69073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1212840" y="3524400"/>
              <a:ext cx="6103800" cy="2296800"/>
              <a:chOff x="1212840" y="3524400"/>
              <a:chExt cx="6103800" cy="2296800"/>
            </a:xfrm>
          </p:grpSpPr>
          <p:sp>
            <p:nvSpPr>
              <p:cNvPr id="132" name=""/>
              <p:cNvSpPr/>
              <p:nvPr/>
            </p:nvSpPr>
            <p:spPr>
              <a:xfrm>
                <a:off x="5362560" y="3524400"/>
                <a:ext cx="1440" cy="2266920"/>
              </a:xfrm>
              <a:prstGeom prst="line">
                <a:avLst/>
              </a:prstGeom>
              <a:ln w="36360">
                <a:solidFill>
                  <a:srgbClr val="0000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78440" y="3524400"/>
                <a:ext cx="1800" cy="2266920"/>
              </a:xfrm>
              <a:prstGeom prst="line">
                <a:avLst/>
              </a:prstGeom>
              <a:ln w="36360">
                <a:solidFill>
                  <a:srgbClr val="0000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614920" y="3524400"/>
                <a:ext cx="1800" cy="2266920"/>
              </a:xfrm>
              <a:prstGeom prst="line">
                <a:avLst/>
              </a:prstGeom>
              <a:ln w="36360">
                <a:solidFill>
                  <a:srgbClr val="0000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129360" y="3524400"/>
                <a:ext cx="1440" cy="2266920"/>
              </a:xfrm>
              <a:prstGeom prst="line">
                <a:avLst/>
              </a:prstGeom>
              <a:ln w="36360">
                <a:solidFill>
                  <a:srgbClr val="0000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6395760" y="3581280"/>
                <a:ext cx="4680" cy="2210040"/>
              </a:xfrm>
              <a:prstGeom prst="line">
                <a:avLst/>
              </a:prstGeom>
              <a:ln w="36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010280" y="3733920"/>
                <a:ext cx="1800" cy="2060280"/>
              </a:xfrm>
              <a:prstGeom prst="line">
                <a:avLst/>
              </a:prstGeom>
              <a:ln w="36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705720" y="3657600"/>
                <a:ext cx="0" cy="2133720"/>
              </a:xfrm>
              <a:prstGeom prst="line">
                <a:avLst/>
              </a:prstGeom>
              <a:ln w="36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315200" y="3886200"/>
                <a:ext cx="1440" cy="1920960"/>
              </a:xfrm>
              <a:prstGeom prst="line">
                <a:avLst/>
              </a:prstGeom>
              <a:ln w="36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1212840" y="3524400"/>
                <a:ext cx="3898800" cy="2296800"/>
                <a:chOff x="1212840" y="3524400"/>
                <a:chExt cx="3898800" cy="22968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5110200" y="3524400"/>
                  <a:ext cx="1440" cy="2266920"/>
                </a:xfrm>
                <a:prstGeom prst="line">
                  <a:avLst/>
                </a:prstGeom>
                <a:ln w="36360">
                  <a:solidFill>
                    <a:srgbClr val="0000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282920" y="3565440"/>
                  <a:ext cx="1800" cy="2225880"/>
                </a:xfrm>
                <a:prstGeom prst="line">
                  <a:avLst/>
                </a:prstGeom>
                <a:ln w="36360">
                  <a:solidFill>
                    <a:srgbClr val="0000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032360" y="3606840"/>
                  <a:ext cx="1440" cy="2184480"/>
                </a:xfrm>
                <a:prstGeom prst="line">
                  <a:avLst/>
                </a:prstGeom>
                <a:ln w="36360">
                  <a:solidFill>
                    <a:srgbClr val="0000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799160" y="3565440"/>
                  <a:ext cx="1440" cy="2225880"/>
                </a:xfrm>
                <a:prstGeom prst="line">
                  <a:avLst/>
                </a:prstGeom>
                <a:ln w="36360">
                  <a:solidFill>
                    <a:srgbClr val="0000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4546440" y="3565440"/>
                  <a:ext cx="1800" cy="2225880"/>
                </a:xfrm>
                <a:prstGeom prst="line">
                  <a:avLst/>
                </a:prstGeom>
                <a:ln w="36360">
                  <a:solidFill>
                    <a:srgbClr val="0000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780000" y="3648240"/>
                  <a:ext cx="1440" cy="2143080"/>
                </a:xfrm>
                <a:prstGeom prst="line">
                  <a:avLst/>
                </a:prstGeom>
                <a:ln w="36360">
                  <a:solidFill>
                    <a:srgbClr val="a8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505320" y="3886200"/>
                  <a:ext cx="1440" cy="1935000"/>
                </a:xfrm>
                <a:prstGeom prst="line">
                  <a:avLst/>
                </a:prstGeom>
                <a:ln w="36360">
                  <a:solidFill>
                    <a:srgbClr val="a8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8" name=""/>
                <p:cNvGrpSpPr/>
                <p:nvPr/>
              </p:nvGrpSpPr>
              <p:grpSpPr>
                <a:xfrm>
                  <a:off x="1212840" y="4008600"/>
                  <a:ext cx="2052720" cy="1782720"/>
                  <a:chOff x="1212840" y="4008600"/>
                  <a:chExt cx="2052720" cy="1782720"/>
                </a:xfrm>
              </p:grpSpPr>
              <p:grpSp>
                <p:nvGrpSpPr>
                  <p:cNvPr id="149" name=""/>
                  <p:cNvGrpSpPr/>
                  <p:nvPr/>
                </p:nvGrpSpPr>
                <p:grpSpPr>
                  <a:xfrm>
                    <a:off x="2514600" y="4008600"/>
                    <a:ext cx="750960" cy="1782720"/>
                    <a:chOff x="2514600" y="4008600"/>
                    <a:chExt cx="750960" cy="1782720"/>
                  </a:xfrm>
                </p:grpSpPr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2514600" y="5105520"/>
                      <a:ext cx="0" cy="685800"/>
                    </a:xfrm>
                    <a:prstGeom prst="line">
                      <a:avLst/>
                    </a:prstGeom>
                    <a:ln w="36360">
                      <a:solidFill>
                        <a:srgbClr val="aa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2743200" y="4876920"/>
                      <a:ext cx="0" cy="914400"/>
                    </a:xfrm>
                    <a:prstGeom prst="line">
                      <a:avLst/>
                    </a:prstGeom>
                    <a:ln w="36360">
                      <a:solidFill>
                        <a:srgbClr val="aa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3000240" y="4492800"/>
                      <a:ext cx="1800" cy="1298520"/>
                    </a:xfrm>
                    <a:prstGeom prst="line">
                      <a:avLst/>
                    </a:prstGeom>
                    <a:ln w="36360">
                      <a:solidFill>
                        <a:srgbClr val="aa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3263760" y="4008600"/>
                      <a:ext cx="1800" cy="1782720"/>
                    </a:xfrm>
                    <a:prstGeom prst="line">
                      <a:avLst/>
                    </a:prstGeom>
                    <a:ln w="36360">
                      <a:solidFill>
                        <a:srgbClr val="aa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4" name=""/>
                  <p:cNvSpPr/>
                  <p:nvPr/>
                </p:nvSpPr>
                <p:spPr>
                  <a:xfrm>
                    <a:off x="1465200" y="5695920"/>
                    <a:ext cx="1800" cy="82440"/>
                  </a:xfrm>
                  <a:prstGeom prst="line">
                    <a:avLst/>
                  </a:prstGeom>
                  <a:ln w="36360">
                    <a:solidFill>
                      <a:srgbClr val="0044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1717560" y="5599080"/>
                    <a:ext cx="1800" cy="179280"/>
                  </a:xfrm>
                  <a:prstGeom prst="line">
                    <a:avLst/>
                  </a:prstGeom>
                  <a:ln w="36360">
                    <a:solidFill>
                      <a:srgbClr val="0044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1981080" y="5473800"/>
                    <a:ext cx="1800" cy="304560"/>
                  </a:xfrm>
                  <a:prstGeom prst="line">
                    <a:avLst/>
                  </a:prstGeom>
                  <a:ln w="36360">
                    <a:solidFill>
                      <a:srgbClr val="0044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1212840" y="5737320"/>
                    <a:ext cx="1440" cy="41040"/>
                  </a:xfrm>
                  <a:prstGeom prst="line">
                    <a:avLst/>
                  </a:prstGeom>
                  <a:ln w="36360">
                    <a:solidFill>
                      <a:srgbClr val="0044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2209680" y="5334120"/>
                    <a:ext cx="1800" cy="457200"/>
                  </a:xfrm>
                  <a:prstGeom prst="line">
                    <a:avLst/>
                  </a:prstGeom>
                  <a:ln w="36360">
                    <a:solidFill>
                      <a:srgbClr val="0044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9265-C73E-42F1-8070-5E6679AA1D8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71680" y="228600"/>
            <a:ext cx="8001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Criterios para incluir en cartera </a:t>
            </a:r>
            <a:br>
              <a:rPr sz="2800"/>
            </a:b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Curva de experiencia</a:t>
            </a:r>
            <a:br>
              <a:rPr sz="2800"/>
            </a:br>
            <a:r>
              <a:rPr b="1" i="1" lang="es-ES_tradnl" sz="2000" spc="-1" strike="noStrike">
                <a:solidFill>
                  <a:srgbClr val="cc0000"/>
                </a:solidFill>
                <a:latin typeface="Arial"/>
              </a:rPr>
              <a:t>Tener alta fracción de mercado</a:t>
            </a: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85800" y="1820880"/>
            <a:ext cx="7772400" cy="4495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F6DC-55F8-465B-9A5D-8A02E0A7FDC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0948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Estrategias a Nivel Empre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1447920"/>
            <a:ext cx="8001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A. Criterios para incluir en cart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Negocios en los que competirá. (¿ Crecimiento Industrias 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Forma de competir en cada uno. (¿ Fracción de mercado 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Criterios conjuntos en cart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20000"/>
                </a:solidFill>
                <a:latin typeface="Arial"/>
              </a:rPr>
              <a:t>B. Complementariedad entre nego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Complementariedades entre cadenas de valor. Sinergia económica y de gest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tegración vertical: complementación entre actividades direc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tegración horizontal : complementación entre actividades de apoy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Desarrollo: Negocios con utilidades hoy generan recursos para negocios que las generarán maña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Economías en negocios mayores que costo de superestruc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7F2E-FFCE-4017-883A-92BA35AB9A3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Complementariedad entre negocios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Integración ver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19040" y="1371240"/>
            <a:ext cx="83059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Buscar economías entre actividades primarias: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Logística de entrada o sal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Fabricación, producción u ope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Ventas, comercialización y servici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Conocer mercados de clientes o usuarios fi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Negociar con canales y cli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609480" y="3886200"/>
            <a:ext cx="7429680" cy="1933200"/>
            <a:chOff x="609480" y="3886200"/>
            <a:chExt cx="7429680" cy="1933200"/>
          </a:xfrm>
        </p:grpSpPr>
        <p:grpSp>
          <p:nvGrpSpPr>
            <p:cNvPr id="166" name=""/>
            <p:cNvGrpSpPr/>
            <p:nvPr/>
          </p:nvGrpSpPr>
          <p:grpSpPr>
            <a:xfrm>
              <a:off x="2895480" y="3910680"/>
              <a:ext cx="2819520" cy="1908720"/>
              <a:chOff x="2895480" y="3910680"/>
              <a:chExt cx="2819520" cy="1908720"/>
            </a:xfrm>
          </p:grpSpPr>
          <p:sp>
            <p:nvSpPr>
              <p:cNvPr id="167" name=""/>
              <p:cNvSpPr/>
              <p:nvPr/>
            </p:nvSpPr>
            <p:spPr>
              <a:xfrm>
                <a:off x="2895480" y="3910680"/>
                <a:ext cx="2819520" cy="1908720"/>
              </a:xfrm>
              <a:custGeom>
                <a:avLst/>
                <a:gdLst>
                  <a:gd name="textAreaLeft" fmla="*/ 0 w 2819520"/>
                  <a:gd name="textAreaRight" fmla="*/ 2819880 w 2819520"/>
                  <a:gd name="textAreaTop" fmla="*/ 0 h 1908720"/>
                  <a:gd name="textAreaBottom" fmla="*/ 1909080 h 1908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850560" y="4727160"/>
                <a:ext cx="953280" cy="3682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ffff"/>
                    </a:solidFill>
                    <a:latin typeface="Arial"/>
                  </a:rPr>
                  <a:t>Carn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609480" y="3910680"/>
              <a:ext cx="2819520" cy="1908720"/>
              <a:chOff x="609480" y="3910680"/>
              <a:chExt cx="2819520" cy="1908720"/>
            </a:xfrm>
          </p:grpSpPr>
          <p:sp>
            <p:nvSpPr>
              <p:cNvPr id="170" name=""/>
              <p:cNvSpPr/>
              <p:nvPr/>
            </p:nvSpPr>
            <p:spPr>
              <a:xfrm>
                <a:off x="609480" y="3910680"/>
                <a:ext cx="2819520" cy="1908720"/>
              </a:xfrm>
              <a:custGeom>
                <a:avLst/>
                <a:gdLst>
                  <a:gd name="textAreaLeft" fmla="*/ 0 w 2819520"/>
                  <a:gd name="textAreaRight" fmla="*/ 2819880 w 2819520"/>
                  <a:gd name="textAreaTop" fmla="*/ 0 h 1908720"/>
                  <a:gd name="textAreaBottom" fmla="*/ 1909080 h 1908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640160" y="4727160"/>
                <a:ext cx="1297800" cy="368280"/>
              </a:xfrm>
              <a:prstGeom prst="rect">
                <a:avLst/>
              </a:pr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ffff"/>
                    </a:solidFill>
                    <a:latin typeface="Arial"/>
                  </a:rPr>
                  <a:t>Ganaderí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5219640" y="3886200"/>
              <a:ext cx="2819520" cy="1908720"/>
              <a:chOff x="5219640" y="3886200"/>
              <a:chExt cx="2819520" cy="1908720"/>
            </a:xfrm>
          </p:grpSpPr>
          <p:sp>
            <p:nvSpPr>
              <p:cNvPr id="173" name=""/>
              <p:cNvSpPr/>
              <p:nvPr/>
            </p:nvSpPr>
            <p:spPr>
              <a:xfrm>
                <a:off x="5219640" y="3886200"/>
                <a:ext cx="2819520" cy="1908720"/>
              </a:xfrm>
              <a:custGeom>
                <a:avLst/>
                <a:gdLst>
                  <a:gd name="textAreaLeft" fmla="*/ 0 w 2819520"/>
                  <a:gd name="textAreaRight" fmla="*/ 2819880 w 2819520"/>
                  <a:gd name="textAreaTop" fmla="*/ 0 h 1908720"/>
                  <a:gd name="textAreaBottom" fmla="*/ 1909080 h 1908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098400" y="4700520"/>
                <a:ext cx="1055520" cy="368280"/>
              </a:xfrm>
              <a:prstGeom prst="rect">
                <a:avLst/>
              </a:pr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ffff"/>
                    </a:solidFill>
                    <a:latin typeface="Arial"/>
                  </a:rPr>
                  <a:t>Cecina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B580-EE32-46F9-9DD2-924FE654DEC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Complementariedad entre negocios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Integración Horizo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038480" y="1981080"/>
            <a:ext cx="4572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Buscar posibles economías en  actividades de apoyo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Conocer merca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Obtener recursos financier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Obtener recursos hum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Obtener insumos produc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Obtener tecnología y know- h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Negociar con provee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80880" y="1676520"/>
            <a:ext cx="3276720" cy="4190400"/>
            <a:chOff x="380880" y="1676520"/>
            <a:chExt cx="3276720" cy="4190400"/>
          </a:xfrm>
        </p:grpSpPr>
        <p:grpSp>
          <p:nvGrpSpPr>
            <p:cNvPr id="178" name=""/>
            <p:cNvGrpSpPr/>
            <p:nvPr/>
          </p:nvGrpSpPr>
          <p:grpSpPr>
            <a:xfrm>
              <a:off x="380880" y="1676520"/>
              <a:ext cx="3276720" cy="1981080"/>
              <a:chOff x="380880" y="1676520"/>
              <a:chExt cx="3276720" cy="1981080"/>
            </a:xfrm>
          </p:grpSpPr>
          <p:sp>
            <p:nvSpPr>
              <p:cNvPr id="179" name=""/>
              <p:cNvSpPr/>
              <p:nvPr/>
            </p:nvSpPr>
            <p:spPr>
              <a:xfrm>
                <a:off x="380880" y="1676520"/>
                <a:ext cx="3276720" cy="1981080"/>
              </a:xfrm>
              <a:custGeom>
                <a:avLst/>
                <a:gdLst>
                  <a:gd name="textAreaLeft" fmla="*/ 0 w 3276720"/>
                  <a:gd name="textAreaRight" fmla="*/ 3277080 w 3276720"/>
                  <a:gd name="textAreaTop" fmla="*/ 0 h 1981080"/>
                  <a:gd name="textAreaBottom" fmla="*/ 1981440 h 1981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409760" y="2346120"/>
                <a:ext cx="1146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ffff"/>
                    </a:solidFill>
                    <a:latin typeface="Arial"/>
                  </a:rPr>
                  <a:t>Codelco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r>
                  <a:rPr b="1" i="1" lang="es-ES_tradnl" sz="1800" spc="-1" strike="noStrike">
                    <a:solidFill>
                      <a:srgbClr val="ffffff"/>
                    </a:solidFill>
                    <a:latin typeface="Arial"/>
                  </a:rPr>
                  <a:t>Nort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380880" y="3886200"/>
              <a:ext cx="3276720" cy="1980720"/>
              <a:chOff x="380880" y="3886200"/>
              <a:chExt cx="3276720" cy="1980720"/>
            </a:xfrm>
          </p:grpSpPr>
          <p:sp>
            <p:nvSpPr>
              <p:cNvPr id="182" name=""/>
              <p:cNvSpPr/>
              <p:nvPr/>
            </p:nvSpPr>
            <p:spPr>
              <a:xfrm>
                <a:off x="380880" y="3886200"/>
                <a:ext cx="3276720" cy="1980720"/>
              </a:xfrm>
              <a:custGeom>
                <a:avLst/>
                <a:gdLst>
                  <a:gd name="textAreaLeft" fmla="*/ 0 w 3276720"/>
                  <a:gd name="textAreaRight" fmla="*/ 3277080 w 3276720"/>
                  <a:gd name="textAreaTop" fmla="*/ 0 h 1980720"/>
                  <a:gd name="textAreaBottom" fmla="*/ 1981080 h 1980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409760" y="4555800"/>
                <a:ext cx="1146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ffff"/>
                    </a:solidFill>
                    <a:latin typeface="Arial"/>
                  </a:rPr>
                  <a:t>Codelco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ffff"/>
                    </a:solidFill>
                    <a:latin typeface="Arial"/>
                  </a:rPr>
                  <a:t>Tenient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FF0F-2D3F-4443-B2B1-F179472C8A2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3T19:55:39Z</dcterms:created>
  <dc:creator>Alvaro de la Barra G.</dc:creator>
  <dc:description/>
  <dc:language>en-US</dc:language>
  <cp:lastModifiedBy>Alvaro de la Barra G.</cp:lastModifiedBy>
  <cp:lastPrinted>2004-10-12T15:24:42Z</cp:lastPrinted>
  <dcterms:modified xsi:type="dcterms:W3CDTF">2004-12-02T21:35:53Z</dcterms:modified>
  <cp:revision>74</cp:revision>
  <dc:subject/>
  <dc:title>Sin título de diapositiva</dc:title>
</cp:coreProperties>
</file>