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C67C-58BF-4D43-96F0-27CE2D3439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¿AGROPESUR o Agrosup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FBA-04D9-4641-A71D-862698D1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740-B2AD-4C3B-8111-5CF03B8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1BB-C694-49C8-9477-44859C2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CB9-4615-4A64-B690-D6C1506A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BB1F-42DC-4D1B-9CCE-019EF5A7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F82A-A949-428F-9D72-954BCF3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470-6815-4032-8036-649C1BB9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D7A6-D0DA-4EEE-AAB1-5FF53DA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AF8-4A5D-482A-B169-C51C984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48C-A7C3-4E65-A241-7D3B599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6B13-AC52-4317-959F-72679D8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175-F978-4CF6-95C0-FDCDB2F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295-01FE-48DE-9192-81AF0B58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FA7D-1966-460D-AD8C-AA1949D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DA44-2DCD-4FD8-8ABD-DB16F42A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5F5F-BFD7-4DA6-AE4A-A2BA421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2B1-4DD9-4CC9-B975-4DFF09F1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99C-5428-43E2-AF93-DF24462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58-305D-43F9-A952-D569D65C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6A9-8572-47C8-B5E5-8401760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704-5691-418C-A1F2-12F05DC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C09-9D49-4642-8D1D-F4DF833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F83-A6F1-46EE-9BB8-CABC39E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69A-BA4D-42D8-8A7D-C689427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B6DD-2CB9-4714-9B55-6D835714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F6F6-51AF-47F6-AA80-49473051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E24-9C95-439E-B0FD-44C8B9F310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228600"/>
            <a:ext cx="799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de 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y competi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críticos: humanos, insumos, tecnología,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porte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ficiencia en el uso de todos los recursos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-desplegar recursos 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B35-30B2-49C9-AAAB-7307F1DC72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porte Corporativo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recimiento y Participacion</a:t>
            </a:r>
            <a:br>
              <a:rPr sz="24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unidades que generan y otras que utilizan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7920" y="17524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B6C-4086-4A84-8650-57675ECE01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5800" y="1143000"/>
            <a:ext cx="7772400" cy="4989600"/>
            <a:chOff x="685800" y="1143000"/>
            <a:chExt cx="7772400" cy="4989600"/>
          </a:xfrm>
        </p:grpSpPr>
        <p:grpSp>
          <p:nvGrpSpPr>
            <p:cNvPr id="190" name=""/>
            <p:cNvGrpSpPr/>
            <p:nvPr/>
          </p:nvGrpSpPr>
          <p:grpSpPr>
            <a:xfrm>
              <a:off x="838080" y="3686400"/>
              <a:ext cx="7467840" cy="2249280"/>
              <a:chOff x="838080" y="3686400"/>
              <a:chExt cx="7467840" cy="2249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305080" y="3686400"/>
                <a:ext cx="4533840" cy="992160"/>
                <a:chOff x="2305080" y="3686400"/>
                <a:chExt cx="4533840" cy="992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305080" y="368640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14960" y="3952800"/>
                  <a:ext cx="365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     </a:t>
                  </a: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838080" y="4792680"/>
                <a:ext cx="7467840" cy="1143000"/>
                <a:chOff x="838080" y="4792680"/>
                <a:chExt cx="7467840" cy="114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481560" y="479268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80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95880" y="479268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685800" y="1143000"/>
              <a:ext cx="7772400" cy="4989600"/>
              <a:chOff x="685800" y="1143000"/>
              <a:chExt cx="7772400" cy="4989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181160" y="2049480"/>
                <a:ext cx="6781680" cy="1542960"/>
                <a:chOff x="1181160" y="2049480"/>
                <a:chExt cx="6781680" cy="1542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600200" y="2516400"/>
                  <a:ext cx="5943600" cy="609480"/>
                  <a:chOff x="1600200" y="2516400"/>
                  <a:chExt cx="5943600" cy="6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6002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Financier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715000" y="2516400"/>
                    <a:ext cx="182880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 Médica</a:t>
                    </a:r>
                    <a:r>
                      <a:rPr b="1" i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809880" y="2516400"/>
                    <a:ext cx="1524240" cy="609480"/>
                  </a:xfrm>
                  <a:prstGeom prst="rect">
                    <a:avLst/>
                  </a:prstGeom>
                  <a:solidFill>
                    <a:srgbClr val="cc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.Eléctrica</a:t>
                    </a: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1181160" y="2049480"/>
                  <a:ext cx="6781680" cy="1542960"/>
                  <a:chOff x="1181160" y="2049480"/>
                  <a:chExt cx="6781680" cy="1542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1181160" y="2049480"/>
                    <a:ext cx="6781680" cy="15429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794760" y="2049480"/>
                    <a:ext cx="1316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ó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685800" y="1143000"/>
                <a:ext cx="7772400" cy="4989600"/>
                <a:chOff x="685800" y="1143000"/>
                <a:chExt cx="7772400" cy="49896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85800" y="1143000"/>
                  <a:ext cx="7772400" cy="4989600"/>
                </a:xfrm>
                <a:prstGeom prst="rect">
                  <a:avLst/>
                </a:prstGeom>
                <a:noFill/>
                <a:ln w="127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28880" y="1143000"/>
                  <a:ext cx="146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003366"/>
                      </a:solidFill>
                      <a:latin typeface="Arial"/>
                    </a:rPr>
                    <a:t>Emp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34F-879A-4286-A463-4913374C1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907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iciles de imitar y se pote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9B1-B3E4-4259-AFCD-81FEDD378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752480"/>
            <a:ext cx="8382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4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son y que contienen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2560" y="431640"/>
            <a:ext cx="7772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8CF-B9E6-40B0-8A52-7463D2ABB4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9040" y="6094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íticas en negocios y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Directrices a la acción prolongada en el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881-FB3E-4343-8378-43519F3E89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2560" y="558720"/>
            <a:ext cx="7772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i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36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407-0547-47A5-8E1A-021FE1E64C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Estas son conductas y acciónes, coherentes entre sí, que explicit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9CD-4FC7-4D92-8565-0DB9AC61C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222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224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43D-CF18-4D87-B147-64B3CC946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651-8724-4146-9C6E-BB81F347D8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46200" y="1415880"/>
            <a:ext cx="78516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3FF-94E4-4A5C-89E4-1DFDD2A81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B2E-92EF-44C6-96A1-A38BA8F4AD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9 : destacar la brecha. Señalar las principales hipótesi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F96-EB49-4717-9FFE-C276EF0ECB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</a:t>
            </a:r>
            <a:r>
              <a:rPr b="1" i="1" lang="es-ES_tradnl" sz="24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J</a:t>
            </a:r>
            <a:r>
              <a:rPr b="1" i="1" lang="es-ES_tradnl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Arial"/>
              </a:rPr>
              <a:t>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793-7C45-4435-BD32-BC00CDFEE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590920"/>
            <a:ext cx="76197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riterios para incluir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B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omplemetariedad entr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c)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Aporte Corpo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B26-78FA-47B3-8605-F10E8C817F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96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A1A-8021-4CD0-BA93-813777B568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2280" y="5708520"/>
            <a:ext cx="527040" cy="208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16080" y="3198960"/>
            <a:ext cx="6444000" cy="214920"/>
            <a:chOff x="1216080" y="3198960"/>
            <a:chExt cx="6444000" cy="214920"/>
          </a:xfrm>
        </p:grpSpPr>
        <p:sp>
          <p:nvSpPr>
            <p:cNvPr id="119" name=""/>
            <p:cNvSpPr/>
            <p:nvPr/>
          </p:nvSpPr>
          <p:spPr>
            <a:xfrm>
              <a:off x="4957560" y="319896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55"/>
                  </a:solidFill>
                  <a:latin typeface="Arial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9640" y="3198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00080"/>
                  </a:solidFill>
                  <a:latin typeface="Arial"/>
                </a:rPr>
                <a:t>Decl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0680" y="3200400"/>
              <a:ext cx="103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820000"/>
                  </a:solidFill>
                  <a:latin typeface="Arial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6080" y="3198960"/>
              <a:ext cx="107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4400"/>
                  </a:solidFill>
                  <a:latin typeface="Arial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009800" y="2292480"/>
            <a:ext cx="9504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30" y="0"/>
                </a:moveTo>
                <a:lnTo>
                  <a:pt x="60" y="96"/>
                </a:lnTo>
                <a:lnTo>
                  <a:pt x="0" y="96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69240" y="5764320"/>
            <a:ext cx="131760" cy="110880"/>
          </a:xfrm>
          <a:custGeom>
            <a:avLst/>
            <a:gdLst/>
            <a:ahLst/>
            <a:rect l="l" t="t" r="r" b="b"/>
            <a:pathLst>
              <a:path w="83" h="70">
                <a:moveTo>
                  <a:pt x="83" y="35"/>
                </a:moveTo>
                <a:lnTo>
                  <a:pt x="0" y="70"/>
                </a:lnTo>
                <a:lnTo>
                  <a:pt x="0" y="0"/>
                </a:lnTo>
                <a:lnTo>
                  <a:pt x="83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3520" y="1828800"/>
            <a:ext cx="7440480" cy="4251960"/>
            <a:chOff x="533520" y="1828800"/>
            <a:chExt cx="7440480" cy="4251960"/>
          </a:xfrm>
        </p:grpSpPr>
        <p:sp>
          <p:nvSpPr>
            <p:cNvPr id="126" name=""/>
            <p:cNvSpPr/>
            <p:nvPr/>
          </p:nvSpPr>
          <p:spPr>
            <a:xfrm>
              <a:off x="533520" y="1828800"/>
              <a:ext cx="12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Ventas Total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de Industria ($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7440" y="5867280"/>
              <a:ext cx="63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057320" y="2320920"/>
              <a:ext cx="6916680" cy="3498840"/>
              <a:chOff x="1057320" y="2320920"/>
              <a:chExt cx="6916680" cy="3498840"/>
            </a:xfrm>
          </p:grpSpPr>
          <p:sp>
            <p:nvSpPr>
              <p:cNvPr id="129" name=""/>
              <p:cNvSpPr/>
              <p:nvPr/>
            </p:nvSpPr>
            <p:spPr>
              <a:xfrm>
                <a:off x="1057320" y="2320920"/>
                <a:ext cx="1440" cy="34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66680" y="5791320"/>
                <a:ext cx="6907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212840" y="3524400"/>
              <a:ext cx="6103800" cy="2296800"/>
              <a:chOff x="1212840" y="3524400"/>
              <a:chExt cx="6103800" cy="2296800"/>
            </a:xfrm>
          </p:grpSpPr>
          <p:sp>
            <p:nvSpPr>
              <p:cNvPr id="132" name=""/>
              <p:cNvSpPr/>
              <p:nvPr/>
            </p:nvSpPr>
            <p:spPr>
              <a:xfrm>
                <a:off x="53625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7844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14920" y="3524400"/>
                <a:ext cx="180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29360" y="3524400"/>
                <a:ext cx="1440" cy="2266920"/>
              </a:xfrm>
              <a:prstGeom prst="line">
                <a:avLst/>
              </a:prstGeom>
              <a:ln w="36360">
                <a:solidFill>
                  <a:srgbClr val="0000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395760" y="3581280"/>
                <a:ext cx="4680" cy="221004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3733920"/>
                <a:ext cx="1800" cy="206028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657600"/>
                <a:ext cx="0" cy="213372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15200" y="3886200"/>
                <a:ext cx="1440" cy="1920960"/>
              </a:xfrm>
              <a:prstGeom prst="line">
                <a:avLst/>
              </a:prstGeom>
              <a:ln w="36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212840" y="3524400"/>
                <a:ext cx="3898800" cy="2296800"/>
                <a:chOff x="1212840" y="3524400"/>
                <a:chExt cx="3898800" cy="22968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110200" y="3524400"/>
                  <a:ext cx="1440" cy="226692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8292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32360" y="3606840"/>
                  <a:ext cx="1440" cy="21844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99160" y="3565440"/>
                  <a:ext cx="144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46440" y="3565440"/>
                  <a:ext cx="1800" cy="2225880"/>
                </a:xfrm>
                <a:prstGeom prst="line">
                  <a:avLst/>
                </a:prstGeom>
                <a:ln w="36360">
                  <a:solidFill>
                    <a:srgbClr val="0000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780000" y="3648240"/>
                  <a:ext cx="1440" cy="214308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05320" y="3886200"/>
                  <a:ext cx="1440" cy="1935000"/>
                </a:xfrm>
                <a:prstGeom prst="line">
                  <a:avLst/>
                </a:prstGeom>
                <a:ln w="36360">
                  <a:solidFill>
                    <a:srgbClr val="a8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1212840" y="4008600"/>
                  <a:ext cx="2052720" cy="1782720"/>
                  <a:chOff x="1212840" y="4008600"/>
                  <a:chExt cx="2052720" cy="17827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514600" y="4008600"/>
                    <a:ext cx="750960" cy="1782720"/>
                    <a:chOff x="2514600" y="4008600"/>
                    <a:chExt cx="750960" cy="178272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514600" y="5105520"/>
                      <a:ext cx="0" cy="6858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743200" y="4876920"/>
                      <a:ext cx="0" cy="91440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000240" y="4492800"/>
                      <a:ext cx="1800" cy="12985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263760" y="4008600"/>
                      <a:ext cx="1800" cy="1782720"/>
                    </a:xfrm>
                    <a:prstGeom prst="line">
                      <a:avLst/>
                    </a:prstGeom>
                    <a:ln w="3636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465200" y="5695920"/>
                    <a:ext cx="1800" cy="824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717560" y="5599080"/>
                    <a:ext cx="1800" cy="17928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81080" y="5473800"/>
                    <a:ext cx="1800" cy="30456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212840" y="5737320"/>
                    <a:ext cx="1440" cy="4104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209680" y="5334120"/>
                    <a:ext cx="1800" cy="457200"/>
                  </a:xfrm>
                  <a:prstGeom prst="line">
                    <a:avLst/>
                  </a:prstGeom>
                  <a:ln w="36360">
                    <a:solidFill>
                      <a:srgbClr val="0044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106-99EC-476A-9090-7DA988DC55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1680" y="228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iterios para incluir en cartera </a:t>
            </a:r>
            <a:br>
              <a:rPr sz="28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urva de experiencia</a:t>
            </a:r>
            <a:br>
              <a:rPr sz="2800"/>
            </a:br>
            <a:r>
              <a:rPr b="1" i="1" lang="es-ES_tradnl" sz="2000" spc="-1" strike="noStrike">
                <a:solidFill>
                  <a:srgbClr val="cc0000"/>
                </a:solidFill>
                <a:latin typeface="Arial"/>
              </a:rPr>
              <a:t>Tener alta fracción de mercado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088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6DF-8FBC-40BA-BA9C-3B22E354F9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4792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. Criterios para incluir en car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os en los que competirá. (¿ Crecimiento Industrias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uno. (¿ Fracción de mercad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riterios conjuntos en car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B. Complementariedad entr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lementariedades entre cadenas de valor. Sinergia económica y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: complementación entre actividades dire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horizontal : complementación entre actividades de apoy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: Negocios con utilidades hoy generan recursos para negocios que las generarán mañ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conomías en negocios mayores que costo de super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275-92DA-4255-A353-59986DA0B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3712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economías entre actividades primarias: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3886200"/>
            <a:ext cx="7429680" cy="1933200"/>
            <a:chOff x="609480" y="3886200"/>
            <a:chExt cx="7429680" cy="1933200"/>
          </a:xfrm>
        </p:grpSpPr>
        <p:grpSp>
          <p:nvGrpSpPr>
            <p:cNvPr id="166" name=""/>
            <p:cNvGrpSpPr/>
            <p:nvPr/>
          </p:nvGrpSpPr>
          <p:grpSpPr>
            <a:xfrm>
              <a:off x="2895480" y="3910680"/>
              <a:ext cx="2819520" cy="1908720"/>
              <a:chOff x="2895480" y="3910680"/>
              <a:chExt cx="2819520" cy="190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2895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0560" y="4727160"/>
                <a:ext cx="953280" cy="36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ar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9480" y="3910680"/>
              <a:ext cx="2819520" cy="1908720"/>
              <a:chOff x="609480" y="3910680"/>
              <a:chExt cx="2819520" cy="1908720"/>
            </a:xfrm>
          </p:grpSpPr>
          <p:sp>
            <p:nvSpPr>
              <p:cNvPr id="170" name=""/>
              <p:cNvSpPr/>
              <p:nvPr/>
            </p:nvSpPr>
            <p:spPr>
              <a:xfrm>
                <a:off x="609480" y="391068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40160" y="4727160"/>
                <a:ext cx="1297800" cy="3682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Ganade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219640" y="3886200"/>
              <a:ext cx="2819520" cy="1908720"/>
              <a:chOff x="5219640" y="3886200"/>
              <a:chExt cx="2819520" cy="190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5219640" y="3886200"/>
                <a:ext cx="2819520" cy="1908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98400" y="4700520"/>
                <a:ext cx="1055520" cy="3682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ecin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BB9-9212-47DB-AA5D-0FCCF716F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lementariedad entre negoci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4572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r posibles economías en  actividades de apoy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ocer mer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financi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insumo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btener tecnología y know-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Negociar con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0880" y="1676520"/>
            <a:ext cx="3276720" cy="4190400"/>
            <a:chOff x="380880" y="1676520"/>
            <a:chExt cx="3276720" cy="4190400"/>
          </a:xfrm>
        </p:grpSpPr>
        <p:grpSp>
          <p:nvGrpSpPr>
            <p:cNvPr id="178" name=""/>
            <p:cNvGrpSpPr/>
            <p:nvPr/>
          </p:nvGrpSpPr>
          <p:grpSpPr>
            <a:xfrm>
              <a:off x="380880" y="1676520"/>
              <a:ext cx="3276720" cy="1981080"/>
              <a:chOff x="380880" y="1676520"/>
              <a:chExt cx="3276720" cy="1981080"/>
            </a:xfrm>
          </p:grpSpPr>
          <p:sp>
            <p:nvSpPr>
              <p:cNvPr id="179" name=""/>
              <p:cNvSpPr/>
              <p:nvPr/>
            </p:nvSpPr>
            <p:spPr>
              <a:xfrm>
                <a:off x="380880" y="1676520"/>
                <a:ext cx="3276720" cy="198108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09760" y="234612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N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80880" y="3886200"/>
              <a:ext cx="3276720" cy="1980720"/>
              <a:chOff x="380880" y="3886200"/>
              <a:chExt cx="3276720" cy="1980720"/>
            </a:xfrm>
          </p:grpSpPr>
          <p:sp>
            <p:nvSpPr>
              <p:cNvPr id="182" name=""/>
              <p:cNvSpPr/>
              <p:nvPr/>
            </p:nvSpPr>
            <p:spPr>
              <a:xfrm>
                <a:off x="380880" y="3886200"/>
                <a:ext cx="3276720" cy="1980720"/>
              </a:xfrm>
              <a:custGeom>
                <a:avLst/>
                <a:gdLst>
                  <a:gd name="textAreaLeft" fmla="*/ 0 w 3276720"/>
                  <a:gd name="textAreaRight" fmla="*/ 3277080 w 3276720"/>
                  <a:gd name="textAreaTop" fmla="*/ 0 h 1980720"/>
                  <a:gd name="textAreaBottom" fmla="*/ 1981080 h 19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09760" y="4555800"/>
                <a:ext cx="114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Codelc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ffff"/>
                    </a:solidFill>
                    <a:latin typeface="Arial"/>
                  </a:rPr>
                  <a:t>Ten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86E-4517-4754-B138-F1010AAC9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2T15:24:42Z</cp:lastPrinted>
  <dcterms:modified xsi:type="dcterms:W3CDTF">2004-12-02T21:35:53Z</dcterms:modified>
  <cp:revision>74</cp:revision>
  <dc:subject/>
  <dc:title>Sin título de diapositiva</dc:title>
</cp:coreProperties>
</file>