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502D-A25A-4A67-BAFA-6D33975F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F3CE-A5C9-4DA9-81B2-EAD081EB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6396-88F4-41FD-AA21-7D8D656C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39D0-50C1-4109-9864-07AA13B71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AAA3-F61C-4DC4-9E84-64ACB568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9827-9EB0-439C-AB75-4CFA8070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E10C-E02E-485D-AF63-D0AF3968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9146-ADD3-4875-98A7-BB6AA46E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0BF3-18DA-4B78-9830-ABBA3E62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547F-8858-437E-95E6-D720EE52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1124-BC1A-40C0-9D5E-1AA579CA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9E92-0A83-4B71-B211-FEB1C5CE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00B6-B68D-4571-83D4-6E56D877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0437-8692-48B2-89BF-A7469FEA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89B7-5480-49B8-AE7A-8CFE7721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63DF-FEF4-4C1B-AA97-E71F8B38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EE6E-4B0D-488A-8146-E9FCDFF22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DEE1-C527-4CE0-BB36-351AC20E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1B5F-FF65-4376-805B-2F1CE9E9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B9BA-AEB2-4F01-A140-E717E77F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14AC-BE78-46B7-B020-D93A7333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6FEC-A93C-40CA-9E44-44D333EA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DA6E-0183-4AFC-8859-4EDBEBB3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8E44-14F4-4463-B68C-4BE007FD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526C-892B-4167-A671-01718616AD1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9E95-CA73-4E03-BCB1-FB3B2AC8BC5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10.jpeg"/><Relationship Id="rId17" Type="http://schemas.openxmlformats.org/officeDocument/2006/relationships/image" Target="../media/image11.jpeg"/><Relationship Id="rId18" Type="http://schemas.openxmlformats.org/officeDocument/2006/relationships/image" Target="../media/image11.jpeg"/><Relationship Id="rId19" Type="http://schemas.openxmlformats.org/officeDocument/2006/relationships/image" Target="../media/image11.jpeg"/><Relationship Id="rId20" Type="http://schemas.openxmlformats.org/officeDocument/2006/relationships/image" Target="../media/image10.jpeg"/><Relationship Id="rId21" Type="http://schemas.openxmlformats.org/officeDocument/2006/relationships/image" Target="../media/image10.jpeg"/><Relationship Id="rId22" Type="http://schemas.openxmlformats.org/officeDocument/2006/relationships/image" Target="../media/image11.jpeg"/><Relationship Id="rId23" Type="http://schemas.openxmlformats.org/officeDocument/2006/relationships/image" Target="../media/image9.jpeg"/><Relationship Id="rId24" Type="http://schemas.openxmlformats.org/officeDocument/2006/relationships/image" Target="../media/image10.jpeg"/><Relationship Id="rId25" Type="http://schemas.openxmlformats.org/officeDocument/2006/relationships/image" Target="../media/image11.jpeg"/><Relationship Id="rId26" Type="http://schemas.openxmlformats.org/officeDocument/2006/relationships/image" Target="../media/image9.jpeg"/><Relationship Id="rId27" Type="http://schemas.openxmlformats.org/officeDocument/2006/relationships/image" Target="../media/image9.jpeg"/><Relationship Id="rId28" Type="http://schemas.openxmlformats.org/officeDocument/2006/relationships/image" Target="../media/image9.jpeg"/><Relationship Id="rId29" Type="http://schemas.openxmlformats.org/officeDocument/2006/relationships/image" Target="../media/image11.jpeg"/><Relationship Id="rId30" Type="http://schemas.openxmlformats.org/officeDocument/2006/relationships/image" Target="../media/image9.jpeg"/><Relationship Id="rId31" Type="http://schemas.openxmlformats.org/officeDocument/2006/relationships/image" Target="../media/image12.jpeg"/><Relationship Id="rId32" Type="http://schemas.openxmlformats.org/officeDocument/2006/relationships/image" Target="../media/image12.jpe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89480" y="789120"/>
            <a:ext cx="7565040" cy="19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9900"/>
                </a:solidFill>
                <a:latin typeface="Garamond"/>
              </a:rPr>
              <a:t>Sistema de Programaci</a:t>
            </a:r>
            <a:r>
              <a:rPr b="0" lang="es-BO" sz="5400" spc="-1" strike="noStrike">
                <a:solidFill>
                  <a:srgbClr val="999900"/>
                </a:solidFill>
                <a:latin typeface="Garamond"/>
              </a:rPr>
              <a:t>ón de la Producción en Tintorería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28600" y="327024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000" spc="-1" strike="noStrike">
                <a:solidFill>
                  <a:srgbClr val="000000"/>
                </a:solidFill>
                <a:latin typeface="Verdana"/>
              </a:rPr>
              <a:t>Caso: Fábrica Textil UNIVERSALTEX S.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4648320"/>
            <a:ext cx="1828800" cy="1096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066560" y="5105520"/>
            <a:ext cx="383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Verdana"/>
              </a:rPr>
              <a:t>Alumno:</a:t>
            </a: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 Abel Sa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Verdana"/>
              </a:rPr>
              <a:t>Profesor Guía:</a:t>
            </a: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 Guillermo Dur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SOLUCIÓN PROPUESTA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Modelo de Programación de la Producción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7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El problema consiste en asignar de manera “óptima” una serie de ordenes a un cierto grupo de máqui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El modelo se caracteriza por medio de los siguientes aspe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Medio ambiente de la maquin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aracterísticas y restricciones del 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Función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Metodología para solucionar el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SOLUCIÓN PROPUESTA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Modelo de Programación de la Producción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105520" y="4540320"/>
            <a:ext cx="1218960" cy="7938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7238880" y="2819520"/>
            <a:ext cx="1173240" cy="631800"/>
          </a:xfrm>
          <a:prstGeom prst="rect">
            <a:avLst/>
          </a:prstGeom>
          <a:ln w="0">
            <a:noFill/>
          </a:ln>
        </p:spPr>
      </p:pic>
      <p:grpSp>
        <p:nvGrpSpPr>
          <p:cNvPr id="301" name=""/>
          <p:cNvGrpSpPr/>
          <p:nvPr/>
        </p:nvGrpSpPr>
        <p:grpSpPr>
          <a:xfrm>
            <a:off x="2685960" y="2300400"/>
            <a:ext cx="1581120" cy="3659040"/>
            <a:chOff x="2685960" y="2300400"/>
            <a:chExt cx="1581120" cy="3659040"/>
          </a:xfrm>
        </p:grpSpPr>
        <p:grpSp>
          <p:nvGrpSpPr>
            <p:cNvPr id="302" name=""/>
            <p:cNvGrpSpPr/>
            <p:nvPr/>
          </p:nvGrpSpPr>
          <p:grpSpPr>
            <a:xfrm>
              <a:off x="2943000" y="2300400"/>
              <a:ext cx="790560" cy="366480"/>
              <a:chOff x="2943000" y="2300400"/>
              <a:chExt cx="790560" cy="366480"/>
            </a:xfrm>
          </p:grpSpPr>
          <p:pic>
            <p:nvPicPr>
              <p:cNvPr id="30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338280" y="2338560"/>
                <a:ext cx="395280" cy="32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943000" y="2338560"/>
                <a:ext cx="395280" cy="32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>
                <a:off x="2943000" y="2300400"/>
                <a:ext cx="790560" cy="366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2819160" y="2952720"/>
              <a:ext cx="1121040" cy="1162080"/>
              <a:chOff x="2819160" y="2952720"/>
              <a:chExt cx="1121040" cy="1162080"/>
            </a:xfrm>
          </p:grpSpPr>
          <p:pic>
            <p:nvPicPr>
              <p:cNvPr id="30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412440" y="3075120"/>
                <a:ext cx="527400" cy="43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819160" y="3380760"/>
                <a:ext cx="527400" cy="43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412440" y="3564360"/>
                <a:ext cx="527400" cy="43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 rot="5400000">
                <a:off x="2798640" y="2973240"/>
                <a:ext cx="1162080" cy="1121040"/>
              </a:xfrm>
              <a:custGeom>
                <a:avLst/>
                <a:gdLst>
                  <a:gd name="textAreaLeft" fmla="*/ 255600 w 1162080"/>
                  <a:gd name="textAreaRight" fmla="*/ 906480 w 1162080"/>
                  <a:gd name="textAreaTop" fmla="*/ 246600 h 1121040"/>
                  <a:gd name="textAreaBottom" fmla="*/ 874440 h 1121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2685960" y="4456080"/>
              <a:ext cx="1581120" cy="673200"/>
              <a:chOff x="2685960" y="4456080"/>
              <a:chExt cx="1581120" cy="673200"/>
            </a:xfrm>
          </p:grpSpPr>
          <p:pic>
            <p:nvPicPr>
              <p:cNvPr id="31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685960" y="4456080"/>
                <a:ext cx="790560" cy="65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476520" y="4456080"/>
                <a:ext cx="790560" cy="65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>
                <a:off x="2685960" y="4456080"/>
                <a:ext cx="1581120" cy="6732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3152520" y="5410080"/>
              <a:ext cx="657360" cy="549360"/>
              <a:chOff x="3152520" y="5410080"/>
              <a:chExt cx="657360" cy="549360"/>
            </a:xfrm>
          </p:grpSpPr>
          <p:pic>
            <p:nvPicPr>
              <p:cNvPr id="31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152520" y="5410080"/>
                <a:ext cx="657360" cy="54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>
                <a:off x="3152520" y="5410080"/>
                <a:ext cx="657360" cy="5493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762120" y="2252520"/>
            <a:ext cx="1096560" cy="3614760"/>
            <a:chOff x="762120" y="2252520"/>
            <a:chExt cx="1096560" cy="3614760"/>
          </a:xfrm>
        </p:grpSpPr>
        <p:grpSp>
          <p:nvGrpSpPr>
            <p:cNvPr id="319" name=""/>
            <p:cNvGrpSpPr/>
            <p:nvPr/>
          </p:nvGrpSpPr>
          <p:grpSpPr>
            <a:xfrm>
              <a:off x="762120" y="4419720"/>
              <a:ext cx="1083960" cy="725040"/>
              <a:chOff x="762120" y="4419720"/>
              <a:chExt cx="1083960" cy="725040"/>
            </a:xfrm>
          </p:grpSpPr>
          <p:pic>
            <p:nvPicPr>
              <p:cNvPr id="320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770040" y="4809600"/>
                <a:ext cx="332280" cy="3351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21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1518120" y="4618800"/>
                <a:ext cx="327960" cy="3452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2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140120" y="4618800"/>
                <a:ext cx="327960" cy="3452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2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62120" y="4419720"/>
                <a:ext cx="328320" cy="3452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324" name=""/>
            <p:cNvGrpSpPr/>
            <p:nvPr/>
          </p:nvGrpSpPr>
          <p:grpSpPr>
            <a:xfrm>
              <a:off x="990720" y="2252520"/>
              <a:ext cx="836280" cy="414000"/>
              <a:chOff x="990720" y="2252520"/>
              <a:chExt cx="836280" cy="414000"/>
            </a:xfrm>
          </p:grpSpPr>
          <p:pic>
            <p:nvPicPr>
              <p:cNvPr id="32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990720" y="2388240"/>
                <a:ext cx="164520" cy="1872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26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204200" y="2252520"/>
                <a:ext cx="164520" cy="1879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443960" y="2258640"/>
                <a:ext cx="164520" cy="1879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1663560" y="2395080"/>
                <a:ext cx="163440" cy="1868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1443960" y="2478600"/>
                <a:ext cx="164520" cy="1879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30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1204200" y="2478600"/>
                <a:ext cx="164520" cy="1879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331" name=""/>
            <p:cNvGrpSpPr/>
            <p:nvPr/>
          </p:nvGrpSpPr>
          <p:grpSpPr>
            <a:xfrm>
              <a:off x="838440" y="3257640"/>
              <a:ext cx="1018800" cy="497880"/>
              <a:chOff x="838440" y="3257640"/>
              <a:chExt cx="1018800" cy="497880"/>
            </a:xfrm>
          </p:grpSpPr>
          <p:pic>
            <p:nvPicPr>
              <p:cNvPr id="332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1638000" y="3528720"/>
                <a:ext cx="219240" cy="2268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33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1374480" y="3257640"/>
                <a:ext cx="218880" cy="2268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34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838440" y="3392640"/>
                <a:ext cx="218160" cy="2264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35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1631160" y="3257640"/>
                <a:ext cx="217080" cy="2268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36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1374480" y="3528720"/>
                <a:ext cx="218880" cy="2268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37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1110240" y="3528720"/>
                <a:ext cx="218160" cy="2268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38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1110240" y="3257640"/>
                <a:ext cx="218160" cy="2268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339" name=""/>
            <p:cNvGrpSpPr/>
            <p:nvPr/>
          </p:nvGrpSpPr>
          <p:grpSpPr>
            <a:xfrm>
              <a:off x="990720" y="5595840"/>
              <a:ext cx="867960" cy="271440"/>
              <a:chOff x="990720" y="5595840"/>
              <a:chExt cx="867960" cy="271440"/>
            </a:xfrm>
          </p:grpSpPr>
          <p:pic>
            <p:nvPicPr>
              <p:cNvPr id="340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1594800" y="5595840"/>
                <a:ext cx="263880" cy="2714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41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990720" y="5595840"/>
                <a:ext cx="263880" cy="2714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342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293120" y="5595840"/>
                <a:ext cx="263880" cy="2714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</p:grpSp>
      <p:grpSp>
        <p:nvGrpSpPr>
          <p:cNvPr id="343" name=""/>
          <p:cNvGrpSpPr/>
          <p:nvPr/>
        </p:nvGrpSpPr>
        <p:grpSpPr>
          <a:xfrm>
            <a:off x="2133720" y="2405160"/>
            <a:ext cx="304560" cy="3386160"/>
            <a:chOff x="2133720" y="2405160"/>
            <a:chExt cx="304560" cy="3386160"/>
          </a:xfrm>
        </p:grpSpPr>
        <p:sp>
          <p:nvSpPr>
            <p:cNvPr id="344" name=""/>
            <p:cNvSpPr/>
            <p:nvPr/>
          </p:nvSpPr>
          <p:spPr>
            <a:xfrm>
              <a:off x="2133720" y="2405160"/>
              <a:ext cx="304560" cy="15228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33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3409920"/>
              <a:ext cx="304560" cy="15228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33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33720" y="4724280"/>
              <a:ext cx="304560" cy="152640"/>
            </a:xfrm>
            <a:prstGeom prst="rightArrow">
              <a:avLst>
                <a:gd name="adj1" fmla="val 50000"/>
                <a:gd name="adj2" fmla="val 49882"/>
              </a:avLst>
            </a:prstGeom>
            <a:solidFill>
              <a:srgbClr val="33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33720" y="5638680"/>
              <a:ext cx="304560" cy="152640"/>
            </a:xfrm>
            <a:prstGeom prst="rightArrow">
              <a:avLst>
                <a:gd name="adj1" fmla="val 50000"/>
                <a:gd name="adj2" fmla="val 49882"/>
              </a:avLst>
            </a:prstGeom>
            <a:solidFill>
              <a:srgbClr val="33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09480" y="2133720"/>
            <a:ext cx="1371600" cy="4343400"/>
            <a:chOff x="609480" y="2133720"/>
            <a:chExt cx="1371600" cy="4343400"/>
          </a:xfrm>
        </p:grpSpPr>
        <p:sp>
          <p:nvSpPr>
            <p:cNvPr id="349" name=""/>
            <p:cNvSpPr/>
            <p:nvPr/>
          </p:nvSpPr>
          <p:spPr>
            <a:xfrm>
              <a:off x="609480" y="2133720"/>
              <a:ext cx="1371600" cy="396216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9480" y="6095880"/>
              <a:ext cx="1371600" cy="38124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YEL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2514600" y="2133720"/>
            <a:ext cx="1905120" cy="4343400"/>
            <a:chOff x="2514600" y="2133720"/>
            <a:chExt cx="1905120" cy="4343400"/>
          </a:xfrm>
        </p:grpSpPr>
        <p:sp>
          <p:nvSpPr>
            <p:cNvPr id="352" name=""/>
            <p:cNvSpPr/>
            <p:nvPr/>
          </p:nvSpPr>
          <p:spPr>
            <a:xfrm>
              <a:off x="2514600" y="2133720"/>
              <a:ext cx="1905120" cy="396216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14600" y="6095880"/>
              <a:ext cx="1905120" cy="38124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1" lang="es-BO" sz="1200" spc="-1" strike="noStrike">
                  <a:solidFill>
                    <a:srgbClr val="000000"/>
                  </a:solidFill>
                  <a:latin typeface="Verdana"/>
                </a:rPr>
                <a:t>ÁQUINAS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Verdana"/>
                </a:rPr>
                <a:t>TEÑIDO Y LAV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105520" y="2286000"/>
            <a:ext cx="1216080" cy="1577520"/>
            <a:chOff x="5105520" y="2286000"/>
            <a:chExt cx="1216080" cy="1577520"/>
          </a:xfrm>
        </p:grpSpPr>
        <p:pic>
          <p:nvPicPr>
            <p:cNvPr id="355" name="" descr=""/>
            <p:cNvPicPr/>
            <p:nvPr/>
          </p:nvPicPr>
          <p:blipFill>
            <a:blip r:embed="rId31"/>
            <a:stretch/>
          </p:blipFill>
          <p:spPr>
            <a:xfrm>
              <a:off x="5105520" y="3124080"/>
              <a:ext cx="1216080" cy="73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" descr=""/>
            <p:cNvPicPr/>
            <p:nvPr/>
          </p:nvPicPr>
          <p:blipFill>
            <a:blip r:embed="rId32"/>
            <a:stretch/>
          </p:blipFill>
          <p:spPr>
            <a:xfrm>
              <a:off x="5105520" y="2286000"/>
              <a:ext cx="1216080" cy="73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"/>
          <p:cNvGrpSpPr/>
          <p:nvPr/>
        </p:nvGrpSpPr>
        <p:grpSpPr>
          <a:xfrm>
            <a:off x="4952880" y="2133720"/>
            <a:ext cx="1524240" cy="2209680"/>
            <a:chOff x="4952880" y="2133720"/>
            <a:chExt cx="1524240" cy="2209680"/>
          </a:xfrm>
        </p:grpSpPr>
        <p:sp>
          <p:nvSpPr>
            <p:cNvPr id="358" name=""/>
            <p:cNvSpPr/>
            <p:nvPr/>
          </p:nvSpPr>
          <p:spPr>
            <a:xfrm>
              <a:off x="4952880" y="2133720"/>
              <a:ext cx="1524240" cy="182880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952880" y="3962520"/>
              <a:ext cx="1524240" cy="38088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HIDRO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EXTRACTO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4952880" y="4419720"/>
            <a:ext cx="1524240" cy="1294920"/>
            <a:chOff x="4952880" y="4419720"/>
            <a:chExt cx="1524240" cy="1294920"/>
          </a:xfrm>
        </p:grpSpPr>
        <p:sp>
          <p:nvSpPr>
            <p:cNvPr id="361" name=""/>
            <p:cNvSpPr/>
            <p:nvPr/>
          </p:nvSpPr>
          <p:spPr>
            <a:xfrm>
              <a:off x="4952880" y="4419720"/>
              <a:ext cx="1524240" cy="91404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52880" y="5333760"/>
              <a:ext cx="1524240" cy="38088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COMPACTADO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7086600" y="2666880"/>
            <a:ext cx="1523880" cy="1295640"/>
            <a:chOff x="7086600" y="2666880"/>
            <a:chExt cx="1523880" cy="1295640"/>
          </a:xfrm>
        </p:grpSpPr>
        <p:sp>
          <p:nvSpPr>
            <p:cNvPr id="364" name=""/>
            <p:cNvSpPr/>
            <p:nvPr/>
          </p:nvSpPr>
          <p:spPr>
            <a:xfrm>
              <a:off x="7086600" y="2666880"/>
              <a:ext cx="1523880" cy="91440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86600" y="3581280"/>
              <a:ext cx="1523880" cy="38124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SECADO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7010280" y="4724280"/>
            <a:ext cx="1752480" cy="1311120"/>
            <a:chOff x="7010280" y="4724280"/>
            <a:chExt cx="1752480" cy="1311120"/>
          </a:xfrm>
        </p:grpSpPr>
        <p:pic>
          <p:nvPicPr>
            <p:cNvPr id="367" name="" descr=""/>
            <p:cNvPicPr/>
            <p:nvPr/>
          </p:nvPicPr>
          <p:blipFill>
            <a:blip r:embed="rId33"/>
            <a:stretch/>
          </p:blipFill>
          <p:spPr>
            <a:xfrm>
              <a:off x="7010280" y="4724280"/>
              <a:ext cx="1752480" cy="8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34"/>
            <a:stretch/>
          </p:blipFill>
          <p:spPr>
            <a:xfrm>
              <a:off x="7314840" y="5486400"/>
              <a:ext cx="1143000" cy="54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9" name=""/>
          <p:cNvGrpSpPr/>
          <p:nvPr/>
        </p:nvGrpSpPr>
        <p:grpSpPr>
          <a:xfrm>
            <a:off x="6934320" y="4724280"/>
            <a:ext cx="1904760" cy="1752840"/>
            <a:chOff x="6934320" y="4724280"/>
            <a:chExt cx="1904760" cy="1752840"/>
          </a:xfrm>
        </p:grpSpPr>
        <p:sp>
          <p:nvSpPr>
            <p:cNvPr id="370" name=""/>
            <p:cNvSpPr/>
            <p:nvPr/>
          </p:nvSpPr>
          <p:spPr>
            <a:xfrm>
              <a:off x="6934320" y="4724280"/>
              <a:ext cx="1904760" cy="137160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934320" y="6095880"/>
              <a:ext cx="1904760" cy="381240"/>
            </a:xfrm>
            <a:prstGeom prst="flowChartAlternateProcess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RAM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4572000" y="49528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72000" y="30481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6474960" y="3048120"/>
            <a:ext cx="622800" cy="1774440"/>
            <a:chOff x="6474960" y="3048120"/>
            <a:chExt cx="622800" cy="1774440"/>
          </a:xfrm>
        </p:grpSpPr>
        <p:sp>
          <p:nvSpPr>
            <p:cNvPr id="375" name=""/>
            <p:cNvSpPr/>
            <p:nvPr/>
          </p:nvSpPr>
          <p:spPr>
            <a:xfrm>
              <a:off x="6629400" y="3048120"/>
              <a:ext cx="380880" cy="152280"/>
            </a:xfrm>
            <a:prstGeom prst="rightArrow">
              <a:avLst>
                <a:gd name="adj1" fmla="val 50000"/>
                <a:gd name="adj2" fmla="val 6253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 rot="18177000">
              <a:off x="6331320" y="4323240"/>
              <a:ext cx="909720" cy="152280"/>
            </a:xfrm>
            <a:prstGeom prst="rightArrow">
              <a:avLst>
                <a:gd name="adj1" fmla="val 50000"/>
                <a:gd name="adj2" fmla="val 149350"/>
              </a:avLst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 rot="5400000">
            <a:off x="7581240" y="430524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5029200" y="5790960"/>
            <a:ext cx="1371600" cy="609840"/>
            <a:chOff x="5029200" y="5790960"/>
            <a:chExt cx="1371600" cy="609840"/>
          </a:xfrm>
        </p:grpSpPr>
        <p:sp>
          <p:nvSpPr>
            <p:cNvPr id="379" name=""/>
            <p:cNvSpPr/>
            <p:nvPr/>
          </p:nvSpPr>
          <p:spPr>
            <a:xfrm>
              <a:off x="5029200" y="6096240"/>
              <a:ext cx="1371600" cy="304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BO" sz="1200" spc="-1" strike="noStrike">
                  <a:solidFill>
                    <a:srgbClr val="000000"/>
                  </a:solidFill>
                  <a:latin typeface="Verdana"/>
                </a:rPr>
                <a:t>Químicos </a:t>
              </a:r>
              <a:r>
                <a:rPr b="1" lang="es-BO" sz="1600" spc="-1" strike="noStrike">
                  <a:solidFill>
                    <a:srgbClr val="000000"/>
                  </a:solidFill>
                  <a:latin typeface="Verdana"/>
                </a:rPr>
                <a:t>(Q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5029200" y="5790960"/>
              <a:ext cx="1371600" cy="305280"/>
              <a:chOff x="5029200" y="5790960"/>
              <a:chExt cx="1371600" cy="305280"/>
            </a:xfrm>
          </p:grpSpPr>
          <p:grpSp>
            <p:nvGrpSpPr>
              <p:cNvPr id="381" name=""/>
              <p:cNvGrpSpPr/>
              <p:nvPr/>
            </p:nvGrpSpPr>
            <p:grpSpPr>
              <a:xfrm>
                <a:off x="5029200" y="5790960"/>
                <a:ext cx="1371240" cy="305280"/>
                <a:chOff x="5029200" y="5790960"/>
                <a:chExt cx="1371240" cy="3052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029200" y="5791320"/>
                  <a:ext cx="477000" cy="304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rot="10800000">
                  <a:off x="5923440" y="5790960"/>
                  <a:ext cx="477000" cy="304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446440" y="5791320"/>
                  <a:ext cx="477000" cy="30492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"/>
              <p:cNvSpPr/>
              <p:nvPr/>
            </p:nvSpPr>
            <p:spPr>
              <a:xfrm>
                <a:off x="5029200" y="5791320"/>
                <a:ext cx="1371600" cy="3049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BO" sz="1200" spc="-1" strike="noStrike">
                    <a:solidFill>
                      <a:srgbClr val="000000"/>
                    </a:solidFill>
                    <a:latin typeface="Verdana"/>
                  </a:rPr>
                  <a:t>Colorantes </a:t>
                </a:r>
                <a:r>
                  <a:rPr b="1" lang="es-BO" sz="1600" spc="-1" strike="noStrike">
                    <a:solidFill>
                      <a:srgbClr val="000000"/>
                    </a:solidFill>
                    <a:latin typeface="Verdana"/>
                  </a:rPr>
                  <a:t>(C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6" name=""/>
          <p:cNvGrpSpPr/>
          <p:nvPr/>
        </p:nvGrpSpPr>
        <p:grpSpPr>
          <a:xfrm>
            <a:off x="4571640" y="5866920"/>
            <a:ext cx="2286360" cy="457560"/>
            <a:chOff x="4571640" y="5866920"/>
            <a:chExt cx="2286360" cy="457560"/>
          </a:xfrm>
        </p:grpSpPr>
        <p:sp>
          <p:nvSpPr>
            <p:cNvPr id="387" name=""/>
            <p:cNvSpPr/>
            <p:nvPr/>
          </p:nvSpPr>
          <p:spPr>
            <a:xfrm>
              <a:off x="6553080" y="6171840"/>
              <a:ext cx="304920" cy="152640"/>
            </a:xfrm>
            <a:prstGeom prst="rightArrow">
              <a:avLst>
                <a:gd name="adj1" fmla="val 50000"/>
                <a:gd name="adj2" fmla="val 499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0800000">
              <a:off x="4571640" y="58669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cc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10800000">
              <a:off x="4571640" y="6171840"/>
              <a:ext cx="304920" cy="152640"/>
            </a:xfrm>
            <a:prstGeom prst="rightArrow">
              <a:avLst>
                <a:gd name="adj1" fmla="val 50000"/>
                <a:gd name="adj2" fmla="val 4994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517680" y="1479600"/>
            <a:ext cx="83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Verdana"/>
              </a:rPr>
              <a:t>MAQUINARIA Y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SOLUCIÓN PROPUESTA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Modelo de Programación de la Producción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2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La función objetivo puede s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Maximización del porcentaje o número de envíos puntu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Minimización del retraso promedio de las ordenes, pudiendo usarse ponderadores o minimización del máximo retraso (del peor cas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Maximización de la utilización de la maquin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Minimización del tiempo de finalización de la última orden (se maximiza la producció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Minimización de la suma de tiempos de finalización de todas las ordenes, es decir, del tiempo de flujo (se minimiza el inventario en proces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SOLUCIÓN PROPUESTA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Modelo de Programación de la Producción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4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Las metodologías más empleadas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Reglas simples de prior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rogramación Matemática, que incluye enfoques de programación dinámica y branch and bound (R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Técnicas algorítmicas que buscan mas que nada soluciones robustas (combinación de heurísticas y reglas simples de priorizació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Búsqueda dirigida por restricciones, donde se buscan soluciones factibles que cumplan todas las reglas (Constraint Programming y Programación). Está alineada con A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SOLUCIÓN PROPUESTA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Diseño del Sistema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Está compuesto básicamente por tres subsiste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Administración de Base de Datos: donde se deben manejar datos de la planta y del trabajo mismo (interacción con ER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Programación: que incluye los módulos de generación, edición y análisis de prog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Interfase del usuario, por ejemplo gráficos Gant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OBJETIVOS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Objetivo General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Obtener programas completos, útiles, realistas y de manera oportuna basados en soluciones “óptimas” y objetivas de tal modo que sirvan como base para la proyección de la producción de ordenes en Tintorería en el corto, mediano y largo plaz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OBJETIVOS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Objetivos Específicos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Desarrollar de manera más eficiente los procesos de planificación y programación de tintorer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ermitir flexibilidad en la progra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Mejorar la calidad de la información debiendo ser el reflejo de lo que sucede en l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Determinar verdaderos requerimientos de químicos y color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otenciar el uso del sistema E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Obtener programas óptimos o con soluciones robustas de manera objetiva y relativamente ráp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PROGRAMACIÓN DE ACTIVIDADES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Gráfico Gantt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2" name=""/>
          <p:cNvSpPr/>
          <p:nvPr/>
        </p:nvSpPr>
        <p:spPr>
          <a:xfrm>
            <a:off x="16002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NOV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DIC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9718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ENE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6576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FEB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3434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MAR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0292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ABR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2725280" y="4952880"/>
            <a:ext cx="68580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600200" y="1981080"/>
            <a:ext cx="6858000" cy="2819520"/>
            <a:chOff x="1600200" y="1981080"/>
            <a:chExt cx="6858000" cy="2819520"/>
          </a:xfrm>
        </p:grpSpPr>
        <p:sp>
          <p:nvSpPr>
            <p:cNvPr id="410" name=""/>
            <p:cNvSpPr/>
            <p:nvPr/>
          </p:nvSpPr>
          <p:spPr>
            <a:xfrm>
              <a:off x="16002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860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718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6576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3434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292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7150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4008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866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772400" y="1981080"/>
              <a:ext cx="685800" cy="2819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1600200" y="2286000"/>
            <a:ext cx="4800600" cy="457200"/>
          </a:xfrm>
          <a:prstGeom prst="rect">
            <a:avLst/>
          </a:prstGeom>
          <a:gradFill rotWithShape="0">
            <a:gsLst>
              <a:gs pos="0">
                <a:srgbClr val="a0c9c9"/>
              </a:gs>
              <a:gs pos="50000">
                <a:srgbClr val="ccffff"/>
              </a:gs>
              <a:gs pos="100000">
                <a:srgbClr val="a0c9c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Revisión Bibliográf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7150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MAY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JUN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0866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JUL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772400" y="4800600"/>
            <a:ext cx="685800" cy="304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AGO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590920" y="2895480"/>
            <a:ext cx="1904760" cy="457200"/>
          </a:xfrm>
          <a:prstGeom prst="rect">
            <a:avLst/>
          </a:prstGeom>
          <a:gradFill rotWithShape="0">
            <a:gsLst>
              <a:gs pos="0">
                <a:srgbClr val="c9c950"/>
              </a:gs>
              <a:gs pos="50000">
                <a:srgbClr val="ffff66"/>
              </a:gs>
              <a:gs pos="100000">
                <a:srgbClr val="c9c9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Trabajo de Cam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57600" y="3505320"/>
            <a:ext cx="3048120" cy="457200"/>
          </a:xfrm>
          <a:prstGeom prst="rect">
            <a:avLst/>
          </a:prstGeom>
          <a:gradFill rotWithShape="0">
            <a:gsLst>
              <a:gs pos="0">
                <a:srgbClr val="a0c9a0"/>
              </a:gs>
              <a:gs pos="50000">
                <a:srgbClr val="ccffcc"/>
              </a:gs>
              <a:gs pos="100000">
                <a:srgbClr val="a0c9a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Formulación y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de la Solu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334120" y="4114800"/>
            <a:ext cx="2361960" cy="457200"/>
          </a:xfrm>
          <a:prstGeom prst="rect">
            <a:avLst/>
          </a:prstGeom>
          <a:gradFill rotWithShape="0">
            <a:gsLst>
              <a:gs pos="0">
                <a:srgbClr val="e2b487"/>
              </a:gs>
              <a:gs pos="50000">
                <a:srgbClr val="ffcc99"/>
              </a:gs>
              <a:gs pos="100000">
                <a:srgbClr val="e2b48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del Sist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1066680" y="1981080"/>
            <a:ext cx="457200" cy="2819520"/>
          </a:xfrm>
          <a:prstGeom prst="flowChartDelay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rot="16200000">
            <a:off x="216360" y="3364560"/>
            <a:ext cx="21880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ffffff"/>
                </a:solidFill>
                <a:latin typeface="Verdana"/>
              </a:rPr>
              <a:t>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5400000">
            <a:off x="4838760" y="1866600"/>
            <a:ext cx="380880" cy="6858000"/>
          </a:xfrm>
          <a:prstGeom prst="flowChartDelay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ffff"/>
                </a:solidFill>
                <a:latin typeface="Verdana"/>
              </a:rPr>
              <a:t>M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REFERENCIAS BIBLIOGRÁFICAS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2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M. Pinedo, R. Samroengraja and B. Yen, “Design Issues with Regard to Scheduling Systems in Manufacturing”, </a:t>
            </a:r>
            <a:r>
              <a:rPr b="0" i="1" lang="es-BO" sz="2000" spc="-1" strike="noStrike">
                <a:solidFill>
                  <a:srgbClr val="000000"/>
                </a:solidFill>
                <a:latin typeface="Verdana"/>
              </a:rPr>
              <a:t>Columbia University, New York, New York 100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J. Rickel, “Issues in the Design of Scheduling Systems”, in “Expert Systems and Intelligent Manufacturing”, (M.D. Oliff, ed.), </a:t>
            </a:r>
            <a:r>
              <a:rPr b="0" i="1" lang="es-BO" sz="2000" spc="-1" strike="noStrike">
                <a:solidFill>
                  <a:srgbClr val="000000"/>
                </a:solidFill>
                <a:latin typeface="Verdana"/>
              </a:rPr>
              <a:t>Elsevier Science Publishing Co., 19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K.R. Baker, “Introduction to Sequencing and Scheduling”, </a:t>
            </a:r>
            <a:r>
              <a:rPr b="0" i="1" lang="es-BO" sz="2000" spc="-1" strike="noStrike">
                <a:solidFill>
                  <a:srgbClr val="000000"/>
                </a:solidFill>
                <a:latin typeface="Verdana"/>
              </a:rPr>
              <a:t>John Wiley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&amp; Sons, New York, </a:t>
            </a:r>
            <a:r>
              <a:rPr b="0" i="1" lang="es-BO" sz="2000" spc="-1" strike="noStrike">
                <a:solidFill>
                  <a:srgbClr val="000000"/>
                </a:solidFill>
                <a:latin typeface="Verdana"/>
              </a:rPr>
              <a:t>1980</a:t>
            </a: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R.W. Conway, W.L. Maxwell and L.W. Miller, “Theory of Scheduling”, </a:t>
            </a:r>
            <a:r>
              <a:rPr b="0" i="1" lang="es-BO" sz="2000" spc="-1" strike="noStrike">
                <a:solidFill>
                  <a:srgbClr val="000000"/>
                </a:solidFill>
                <a:latin typeface="Verdana"/>
              </a:rPr>
              <a:t>Addison-Wesley Publishing Co., Reading, MA., 1967</a:t>
            </a: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PREGUNTAS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4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3141720" y="2228760"/>
            <a:ext cx="668160" cy="5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4513320" y="2152800"/>
            <a:ext cx="668160" cy="59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4513320" y="2762280"/>
            <a:ext cx="668160" cy="59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8" name="" descr=""/>
          <p:cNvPicPr/>
          <p:nvPr/>
        </p:nvPicPr>
        <p:blipFill>
          <a:blip r:embed="rId4"/>
          <a:stretch/>
        </p:blipFill>
        <p:spPr>
          <a:xfrm>
            <a:off x="4343400" y="3371760"/>
            <a:ext cx="668160" cy="5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9" name="" descr=""/>
          <p:cNvPicPr/>
          <p:nvPr/>
        </p:nvPicPr>
        <p:blipFill>
          <a:blip r:embed="rId5"/>
          <a:stretch/>
        </p:blipFill>
        <p:spPr>
          <a:xfrm>
            <a:off x="4114800" y="4591080"/>
            <a:ext cx="668160" cy="59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0" name="" descr=""/>
          <p:cNvPicPr/>
          <p:nvPr/>
        </p:nvPicPr>
        <p:blipFill>
          <a:blip r:embed="rId6"/>
          <a:stretch/>
        </p:blipFill>
        <p:spPr>
          <a:xfrm>
            <a:off x="4114800" y="3981600"/>
            <a:ext cx="668160" cy="59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1" name="" descr=""/>
          <p:cNvPicPr/>
          <p:nvPr/>
        </p:nvPicPr>
        <p:blipFill>
          <a:blip r:embed="rId7">
            <a:grayscl/>
          </a:blip>
          <a:stretch/>
        </p:blipFill>
        <p:spPr>
          <a:xfrm>
            <a:off x="4114800" y="5429160"/>
            <a:ext cx="668160" cy="5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2" name="" descr=""/>
          <p:cNvPicPr/>
          <p:nvPr/>
        </p:nvPicPr>
        <p:blipFill>
          <a:blip r:embed="rId8"/>
          <a:stretch/>
        </p:blipFill>
        <p:spPr>
          <a:xfrm>
            <a:off x="3200400" y="2838600"/>
            <a:ext cx="668160" cy="59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3" name="" descr=""/>
          <p:cNvPicPr/>
          <p:nvPr/>
        </p:nvPicPr>
        <p:blipFill>
          <a:blip r:embed="rId9"/>
          <a:stretch/>
        </p:blipFill>
        <p:spPr>
          <a:xfrm>
            <a:off x="3827520" y="2057400"/>
            <a:ext cx="668160" cy="59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obl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Solución Propue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Objetivo Gener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ograma de Activida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Referencias Bibliográfic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Descripción de la Empresa – Ametex S.A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adena textil integrada verticalmente en torno a ocho plantas y con procesos que van desde el hilado hasta la costura y acabado de prendas de vestir de algod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2.400 empl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Ventas anuales de 35 millones de dóla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77% de las ventas corresponden a exportaciones principalmente a Estados Un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Producción de ocho millones de prendas anualmente para marcas como Polo Ralph Lauren, Polo Kids y Express principalm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uenta con un sistema ERP especializado en texti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Descripción de Universaltex S.A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Fábrica textil que forma parte de la compañía Ametex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400 emple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ocesos principales: tejido, tintorería, secado y acaba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Materia prima: hilo de algod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oducto terminado: variedades de tela acabada de pu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Proceso de Fabricación de Tela - Tintorería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3962520"/>
            <a:ext cx="106668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Almacé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Hilo Crudo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Encon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1981080"/>
            <a:ext cx="1066680" cy="76212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Tintore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de Hilo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Ci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3962520"/>
            <a:ext cx="106668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Tejedu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Circulares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Rectilín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48520" y="3962520"/>
            <a:ext cx="1066680" cy="76176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Tintore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Tela Sóli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y Ray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72400" y="3962520"/>
            <a:ext cx="1066680" cy="76176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3300"/>
                </a:solidFill>
                <a:latin typeface="Verdana"/>
              </a:rPr>
              <a:t>Secado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3300"/>
                </a:solidFill>
                <a:latin typeface="Verdana"/>
              </a:rPr>
              <a:t>Acab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3962520"/>
            <a:ext cx="106704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Almacé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Tela Cruda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Prepar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001000" y="2590920"/>
            <a:ext cx="106668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Almacé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Despa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41911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419112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419112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1911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8305560" y="213336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8305560" y="350496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1523880"/>
            <a:ext cx="106704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ffff"/>
                </a:solidFill>
                <a:latin typeface="Verdana"/>
              </a:rPr>
              <a:t>C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3505320"/>
            <a:ext cx="106704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ffff"/>
                </a:solidFill>
                <a:latin typeface="Verdana"/>
              </a:rPr>
              <a:t>HIL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673400">
            <a:off x="1371240" y="396216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400" y="5032440"/>
            <a:ext cx="3131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Hilo heather, cru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Verdana"/>
              </a:rPr>
              <a:t>Hilo crudo bla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Verdana"/>
              </a:rPr>
              <a:t>Hilo teñ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Verdana"/>
              </a:rPr>
              <a:t>Cinta Cru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Verdana"/>
              </a:rPr>
              <a:t>Cinta Teñ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Hilo heather, crudo y teñ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891000" y="2584800"/>
            <a:ext cx="948240" cy="817200"/>
            <a:chOff x="891000" y="2584800"/>
            <a:chExt cx="948240" cy="817200"/>
          </a:xfrm>
        </p:grpSpPr>
        <p:sp>
          <p:nvSpPr>
            <p:cNvPr id="119" name=""/>
            <p:cNvSpPr/>
            <p:nvPr/>
          </p:nvSpPr>
          <p:spPr>
            <a:xfrm rot="19127400">
              <a:off x="1096560" y="2950560"/>
              <a:ext cx="761760" cy="228600"/>
            </a:xfrm>
            <a:prstGeom prst="rightArrow">
              <a:avLst>
                <a:gd name="adj1" fmla="val 50000"/>
                <a:gd name="adj2" fmla="val 83307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8218800">
              <a:off x="866160" y="2813760"/>
              <a:ext cx="762120" cy="228600"/>
            </a:xfrm>
            <a:prstGeom prst="rightArrow">
              <a:avLst>
                <a:gd name="adj1" fmla="val 50000"/>
                <a:gd name="adj2" fmla="val 83346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77120" y="2817000"/>
            <a:ext cx="471600" cy="1069200"/>
            <a:chOff x="1977120" y="2817000"/>
            <a:chExt cx="471600" cy="1069200"/>
          </a:xfrm>
        </p:grpSpPr>
        <p:sp>
          <p:nvSpPr>
            <p:cNvPr id="122" name=""/>
            <p:cNvSpPr/>
            <p:nvPr/>
          </p:nvSpPr>
          <p:spPr>
            <a:xfrm rot="16279200">
              <a:off x="1865880" y="3167280"/>
              <a:ext cx="920160" cy="223920"/>
            </a:xfrm>
            <a:prstGeom prst="rightArrow">
              <a:avLst>
                <a:gd name="adj1" fmla="val 50000"/>
                <a:gd name="adj2" fmla="val 102733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5371200">
              <a:off x="1632600" y="3313800"/>
              <a:ext cx="919440" cy="223200"/>
            </a:xfrm>
            <a:prstGeom prst="rightArrow">
              <a:avLst>
                <a:gd name="adj1" fmla="val 50000"/>
                <a:gd name="adj2" fmla="val 102984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447920" y="37339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31240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31240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25909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30481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4197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44197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44197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91520" y="441972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077320" y="35812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077320" y="2133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38240" y="5006880"/>
            <a:ext cx="38916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Tela cruda (sólida, rayada o heath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Verdana"/>
              </a:rPr>
              <a:t>Tela cruda prepa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0000"/>
                </a:solidFill>
                <a:latin typeface="Verdana"/>
              </a:rPr>
              <a:t>Tela teñida o lav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33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3300"/>
                </a:solidFill>
                <a:latin typeface="Verdana"/>
              </a:rPr>
              <a:t>Tela seca y acab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Tela de color, rayada y hea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124080" y="1523880"/>
            <a:ext cx="4496040" cy="2286000"/>
            <a:chOff x="3124080" y="1523880"/>
            <a:chExt cx="4496040" cy="228600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6248520" y="2362320"/>
              <a:ext cx="121896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rcRect l="0" t="0" r="50533" b="0"/>
            <a:stretch/>
          </p:blipFill>
          <p:spPr>
            <a:xfrm>
              <a:off x="3124080" y="2743200"/>
              <a:ext cx="1447920" cy="99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4800600" y="2286000"/>
              <a:ext cx="1143000" cy="8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4"/>
            <a:stretch/>
          </p:blipFill>
          <p:spPr>
            <a:xfrm>
              <a:off x="5105520" y="1523880"/>
              <a:ext cx="198108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124080" y="2666880"/>
              <a:ext cx="1524240" cy="1143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95680" y="1523880"/>
              <a:ext cx="3124440" cy="19814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689200" y="2432880"/>
            <a:ext cx="5331960" cy="1627920"/>
            <a:chOff x="2689200" y="2432880"/>
            <a:chExt cx="5331960" cy="1627920"/>
          </a:xfrm>
        </p:grpSpPr>
        <p:sp>
          <p:nvSpPr>
            <p:cNvPr id="144" name=""/>
            <p:cNvSpPr/>
            <p:nvPr/>
          </p:nvSpPr>
          <p:spPr>
            <a:xfrm rot="20218800">
              <a:off x="6324480" y="3581280"/>
              <a:ext cx="304920" cy="381240"/>
            </a:xfrm>
            <a:prstGeom prst="upArrow">
              <a:avLst>
                <a:gd name="adj1" fmla="val 50000"/>
                <a:gd name="adj2" fmla="val 31257"/>
              </a:avLst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9422600">
              <a:off x="7475040" y="3144600"/>
              <a:ext cx="304920" cy="914400"/>
            </a:xfrm>
            <a:prstGeom prst="upArrow">
              <a:avLst>
                <a:gd name="adj1" fmla="val 50000"/>
                <a:gd name="adj2" fmla="val 74970"/>
              </a:avLst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437000">
              <a:off x="2843280" y="2441520"/>
              <a:ext cx="304560" cy="533520"/>
            </a:xfrm>
            <a:prstGeom prst="upArrow">
              <a:avLst>
                <a:gd name="adj1" fmla="val 50000"/>
                <a:gd name="adj2" fmla="val 43794"/>
              </a:avLst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52388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2438280"/>
            <a:ext cx="7467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Planificación y Programación en Tintorería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8620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429000" y="1905120"/>
            <a:ext cx="380520" cy="75960"/>
            <a:chOff x="3429000" y="1905120"/>
            <a:chExt cx="380520" cy="75960"/>
          </a:xfrm>
        </p:grpSpPr>
        <p:sp>
          <p:nvSpPr>
            <p:cNvPr id="155" name=""/>
            <p:cNvSpPr/>
            <p:nvPr/>
          </p:nvSpPr>
          <p:spPr>
            <a:xfrm>
              <a:off x="3429000" y="1905120"/>
              <a:ext cx="75960" cy="75960"/>
            </a:xfrm>
            <a:prstGeom prst="ellipse">
              <a:avLst/>
            </a:prstGeom>
            <a:solidFill>
              <a:srgbClr val="eaea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81280" y="1905120"/>
              <a:ext cx="75600" cy="75960"/>
            </a:xfrm>
            <a:prstGeom prst="ellipse">
              <a:avLst/>
            </a:prstGeom>
            <a:solidFill>
              <a:srgbClr val="eaea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33560" y="1905120"/>
              <a:ext cx="75960" cy="75960"/>
            </a:xfrm>
            <a:prstGeom prst="ellipse">
              <a:avLst/>
            </a:prstGeom>
            <a:solidFill>
              <a:srgbClr val="eaea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09480" y="2438280"/>
            <a:ext cx="457200" cy="6858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3124080"/>
            <a:ext cx="457200" cy="6858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38098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2670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4724280"/>
            <a:ext cx="457200" cy="60984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791320" y="1905120"/>
            <a:ext cx="380520" cy="75960"/>
            <a:chOff x="5791320" y="1905120"/>
            <a:chExt cx="380520" cy="75960"/>
          </a:xfrm>
        </p:grpSpPr>
        <p:sp>
          <p:nvSpPr>
            <p:cNvPr id="164" name=""/>
            <p:cNvSpPr/>
            <p:nvPr/>
          </p:nvSpPr>
          <p:spPr>
            <a:xfrm>
              <a:off x="5791320" y="1905120"/>
              <a:ext cx="75960" cy="75960"/>
            </a:xfrm>
            <a:prstGeom prst="ellipse">
              <a:avLst/>
            </a:prstGeom>
            <a:solidFill>
              <a:srgbClr val="eaea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43600" y="1905120"/>
              <a:ext cx="75600" cy="75960"/>
            </a:xfrm>
            <a:prstGeom prst="ellipse">
              <a:avLst/>
            </a:prstGeom>
            <a:solidFill>
              <a:srgbClr val="eaea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5880" y="1905120"/>
              <a:ext cx="75960" cy="75960"/>
            </a:xfrm>
            <a:prstGeom prst="ellipse">
              <a:avLst/>
            </a:prstGeom>
            <a:solidFill>
              <a:srgbClr val="eaea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52388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8108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3828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6292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2012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0572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4852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Verdana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1752480"/>
            <a:ext cx="457200" cy="457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3124080"/>
            <a:ext cx="7467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3809880"/>
            <a:ext cx="74678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4267080"/>
            <a:ext cx="74678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4724280"/>
            <a:ext cx="7467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8108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0060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4852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0572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16292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2012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077320" y="2209680"/>
            <a:ext cx="4572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2438280"/>
            <a:ext cx="533520" cy="28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2438280"/>
            <a:ext cx="533520" cy="28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752480"/>
            <a:ext cx="914400" cy="6858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Máq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752480"/>
            <a:ext cx="9144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23880" y="2438280"/>
            <a:ext cx="1524240" cy="16322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4070520"/>
            <a:ext cx="1752840" cy="83808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590840" y="2585880"/>
            <a:ext cx="1609560" cy="2246400"/>
            <a:chOff x="1590840" y="2585880"/>
            <a:chExt cx="1609560" cy="2246400"/>
          </a:xfrm>
        </p:grpSpPr>
        <p:sp>
          <p:nvSpPr>
            <p:cNvPr id="199" name=""/>
            <p:cNvSpPr/>
            <p:nvPr/>
          </p:nvSpPr>
          <p:spPr>
            <a:xfrm>
              <a:off x="1590840" y="2585880"/>
              <a:ext cx="463320" cy="1336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54160" y="2585880"/>
              <a:ext cx="463680" cy="13366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17840" y="2585880"/>
              <a:ext cx="463320" cy="133668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00200" y="4146480"/>
              <a:ext cx="762120" cy="6858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62320" y="4146480"/>
              <a:ext cx="838080" cy="6858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447920" y="5028840"/>
            <a:ext cx="1981080" cy="1086120"/>
            <a:chOff x="1447920" y="5028840"/>
            <a:chExt cx="1981080" cy="1086120"/>
          </a:xfrm>
        </p:grpSpPr>
        <p:sp>
          <p:nvSpPr>
            <p:cNvPr id="205" name=""/>
            <p:cNvSpPr/>
            <p:nvPr/>
          </p:nvSpPr>
          <p:spPr>
            <a:xfrm>
              <a:off x="1911600" y="5746680"/>
              <a:ext cx="106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nquir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2057400" y="4419360"/>
              <a:ext cx="762120" cy="1981080"/>
            </a:xfrm>
            <a:custGeom>
              <a:avLst/>
              <a:gdLst>
                <a:gd name="textAreaLeft" fmla="*/ 487080 w 762120"/>
                <a:gd name="textAreaRight" fmla="*/ 762480 w 76212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553080" y="2438280"/>
            <a:ext cx="1905120" cy="2895840"/>
            <a:chOff x="6553080" y="2438280"/>
            <a:chExt cx="1905120" cy="2895840"/>
          </a:xfrm>
        </p:grpSpPr>
        <p:sp>
          <p:nvSpPr>
            <p:cNvPr id="208" name=""/>
            <p:cNvSpPr/>
            <p:nvPr/>
          </p:nvSpPr>
          <p:spPr>
            <a:xfrm>
              <a:off x="6553080" y="2438280"/>
              <a:ext cx="15264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05720" y="38098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238880" y="2438280"/>
              <a:ext cx="15264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2940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0" y="24382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5200" y="31240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62920" y="31240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10280" y="3809880"/>
              <a:ext cx="152640" cy="457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162920" y="38098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72400" y="38098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20120" y="38098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315200" y="38098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10280" y="4267080"/>
              <a:ext cx="152640" cy="457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315200" y="42670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67480" y="4267080"/>
              <a:ext cx="152640" cy="457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34320" y="31240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3124080"/>
              <a:ext cx="152640" cy="6858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96080" y="3124080"/>
              <a:ext cx="152640" cy="6858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772400" y="24382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24680" y="3124080"/>
              <a:ext cx="15264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05920" y="24382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20120" y="24382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72400" y="42670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553080" y="4267080"/>
            <a:ext cx="1828800" cy="1067040"/>
            <a:chOff x="6553080" y="4267080"/>
            <a:chExt cx="1828800" cy="1067040"/>
          </a:xfrm>
        </p:grpSpPr>
        <p:sp>
          <p:nvSpPr>
            <p:cNvPr id="232" name=""/>
            <p:cNvSpPr/>
            <p:nvPr/>
          </p:nvSpPr>
          <p:spPr>
            <a:xfrm>
              <a:off x="6705720" y="42670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53080" y="4267080"/>
              <a:ext cx="152640" cy="45720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93432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2960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96080" y="4724280"/>
              <a:ext cx="15264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84872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07732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477120" y="5028840"/>
            <a:ext cx="1981080" cy="1328760"/>
            <a:chOff x="6477120" y="5028840"/>
            <a:chExt cx="1981080" cy="1328760"/>
          </a:xfrm>
        </p:grpSpPr>
        <p:sp>
          <p:nvSpPr>
            <p:cNvPr id="240" name=""/>
            <p:cNvSpPr/>
            <p:nvPr/>
          </p:nvSpPr>
          <p:spPr>
            <a:xfrm>
              <a:off x="6652800" y="5715000"/>
              <a:ext cx="164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yel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rogram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6200000">
              <a:off x="7086600" y="4419360"/>
              <a:ext cx="762120" cy="1981080"/>
            </a:xfrm>
            <a:custGeom>
              <a:avLst/>
              <a:gdLst>
                <a:gd name="textAreaLeft" fmla="*/ 487080 w 762120"/>
                <a:gd name="textAreaRight" fmla="*/ 762480 w 76212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7086600" y="2438280"/>
            <a:ext cx="990720" cy="2286000"/>
            <a:chOff x="7086600" y="2438280"/>
            <a:chExt cx="990720" cy="2286000"/>
          </a:xfrm>
        </p:grpSpPr>
        <p:sp>
          <p:nvSpPr>
            <p:cNvPr id="243" name=""/>
            <p:cNvSpPr/>
            <p:nvPr/>
          </p:nvSpPr>
          <p:spPr>
            <a:xfrm>
              <a:off x="7086600" y="24382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43800" y="3124080"/>
              <a:ext cx="152280" cy="685800"/>
            </a:xfrm>
            <a:prstGeom prst="bevel">
              <a:avLst>
                <a:gd name="adj" fmla="val 12500"/>
              </a:avLst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24680" y="4267080"/>
              <a:ext cx="152640" cy="457200"/>
            </a:xfrm>
            <a:prstGeom prst="bevel">
              <a:avLst>
                <a:gd name="adj" fmla="val 12500"/>
              </a:avLst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267080" y="3809880"/>
            <a:ext cx="1371600" cy="1524240"/>
            <a:chOff x="4267080" y="3809880"/>
            <a:chExt cx="1371600" cy="1524240"/>
          </a:xfrm>
        </p:grpSpPr>
        <p:sp>
          <p:nvSpPr>
            <p:cNvPr id="247" name=""/>
            <p:cNvSpPr/>
            <p:nvPr/>
          </p:nvSpPr>
          <p:spPr>
            <a:xfrm>
              <a:off x="4267080" y="4724280"/>
              <a:ext cx="152640" cy="609840"/>
            </a:xfrm>
            <a:prstGeom prst="bevel">
              <a:avLst>
                <a:gd name="adj" fmla="val 125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1972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05520" y="38098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57800" y="3809880"/>
              <a:ext cx="152280" cy="45720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24280" y="4724280"/>
              <a:ext cx="15264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7692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2920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81480" y="4724280"/>
              <a:ext cx="15264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33412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8640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191120" y="2438280"/>
            <a:ext cx="1143000" cy="2895840"/>
            <a:chOff x="4191120" y="2438280"/>
            <a:chExt cx="1143000" cy="2895840"/>
          </a:xfrm>
        </p:grpSpPr>
        <p:sp>
          <p:nvSpPr>
            <p:cNvPr id="258" name=""/>
            <p:cNvSpPr/>
            <p:nvPr/>
          </p:nvSpPr>
          <p:spPr>
            <a:xfrm>
              <a:off x="4572000" y="4724280"/>
              <a:ext cx="152280" cy="609840"/>
            </a:xfrm>
            <a:prstGeom prst="bevel">
              <a:avLst>
                <a:gd name="adj" fmla="val 125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191120" y="2438280"/>
              <a:ext cx="1143000" cy="2286000"/>
              <a:chOff x="4191120" y="2438280"/>
              <a:chExt cx="1143000" cy="2286000"/>
            </a:xfrm>
          </p:grpSpPr>
          <p:sp>
            <p:nvSpPr>
              <p:cNvPr id="260" name=""/>
              <p:cNvSpPr/>
              <p:nvPr/>
            </p:nvSpPr>
            <p:spPr>
              <a:xfrm>
                <a:off x="4191120" y="24382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343400" y="3809880"/>
                <a:ext cx="152280" cy="4572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191120" y="4267080"/>
                <a:ext cx="152280" cy="457200"/>
              </a:xfrm>
              <a:prstGeom prst="bevel">
                <a:avLst>
                  <a:gd name="adj" fmla="val 12500"/>
                </a:avLst>
              </a:prstGeom>
              <a:solidFill>
                <a:srgbClr val="99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120" y="31240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343400" y="24382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495680" y="3809880"/>
                <a:ext cx="152640" cy="4572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343400" y="4267080"/>
                <a:ext cx="152280" cy="457200"/>
              </a:xfrm>
              <a:prstGeom prst="bevel">
                <a:avLst>
                  <a:gd name="adj" fmla="val 12500"/>
                </a:avLst>
              </a:prstGeom>
              <a:solidFill>
                <a:srgbClr val="99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95680" y="2438280"/>
                <a:ext cx="15264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648320" y="3809880"/>
                <a:ext cx="152280" cy="4572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343400" y="31240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00600" y="24382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952880" y="2438280"/>
                <a:ext cx="15264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724280" y="3124080"/>
                <a:ext cx="15264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495680" y="3124080"/>
                <a:ext cx="152640" cy="6858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00600" y="3809880"/>
                <a:ext cx="152280" cy="4572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952880" y="3809880"/>
                <a:ext cx="152640" cy="4572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495680" y="4267080"/>
                <a:ext cx="152640" cy="4572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648320" y="4267080"/>
                <a:ext cx="152280" cy="4572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00600" y="4267080"/>
                <a:ext cx="152280" cy="4572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952880" y="4267080"/>
                <a:ext cx="152640" cy="4572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105520" y="4267080"/>
                <a:ext cx="152280" cy="45720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876920" y="31240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029200" y="31240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181480" y="3124080"/>
                <a:ext cx="15264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105520" y="24382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648320" y="2438280"/>
                <a:ext cx="152280" cy="685800"/>
              </a:xfrm>
              <a:prstGeom prst="bevel">
                <a:avLst>
                  <a:gd name="adj" fmla="val 12500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6" name=""/>
          <p:cNvGrpSpPr/>
          <p:nvPr/>
        </p:nvGrpSpPr>
        <p:grpSpPr>
          <a:xfrm>
            <a:off x="3809880" y="5028840"/>
            <a:ext cx="1981440" cy="1328760"/>
            <a:chOff x="3809880" y="5028840"/>
            <a:chExt cx="1981440" cy="1328760"/>
          </a:xfrm>
        </p:grpSpPr>
        <p:sp>
          <p:nvSpPr>
            <p:cNvPr id="287" name=""/>
            <p:cNvSpPr/>
            <p:nvPr/>
          </p:nvSpPr>
          <p:spPr>
            <a:xfrm>
              <a:off x="4067640" y="5715000"/>
              <a:ext cx="147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yel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lanific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6200000">
              <a:off x="4419360" y="4419000"/>
              <a:ext cx="762120" cy="1981440"/>
            </a:xfrm>
            <a:custGeom>
              <a:avLst/>
              <a:gdLst>
                <a:gd name="textAreaLeft" fmla="*/ 487080 w 762120"/>
                <a:gd name="textAreaRight" fmla="*/ 762480 w 762120"/>
                <a:gd name="textAreaTop" fmla="*/ 51480 h 1981440"/>
                <a:gd name="textAreaBottom" fmla="*/ 1929960 h 19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5410080" y="2438280"/>
            <a:ext cx="152640" cy="68580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PROBLEMA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Se puede resumir en los siguientes aspect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Recursos de Planific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Dos sistemas mantenidos en forma paralela, uno en hojas electrónicas y el sistema ERP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Medios visuales deficien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Infor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La información que existe no se aprovecha del todo o directamente no se cuenta con ell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rogram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Se ajustan más al corto plazo, mientras que para el mediano y largo plazo no son confiables o no se consideran, incurriéndose así en sub-óptimos o soluciones miop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SOLUCIÓN PROPUESTA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3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s-BO" sz="2800" spc="-1" strike="noStrike">
                <a:solidFill>
                  <a:srgbClr val="000000"/>
                </a:solidFill>
                <a:latin typeface="Verdana"/>
              </a:rPr>
              <a:t>Sistema de Programación de la Producción en Tintorerí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ara ello se deben defini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Requerimientos fun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Modelo de Programación de la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Diseño del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SOLUCIÓN PROPUESTA</a:t>
            </a:r>
            <a:br>
              <a:rPr sz="3200"/>
            </a:br>
            <a:r>
              <a:rPr b="1" lang="es-BO" sz="3200" spc="-1" strike="noStrike">
                <a:solidFill>
                  <a:srgbClr val="999900"/>
                </a:solidFill>
                <a:latin typeface="Garamond"/>
              </a:rPr>
              <a:t>Requerimientos Funcionales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Se determina desde el punto de vista del programador la inclusión de tareas co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Recolección y análisis de información acerca de las ordenes a programarse y de las capacidades operacionales de la p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Programación total o parcial de las ordenes, la evaluación de los programas y su edi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Interacción con la pl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3:12:04Z</dcterms:created>
  <dc:creator> Abel Gonzalo Salinas Columba</dc:creator>
  <dc:description/>
  <dc:language>en-US</dc:language>
  <cp:lastModifiedBy>julie lagos</cp:lastModifiedBy>
  <dcterms:modified xsi:type="dcterms:W3CDTF">2004-11-10T14:54:11Z</dcterms:modified>
  <cp:revision>327</cp:revision>
  <dc:subject/>
  <dc:title>Modelo de Programación de la Producción en Tintorerí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