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CF4-D997-46BA-BAC8-E40005CF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FD4-C4DA-4969-974B-0C7059BE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F66A-9027-4A98-8BF5-63A79849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113-7217-44C4-95FB-487EEA3A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5D11-72C1-4BBE-847A-1D7B6A5D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E2CD-9B3C-4094-8C9E-110C4EB0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8638-98C9-47A5-9CC5-1BE77348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AE5B-EDAF-436D-ACF0-3AC93FF4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E583-B6DB-4DF1-9AB8-ECD86862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AEF5-0CA6-44DD-AA9D-5FC52283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7234-B4BB-4242-AD78-D1B7FF77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3D5-306F-4D3B-8DB4-78080F0D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EE1B-9D35-411B-916A-5C733A0C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50AE-F76E-4B3A-8945-AFE2AACA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87EA-22CE-42B9-947C-4132FE1C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59A6-9186-4334-A599-FDDE14F1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073E-E3CE-4340-BA13-408A762D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0E4-B5B8-4FF9-9D03-C6236BE7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9A6-678E-4ACC-B599-B3BE94BB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8F7-FBB3-4049-B28C-F3CAF030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27D-E992-46E9-B6BB-82D62F97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D5A-312D-4600-84EA-64743551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EC7-36A4-4108-B23D-6EDC6B1D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595-2F1C-4D68-9B62-1DDD719E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35F2-6CD5-47ED-B2ED-865BD82E403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ECC8-E640-4520-BB3A-E0468002696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9480" y="789120"/>
            <a:ext cx="7565040" cy="19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999900"/>
                </a:solidFill>
                <a:latin typeface="Garamond"/>
              </a:rPr>
              <a:t>Modelo de Programaci</a:t>
            </a:r>
            <a:r>
              <a:rPr b="0" lang="es-BO" sz="5300" spc="-1" strike="noStrike">
                <a:solidFill>
                  <a:srgbClr val="999900"/>
                </a:solidFill>
                <a:latin typeface="Garamond"/>
              </a:rPr>
              <a:t>ón de la Producción en Tintorería</a:t>
            </a:r>
            <a:endParaRPr b="0" lang="en-US" sz="5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Verdana"/>
              </a:rPr>
              <a:t>Caso: Fábrica Textil UNIVERSALTEX S.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77360" y="5105520"/>
            <a:ext cx="45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Alumno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bel Gonzalo Salinas Colu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Profesor Tutor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ndrés Weintr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lanificación de Inquirie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edidos en sistema con información muy general (mediano a largo plazo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Reserva de capacidades en Knitting Program. Tintorería como caja neg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reación en sistema de ordenes genéricas copiando las reservas y considerando Tintorería como máquina virt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 reportan fechas de despacho de tela y flex d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lanificación de AP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querimientos definitivos de tela por sistema y en detalle (corto a mediano plaz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emplazo de ordenes de Inqs por muchas ordenes de APs. Un Inq puede estar formado por uno o más A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emplazo Inqs por APs en Knitting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requerimiento de materiales y de algunas cargas en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servas en el Programa de Tintorería, reservando máquinas a las carg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reportan nuevas fechas de despacho de te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rogramación de AP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jecución de ordenes de acuerdo a cálculos y Programas de Tintorería y Tejedu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ubdivisión de órdenes asignándoles máquinas en Tejedur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reación de Dyelots por color o estilo, en función al cálculo de cargas o con crit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signación de material a ordenes de acuerdo a su dispon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ctualización del Programa de Tintorería con nuevos Dyelots o reemplazando cargas por Dyel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opia del Programa de Tintorería e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reportan retrasos y estado de ped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Sistemas Alternos (Hojas Electrónicas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utilizan en actividades com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lanificación y Programación de Tejeduría (Knitting Progra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lanificación y Programación de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materi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cargas de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capac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químicos y color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Determinación de fech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¿Por qué Sistemas Alternos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l sistema ERP actual carece 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dios visuales apropi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Facilidad en el cambio de prior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dentificación clara de pedidos y espacios asign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onsideración de capacidades fini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Un programa de tintorería automático, con información útil y fácil de prioriz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Herramientas para optimizar la progra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EN RESUME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l sistema ER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No es la única fuente de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No es el único medio para ingresar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sí, no puede ser aprovechado para responder rápidamente al cl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Tampoco para mejorar la puntualidad en la entrega de produc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0000"/>
                </a:solidFill>
                <a:latin typeface="Verdana"/>
              </a:rPr>
              <a:t>Aún así mantiene grandes cantidades de información útil y muy relevante, pero que no puede aprovecha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EN RESUME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Los sistemas altern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en realizar de manera eficaz las actividades de planificación y progra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Son muy dependientes de las personas que los manej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Además son alimentados en gran parte con información del sistema ERP aunque manu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No todas sus soluciones son copiadas al sistema E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an soluciones miopes y sub-óptimas a corto plazo y sin considerar todas las variables relev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0000"/>
                </a:solidFill>
                <a:latin typeface="Verdana"/>
              </a:rPr>
              <a:t>No están integrados con el sistema E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EL CASO DE TEJEDURÍ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2846520"/>
            <a:ext cx="4114800" cy="3097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87320" y="6033960"/>
            <a:ext cx="38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Visual Interactive Planning (V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53960" y="5958000"/>
            <a:ext cx="22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Knitting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dquisición del módulo VIP que eventualmente reemplazaría al Knitt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¿</a:t>
            </a: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EL CASO DE TINTORERÍA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635120"/>
            <a:ext cx="8076960" cy="3699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8088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Modelo de Programación de la Producción en Tintorer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odelo de Programación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be ser desarrollado también como sistema alt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ero integrado con el sistema 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be permitir una visualización completa de la utilización de la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Sol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eguntas o D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idea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terminar diariamente o cuando se requiera, la secuencia de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TODOS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 los Dyelots pendientes a procesarse de la manera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“más conveniente”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jet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apacidades mínima y máxima de cada máqu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cuencia de co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ioridad de acuerdo al inicio del proceso siguiente según el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ponibilidad d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ponibilidad de químicos y color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spacios dispo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jet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Visión de Aps compl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tinción entre APs planificados y progra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onsideración de Inquiries y su reserva en una máquina vir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y du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Tipo de tela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unción 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inimizar el tiempo total de retr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inimizar costos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Maximizar la utilización de la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 ADICION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s entradas del modelo propuesto serían los Dyel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carga de los Dyelots se calcula man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propuesta adicional ser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odelo para optimizar y automatizar el cálculo del tamaño de los Dyelo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OBJETIVO GENER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Brindar información completa, útil, oportuna y lo más aproximada a la realidad posible basada en soluciones óptimas y objetivas de tal modo que permita tomar decisiones de manera más rápida y cohe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OBJETIVOS ESPECÍFIC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Utilizar de manera óptima la capacidad de tint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ir decisiones acerca de la viabilidad de nuevos compromisos o adelantos de otros según se requi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ejorar la calidad de la información debiendo ser el reflejo de lo que sucede en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terminar verdaderos requerimientos de químicos y colo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otenciar el uso d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Fomentar la actualización de información en 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Lograr soluciones óptimas de manera objetiva y relativamente ráp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Automatizar los procesos de planificación y progra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EGUNTAS O DUD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743200" y="256068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Descripción de la Empresa – Ametex S.A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ompañía fundada en 1965 en la ciudad de La Paz y considerada la empresa textil más importante de Boliv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adena textil integrada verticalmente en torno a ocho pla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cesos desde el hilado hasta la costura y acabado de prendas de vestir de algod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a empleo a 2.400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Ventas anuales de 35 millones de dól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77% de las ventas corresponden a exportaciones principalmente a Estados Un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ducción de ocho millones de prendas anualmente para marcas como Polo Ralph Lauren, Polo Kids y Express princip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uenta con un sistema ERP especializado en texti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Descripción de Universaltex S.A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ábrica textil que forma parte de la compañía Amet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Aproximadamente 400 emple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principales: tejido, tintorería, secado y acab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ateria prima: hilo de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ducto terminado: variedades de tela acabada de pu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Mercado Textil y de Prendas de Vestir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ercado sofisticado que demanda innovaciones más frecuentes, mayor exclusividad, mayor variedad y mejor serv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Necesidades futuras cada vez más inciertas y sujetas a cambios más frecu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rgimiento de mercados externos y por ende liberalización comer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Misión de la Compañí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MINISTRAR A NUESTROS CLIENTES CON PRODUCTOS TEXTILES DE GRAN CALIDAD Y EN UN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TIEMPO OPORTUNO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Que se manifiesta 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cnología moderna para los equipos de produ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Laboratorio completamente equipado para el aseguramiento de la calida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Aseguramiento de la calidad en la línea, realizado por auditores certific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Entrenamiento y motiv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0000"/>
                </a:solidFill>
                <a:latin typeface="Verdana"/>
              </a:rPr>
              <a:t>Sistema de información basado en un ERP especializado en la industria textil y de confe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Cadena Textil Integrad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9460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302600" y="5334120"/>
            <a:ext cx="9795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38080" y="1676520"/>
            <a:ext cx="2645640" cy="2209680"/>
            <a:chOff x="838080" y="1676520"/>
            <a:chExt cx="2645640" cy="2209680"/>
          </a:xfrm>
        </p:grpSpPr>
        <p:sp>
          <p:nvSpPr>
            <p:cNvPr id="108" name=""/>
            <p:cNvSpPr/>
            <p:nvPr/>
          </p:nvSpPr>
          <p:spPr>
            <a:xfrm rot="16200000">
              <a:off x="914400" y="20574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cc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914400" y="25146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914400" y="34290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914400" y="29718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914400" y="16002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24520" y="1676520"/>
              <a:ext cx="199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Fibra de algo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8080" y="2133720"/>
              <a:ext cx="60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H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90320" y="25909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Te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0720" y="350532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Prendas de ves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28480" y="304812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Piezas cort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648320" y="1676520"/>
            <a:ext cx="1904760" cy="6858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895480"/>
            <a:ext cx="190476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UNIVERSAL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A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M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5334120"/>
            <a:ext cx="190512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B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4382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6576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863600">
            <a:off x="2819520" y="48769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962160" y="533376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8483000">
            <a:off x="4385880" y="474156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455200">
            <a:off x="4190760" y="3352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394400">
            <a:off x="6629400" y="3352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6705720" y="17524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876920" y="5257800"/>
            <a:ext cx="18255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Fabricación de Tel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o Cru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Enco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19051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 Hil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jedu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rcular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Rectilín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Só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y Ray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0100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Seca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ca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352680"/>
            <a:ext cx="106704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Crud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19810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spa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5812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35812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7391520" y="2209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05560" y="2895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2133720"/>
            <a:ext cx="10666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50532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HI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600" y="4597560"/>
            <a:ext cx="364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heather, cr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crudo bl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teñ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Cinta Cr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Cinta Teñ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heather, crudo y teñ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44000" y="2535480"/>
            <a:ext cx="947160" cy="816840"/>
            <a:chOff x="1044000" y="2535480"/>
            <a:chExt cx="947160" cy="816840"/>
          </a:xfrm>
        </p:grpSpPr>
        <p:sp>
          <p:nvSpPr>
            <p:cNvPr id="154" name=""/>
            <p:cNvSpPr/>
            <p:nvPr/>
          </p:nvSpPr>
          <p:spPr>
            <a:xfrm rot="19127400">
              <a:off x="1248480" y="2901240"/>
              <a:ext cx="761760" cy="228240"/>
            </a:xfrm>
            <a:prstGeom prst="rightArrow">
              <a:avLst>
                <a:gd name="adj1" fmla="val 50000"/>
                <a:gd name="adj2" fmla="val 8343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218800">
              <a:off x="1019160" y="276480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09680" y="2734560"/>
            <a:ext cx="384120" cy="549360"/>
            <a:chOff x="2209680" y="2734560"/>
            <a:chExt cx="384120" cy="549360"/>
          </a:xfrm>
        </p:grpSpPr>
        <p:sp>
          <p:nvSpPr>
            <p:cNvPr id="157" name=""/>
            <p:cNvSpPr/>
            <p:nvPr/>
          </p:nvSpPr>
          <p:spPr>
            <a:xfrm rot="16279200">
              <a:off x="2261520" y="2880000"/>
              <a:ext cx="469800" cy="183240"/>
            </a:xfrm>
            <a:prstGeom prst="rightArrow">
              <a:avLst>
                <a:gd name="adj1" fmla="val 50000"/>
                <a:gd name="adj2" fmla="val 6409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371200">
              <a:off x="2068200" y="2956680"/>
              <a:ext cx="469800" cy="183240"/>
            </a:xfrm>
            <a:prstGeom prst="rightArrow">
              <a:avLst>
                <a:gd name="adj1" fmla="val 50000"/>
                <a:gd name="adj2" fmla="val 6409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523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819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819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971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3809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3809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438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07480" y="4572000"/>
            <a:ext cx="45486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cruda (sólida, rayada o hea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cruda prepa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teñida o la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seca y acab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de color, rayada y h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Flujos de Planificación y Programació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160020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mercia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523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2666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Oper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3962520"/>
            <a:ext cx="106704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ogra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y Control T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1905120"/>
            <a:ext cx="99072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666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nf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525780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0574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9440" y="2342160"/>
            <a:ext cx="326880" cy="42120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37160" y="2418120"/>
            <a:ext cx="326880" cy="421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699000" y="2287440"/>
            <a:ext cx="374400" cy="392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42900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342900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47242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4724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46680" y="2971800"/>
            <a:ext cx="9903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312408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4267080"/>
            <a:ext cx="9903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934800" y="3367080"/>
            <a:ext cx="893520" cy="428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010760" y="3519720"/>
            <a:ext cx="893160" cy="428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5257800"/>
            <a:ext cx="1295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T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426708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47242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041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1 -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953800">
            <a:off x="4235760" y="262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10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4692960" y="3534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6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4845240" y="48297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5 -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0045400">
            <a:off x="4115160" y="3733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55924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124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1660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 -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8904800">
            <a:off x="3429360" y="2209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301644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9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267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302440" y="490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6 -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515016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045400">
            <a:off x="3886560" y="3352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2743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3134400">
            <a:off x="4616640" y="23918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4267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4 -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131240" y="490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3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342900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3134400">
            <a:off x="4845240" y="2239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18040" y="2189520"/>
            <a:ext cx="326880" cy="4212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167652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1432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545508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563868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77880" y="54100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Planificación </a:t>
            </a: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de Inq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019920"/>
            <a:ext cx="99072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64200" y="579132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Planificación</a:t>
            </a:r>
            <a:r>
              <a:rPr b="1" lang="es-BO" sz="1400" spc="-1" strike="noStrike">
                <a:solidFill>
                  <a:srgbClr val="006600"/>
                </a:solidFill>
                <a:latin typeface="Verdana"/>
              </a:rPr>
              <a:t> de 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640080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6760" y="617220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Programaci</a:t>
            </a:r>
            <a:r>
              <a:rPr b="1" lang="es-BO" sz="1400" spc="-1" strike="noStrike">
                <a:solidFill>
                  <a:srgbClr val="000066"/>
                </a:solidFill>
                <a:latin typeface="Verdana"/>
              </a:rPr>
              <a:t>ón de APs en T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50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FLUJO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029200"/>
            <a:ext cx="43434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3:12:04Z</dcterms:created>
  <dc:creator> Abel Gonzalo Salinas Columba</dc:creator>
  <dc:description/>
  <dc:language>en-US</dc:language>
  <cp:lastModifiedBy>julie lagos</cp:lastModifiedBy>
  <dcterms:modified xsi:type="dcterms:W3CDTF">2004-10-22T14:11:13Z</dcterms:modified>
  <cp:revision>137</cp:revision>
  <dc:subject/>
  <dc:title>Modelo de Programación de la Producción en Tintorerí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