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93E-A0F9-4579-A29C-DCBBBE7B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F0F-015F-4C9E-BD36-EC35FA5F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DCE-3D61-4376-B05A-1B6B5774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EC8-CFC6-47F2-9F33-42BAE300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D59A-7468-45A4-9F12-00A98021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9BC-C2A1-4207-999B-CD93679C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942-6260-4215-954A-6DDDC22C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BA64-57F9-4D88-AC3B-CED94B3E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7CA-86D8-40E7-98AB-3016E92D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DF27-3DE9-4467-903D-D9FF383C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2A5A-259F-4302-A8B2-D8E2907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860-AA89-4213-B4FE-ABBFCEE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434F-4CEC-4428-A2C9-97FDD673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9E0-284B-4F43-A37F-5A5F0350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7836-50EA-4C43-90B6-C299B892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F258-1840-48C1-86B5-7DF0AACF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185A-4920-467E-B796-F40E05C2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E0E-DAEF-4D4A-A637-78B7DE7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502-3F58-43D9-B394-91BAC578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7CD-560C-4293-A3FC-0D37E9C4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7D5-293C-4DD7-B44F-DF0B26E1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0FF-C1BB-4CED-AF3B-1BEFCF3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DAB-681F-45FC-ACDF-B8E2D3EB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68C-07A1-418F-86C7-AE4BD00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E136-CC2F-48BF-9FBF-7BE9BAB870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16B9-C352-46B5-B77F-0430AC8B8A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9.jpeg"/><Relationship Id="rId24" Type="http://schemas.openxmlformats.org/officeDocument/2006/relationships/image" Target="../media/image10.jpeg"/><Relationship Id="rId25" Type="http://schemas.openxmlformats.org/officeDocument/2006/relationships/image" Target="../media/image11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11.jpeg"/><Relationship Id="rId30" Type="http://schemas.openxmlformats.org/officeDocument/2006/relationships/image" Target="../media/image9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Sistema de Programaci</a:t>
            </a:r>
            <a:r>
              <a:rPr b="0" lang="es-BO" sz="54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66560" y="5105520"/>
            <a:ext cx="383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Guía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Guillerm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 consiste en asignar de manera “óptima” una serie de ordenes a un cierto grupo de máqu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modelo se caracteriza por medio de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 ambiente de la maqu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racterísticas y restricciones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un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todología para solucionar e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4540320"/>
            <a:ext cx="12189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238880" y="2819520"/>
            <a:ext cx="1173240" cy="63180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2685960" y="2300400"/>
            <a:ext cx="1581120" cy="3659040"/>
            <a:chOff x="2685960" y="2300400"/>
            <a:chExt cx="1581120" cy="3659040"/>
          </a:xfrm>
        </p:grpSpPr>
        <p:grpSp>
          <p:nvGrpSpPr>
            <p:cNvPr id="302" name=""/>
            <p:cNvGrpSpPr/>
            <p:nvPr/>
          </p:nvGrpSpPr>
          <p:grpSpPr>
            <a:xfrm>
              <a:off x="2943000" y="2300400"/>
              <a:ext cx="790560" cy="366480"/>
              <a:chOff x="2943000" y="2300400"/>
              <a:chExt cx="790560" cy="366480"/>
            </a:xfrm>
          </p:grpSpPr>
          <p:pic>
            <p:nvPicPr>
              <p:cNvPr id="3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3828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4300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2943000" y="2300400"/>
                <a:ext cx="790560" cy="36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19160" y="2952720"/>
              <a:ext cx="1121040" cy="1162080"/>
              <a:chOff x="2819160" y="2952720"/>
              <a:chExt cx="1121040" cy="1162080"/>
            </a:xfrm>
          </p:grpSpPr>
          <p:pic>
            <p:nvPicPr>
              <p:cNvPr id="3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12440" y="3075120"/>
                <a:ext cx="527400" cy="43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9160" y="33807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2440" y="35643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5400000">
                <a:off x="2798640" y="2973240"/>
                <a:ext cx="1162080" cy="1121040"/>
              </a:xfrm>
              <a:custGeom>
                <a:avLst/>
                <a:gdLst>
                  <a:gd name="textAreaLeft" fmla="*/ 255600 w 1162080"/>
                  <a:gd name="textAreaRight" fmla="*/ 906480 w 1162080"/>
                  <a:gd name="textAreaTop" fmla="*/ 246600 h 1121040"/>
                  <a:gd name="textAreaBottom" fmla="*/ 874440 h 112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85960" y="4456080"/>
              <a:ext cx="1581120" cy="673200"/>
              <a:chOff x="2685960" y="4456080"/>
              <a:chExt cx="1581120" cy="673200"/>
            </a:xfrm>
          </p:grpSpPr>
          <p:pic>
            <p:nvPicPr>
              <p:cNvPr id="3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68596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652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2685960" y="4456080"/>
                <a:ext cx="1581120" cy="673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152520" y="5410080"/>
              <a:ext cx="657360" cy="549360"/>
              <a:chOff x="3152520" y="5410080"/>
              <a:chExt cx="657360" cy="54936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520" y="5410080"/>
                <a:ext cx="657360" cy="54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152520" y="5410080"/>
                <a:ext cx="657360" cy="549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762120" y="2252520"/>
            <a:ext cx="1096560" cy="3614760"/>
            <a:chOff x="762120" y="2252520"/>
            <a:chExt cx="1096560" cy="3614760"/>
          </a:xfrm>
        </p:grpSpPr>
        <p:grpSp>
          <p:nvGrpSpPr>
            <p:cNvPr id="319" name=""/>
            <p:cNvGrpSpPr/>
            <p:nvPr/>
          </p:nvGrpSpPr>
          <p:grpSpPr>
            <a:xfrm>
              <a:off x="762120" y="4419720"/>
              <a:ext cx="1083960" cy="725040"/>
              <a:chOff x="762120" y="4419720"/>
              <a:chExt cx="1083960" cy="725040"/>
            </a:xfrm>
          </p:grpSpPr>
          <p:pic>
            <p:nvPicPr>
              <p:cNvPr id="32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0040" y="4809600"/>
                <a:ext cx="332280" cy="335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18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40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62120" y="4419720"/>
                <a:ext cx="32832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990720" y="2252520"/>
              <a:ext cx="836280" cy="414000"/>
              <a:chOff x="990720" y="2252520"/>
              <a:chExt cx="836280" cy="4140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90720" y="2388240"/>
                <a:ext cx="164520" cy="187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204200" y="225252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443960" y="225864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663560" y="2395080"/>
                <a:ext cx="163440" cy="18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44396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0420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1" name=""/>
            <p:cNvGrpSpPr/>
            <p:nvPr/>
          </p:nvGrpSpPr>
          <p:grpSpPr>
            <a:xfrm>
              <a:off x="838440" y="3257640"/>
              <a:ext cx="1018800" cy="497880"/>
              <a:chOff x="838440" y="3257640"/>
              <a:chExt cx="1018800" cy="4978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38000" y="3528720"/>
                <a:ext cx="21924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374480" y="325764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38440" y="3392640"/>
                <a:ext cx="218160" cy="226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31160" y="3257640"/>
                <a:ext cx="2170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374480" y="352872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110240" y="352872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110240" y="325764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9" name=""/>
            <p:cNvGrpSpPr/>
            <p:nvPr/>
          </p:nvGrpSpPr>
          <p:grpSpPr>
            <a:xfrm>
              <a:off x="990720" y="5595840"/>
              <a:ext cx="867960" cy="271440"/>
              <a:chOff x="990720" y="5595840"/>
              <a:chExt cx="867960" cy="271440"/>
            </a:xfrm>
          </p:grpSpPr>
          <p:pic>
            <p:nvPicPr>
              <p:cNvPr id="34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59480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907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2931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343" name=""/>
          <p:cNvGrpSpPr/>
          <p:nvPr/>
        </p:nvGrpSpPr>
        <p:grpSpPr>
          <a:xfrm>
            <a:off x="2133720" y="2405160"/>
            <a:ext cx="304560" cy="3386160"/>
            <a:chOff x="2133720" y="2405160"/>
            <a:chExt cx="304560" cy="3386160"/>
          </a:xfrm>
        </p:grpSpPr>
        <p:sp>
          <p:nvSpPr>
            <p:cNvPr id="344" name=""/>
            <p:cNvSpPr/>
            <p:nvPr/>
          </p:nvSpPr>
          <p:spPr>
            <a:xfrm>
              <a:off x="2133720" y="240516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340992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3720" y="47242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56386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09480" y="2133720"/>
            <a:ext cx="1371600" cy="4343400"/>
            <a:chOff x="609480" y="2133720"/>
            <a:chExt cx="1371600" cy="4343400"/>
          </a:xfrm>
        </p:grpSpPr>
        <p:sp>
          <p:nvSpPr>
            <p:cNvPr id="349" name=""/>
            <p:cNvSpPr/>
            <p:nvPr/>
          </p:nvSpPr>
          <p:spPr>
            <a:xfrm>
              <a:off x="609480" y="2133720"/>
              <a:ext cx="137160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6095880"/>
              <a:ext cx="137160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514600" y="2133720"/>
            <a:ext cx="1905120" cy="4343400"/>
            <a:chOff x="2514600" y="2133720"/>
            <a:chExt cx="1905120" cy="4343400"/>
          </a:xfrm>
        </p:grpSpPr>
        <p:sp>
          <p:nvSpPr>
            <p:cNvPr id="352" name=""/>
            <p:cNvSpPr/>
            <p:nvPr/>
          </p:nvSpPr>
          <p:spPr>
            <a:xfrm>
              <a:off x="2514600" y="2133720"/>
              <a:ext cx="190512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4600" y="6095880"/>
              <a:ext cx="190512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ÁQUIN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TEÑIDO Y LAV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105520" y="2286000"/>
            <a:ext cx="1216080" cy="1577520"/>
            <a:chOff x="5105520" y="2286000"/>
            <a:chExt cx="1216080" cy="1577520"/>
          </a:xfrm>
        </p:grpSpPr>
        <p:pic>
          <p:nvPicPr>
            <p:cNvPr id="355" name="" descr=""/>
            <p:cNvPicPr/>
            <p:nvPr/>
          </p:nvPicPr>
          <p:blipFill>
            <a:blip r:embed="rId31"/>
            <a:stretch/>
          </p:blipFill>
          <p:spPr>
            <a:xfrm>
              <a:off x="5105520" y="3124080"/>
              <a:ext cx="121608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2"/>
            <a:stretch/>
          </p:blipFill>
          <p:spPr>
            <a:xfrm>
              <a:off x="5105520" y="2286000"/>
              <a:ext cx="1216080" cy="73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952880" y="2133720"/>
            <a:ext cx="1524240" cy="2209680"/>
            <a:chOff x="4952880" y="2133720"/>
            <a:chExt cx="1524240" cy="2209680"/>
          </a:xfrm>
        </p:grpSpPr>
        <p:sp>
          <p:nvSpPr>
            <p:cNvPr id="358" name=""/>
            <p:cNvSpPr/>
            <p:nvPr/>
          </p:nvSpPr>
          <p:spPr>
            <a:xfrm>
              <a:off x="4952880" y="2133720"/>
              <a:ext cx="1524240" cy="18288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2880" y="396252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ID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XTRACTO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952880" y="4419720"/>
            <a:ext cx="1524240" cy="1294920"/>
            <a:chOff x="4952880" y="4419720"/>
            <a:chExt cx="1524240" cy="1294920"/>
          </a:xfrm>
        </p:grpSpPr>
        <p:sp>
          <p:nvSpPr>
            <p:cNvPr id="361" name=""/>
            <p:cNvSpPr/>
            <p:nvPr/>
          </p:nvSpPr>
          <p:spPr>
            <a:xfrm>
              <a:off x="4952880" y="4419720"/>
              <a:ext cx="1524240" cy="9140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52880" y="533376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MPACT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086600" y="2666880"/>
            <a:ext cx="1523880" cy="1295640"/>
            <a:chOff x="7086600" y="2666880"/>
            <a:chExt cx="1523880" cy="1295640"/>
          </a:xfrm>
        </p:grpSpPr>
        <p:sp>
          <p:nvSpPr>
            <p:cNvPr id="364" name=""/>
            <p:cNvSpPr/>
            <p:nvPr/>
          </p:nvSpPr>
          <p:spPr>
            <a:xfrm>
              <a:off x="7086600" y="2666880"/>
              <a:ext cx="1523880" cy="9144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86600" y="3581280"/>
              <a:ext cx="152388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EC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10280" y="4724280"/>
            <a:ext cx="1752480" cy="1311120"/>
            <a:chOff x="7010280" y="4724280"/>
            <a:chExt cx="1752480" cy="1311120"/>
          </a:xfrm>
        </p:grpSpPr>
        <p:pic>
          <p:nvPicPr>
            <p:cNvPr id="367" name="" descr=""/>
            <p:cNvPicPr/>
            <p:nvPr/>
          </p:nvPicPr>
          <p:blipFill>
            <a:blip r:embed="rId33"/>
            <a:stretch/>
          </p:blipFill>
          <p:spPr>
            <a:xfrm>
              <a:off x="7010280" y="4724280"/>
              <a:ext cx="175248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34"/>
            <a:stretch/>
          </p:blipFill>
          <p:spPr>
            <a:xfrm>
              <a:off x="7314840" y="5486400"/>
              <a:ext cx="114300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6934320" y="4724280"/>
            <a:ext cx="1904760" cy="1752840"/>
            <a:chOff x="6934320" y="4724280"/>
            <a:chExt cx="1904760" cy="1752840"/>
          </a:xfrm>
        </p:grpSpPr>
        <p:sp>
          <p:nvSpPr>
            <p:cNvPr id="370" name=""/>
            <p:cNvSpPr/>
            <p:nvPr/>
          </p:nvSpPr>
          <p:spPr>
            <a:xfrm>
              <a:off x="6934320" y="4724280"/>
              <a:ext cx="1904760" cy="13716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34320" y="6095880"/>
              <a:ext cx="190476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5720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048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474960" y="3048120"/>
            <a:ext cx="622800" cy="1774440"/>
            <a:chOff x="6474960" y="3048120"/>
            <a:chExt cx="622800" cy="1774440"/>
          </a:xfrm>
        </p:grpSpPr>
        <p:sp>
          <p:nvSpPr>
            <p:cNvPr id="375" name=""/>
            <p:cNvSpPr/>
            <p:nvPr/>
          </p:nvSpPr>
          <p:spPr>
            <a:xfrm>
              <a:off x="6629400" y="3048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18177000">
              <a:off x="6331320" y="4323240"/>
              <a:ext cx="909720" cy="152280"/>
            </a:xfrm>
            <a:prstGeom prst="rightArrow">
              <a:avLst>
                <a:gd name="adj1" fmla="val 50000"/>
                <a:gd name="adj2" fmla="val 14935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rot="5400000">
            <a:off x="7581240" y="43052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29200" y="5790960"/>
            <a:ext cx="1371600" cy="609840"/>
            <a:chOff x="5029200" y="5790960"/>
            <a:chExt cx="1371600" cy="609840"/>
          </a:xfrm>
        </p:grpSpPr>
        <p:sp>
          <p:nvSpPr>
            <p:cNvPr id="379" name=""/>
            <p:cNvSpPr/>
            <p:nvPr/>
          </p:nvSpPr>
          <p:spPr>
            <a:xfrm>
              <a:off x="5029200" y="6096240"/>
              <a:ext cx="1371600" cy="30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Químicos </a:t>
              </a:r>
              <a:r>
                <a:rPr b="1" lang="es-BO" sz="1600" spc="-1" strike="noStrike">
                  <a:solidFill>
                    <a:srgbClr val="000000"/>
                  </a:solidFill>
                  <a:latin typeface="Verdana"/>
                </a:rPr>
                <a:t>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029200" y="5790960"/>
              <a:ext cx="1371600" cy="305280"/>
              <a:chOff x="5029200" y="5790960"/>
              <a:chExt cx="1371600" cy="30528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5029200" y="5790960"/>
                <a:ext cx="1371240" cy="305280"/>
                <a:chOff x="5029200" y="5790960"/>
                <a:chExt cx="1371240" cy="305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29200" y="579132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0800000">
                  <a:off x="5923440" y="579096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46440" y="5791320"/>
                  <a:ext cx="477000" cy="30492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029200" y="5791320"/>
                <a:ext cx="1371600" cy="304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200" spc="-1" strike="noStrike">
                    <a:solidFill>
                      <a:srgbClr val="000000"/>
                    </a:solidFill>
                    <a:latin typeface="Verdana"/>
                  </a:rPr>
                  <a:t>Colorantes </a:t>
                </a:r>
                <a:r>
                  <a:rPr b="1" lang="es-BO" sz="1600" spc="-1" strike="noStrike">
                    <a:solidFill>
                      <a:srgbClr val="000000"/>
                    </a:solidFill>
                    <a:latin typeface="Verdana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1640" y="5866920"/>
            <a:ext cx="2286360" cy="457560"/>
            <a:chOff x="4571640" y="5866920"/>
            <a:chExt cx="2286360" cy="457560"/>
          </a:xfrm>
        </p:grpSpPr>
        <p:sp>
          <p:nvSpPr>
            <p:cNvPr id="387" name=""/>
            <p:cNvSpPr/>
            <p:nvPr/>
          </p:nvSpPr>
          <p:spPr>
            <a:xfrm>
              <a:off x="655308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571640" y="58669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0800000">
              <a:off x="457164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17680" y="1479600"/>
            <a:ext cx="83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MAQUINARIA Y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función objetivo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l porcentaje o número de envíos punt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retraso promedio de las ordenes, pudiendo usarse ponderadores o minimización del máximo retraso (del peor ca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 la utilización de la maqu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tiempo de finalización de la última orden (se maximiza la produc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 la suma de tiempos de finalización de todas las ordenes, es decir, del tiempo de flujo (se minimiza el inventario en proces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metodologías más emplead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glas simples de prior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ción Matemática, que incluye enfoques de programación dinámica y branch and bound (R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Técnicas algorítmicas que buscan mas que nada soluciones robustas (combinación de heurísticas y reglas simples de prioriz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Búsqueda dirigida por restricciones, donde se buscan soluciones factibles que cumplan todas las reglas (Constraint Programming y Programación). Está alineada con 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iseño del Sist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tá compuesto básicamente por tres subsis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ministración de Base de Datos: donde se deben manejar datos de la planta y del trabajo mismo (interacción con E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: que incluye los módulos de generación, edición y análisis de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fase del usuario, por ejemplo gráficos Gan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tener programas completos, útiles, realistas y de manera oportuna basados en soluciones “óptimas” y objetivas de tal modo que sirvan como base para la proyección de la producción de ordenes en Tintorería en el corto, mediano y larg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sarrollar de manera más eficiente los procesos de planificación y programación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flexibilidad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Obtener programas óptimos o con soluciones robust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GRAMACIÓN DE ACTIVIDADE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Gráfico Gant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NOV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DIC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ENE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FEB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B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725280" y="4952880"/>
            <a:ext cx="6858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00200" y="1981080"/>
            <a:ext cx="6858000" cy="2819520"/>
            <a:chOff x="1600200" y="1981080"/>
            <a:chExt cx="6858000" cy="2819520"/>
          </a:xfrm>
        </p:grpSpPr>
        <p:sp>
          <p:nvSpPr>
            <p:cNvPr id="410" name=""/>
            <p:cNvSpPr/>
            <p:nvPr/>
          </p:nvSpPr>
          <p:spPr>
            <a:xfrm>
              <a:off x="1600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1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57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43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29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00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86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72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600200" y="2286000"/>
            <a:ext cx="4800600" cy="457200"/>
          </a:xfrm>
          <a:prstGeom prst="rect">
            <a:avLst/>
          </a:prstGeom>
          <a:gradFill rotWithShape="0">
            <a:gsLst>
              <a:gs pos="0">
                <a:srgbClr val="a0c9c9"/>
              </a:gs>
              <a:gs pos="50000">
                <a:srgbClr val="ccffff"/>
              </a:gs>
              <a:gs pos="100000">
                <a:srgbClr val="a0c9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Revisión Bibli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Y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N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L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772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GO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90920" y="2895480"/>
            <a:ext cx="1904760" cy="457200"/>
          </a:xfrm>
          <a:prstGeom prst="rect">
            <a:avLst/>
          </a:prstGeom>
          <a:gradFill rotWithShape="0">
            <a:gsLst>
              <a:gs pos="0">
                <a:srgbClr val="c9c950"/>
              </a:gs>
              <a:gs pos="50000">
                <a:srgbClr val="ffff66"/>
              </a:gs>
              <a:gs pos="100000">
                <a:srgbClr val="c9c9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rabajo de Ca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505320"/>
            <a:ext cx="3048120" cy="457200"/>
          </a:xfrm>
          <a:prstGeom prst="rect">
            <a:avLst/>
          </a:prstGeom>
          <a:gradFill rotWithShape="0">
            <a:gsLst>
              <a:gs pos="0">
                <a:srgbClr val="a0c9a0"/>
              </a:gs>
              <a:gs pos="50000">
                <a:srgbClr val="ccffcc"/>
              </a:gs>
              <a:gs pos="100000">
                <a:srgbClr val="a0c9a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Formulación y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 la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4114800"/>
            <a:ext cx="2361960" cy="457200"/>
          </a:xfrm>
          <a:prstGeom prst="rect">
            <a:avLst/>
          </a:prstGeom>
          <a:gradFill rotWithShape="0">
            <a:gsLst>
              <a:gs pos="0">
                <a:srgbClr val="e2b487"/>
              </a:gs>
              <a:gs pos="50000">
                <a:srgbClr val="ffcc99"/>
              </a:gs>
              <a:gs pos="100000">
                <a:srgbClr val="e2b4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066680" y="1981080"/>
            <a:ext cx="457200" cy="281952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216360" y="3364560"/>
            <a:ext cx="218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4838760" y="1866600"/>
            <a:ext cx="380880" cy="685800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Verdana"/>
              </a:rPr>
              <a:t>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FERENCIAS BIBLIOGRÁFICA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. Pinedo, R. Samroengraja and B. Yen, “Design Issues with Regard to Scheduling Systems in Manufactur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Columbia University, New York, New York 10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J. Rickel, “Issues in the Design of Scheduling Systems”, in “Expert Systems and Intelligent Manufacturing”, (M.D. Oliff, ed.)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Elsevier Science Publishing Co.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K.R. Baker, “Introduction to Sequencing and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John Wile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&amp; Sons, New York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1980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.W. Conway, W.L. Maxwell and L.W. Miller, “Theory of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Addison-Wesley Publishing Co., Reading, MA., 1967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141720" y="2228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513320" y="21528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513320" y="27622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343400" y="3371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4114800" y="45910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4114800" y="3981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4114800" y="54291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8"/>
          <a:stretch/>
        </p:blipFill>
        <p:spPr>
          <a:xfrm>
            <a:off x="3200400" y="2838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9"/>
          <a:stretch/>
        </p:blipFill>
        <p:spPr>
          <a:xfrm>
            <a:off x="3827520" y="20574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olución Propue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 y con procesos que van desde el hilado hasta la costura y acabado de prendas de vestir de algod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2.400 empl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ceso de Fabricación de Tela -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981080"/>
            <a:ext cx="1066680" cy="762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5909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8305560" y="21333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8305560" y="35049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152388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73400">
            <a:off x="1371240" y="396216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00" y="5032440"/>
            <a:ext cx="313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crudo bl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Cr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Teñ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91000" y="2584800"/>
            <a:ext cx="948240" cy="817200"/>
            <a:chOff x="891000" y="2584800"/>
            <a:chExt cx="948240" cy="817200"/>
          </a:xfrm>
        </p:grpSpPr>
        <p:sp>
          <p:nvSpPr>
            <p:cNvPr id="119" name=""/>
            <p:cNvSpPr/>
            <p:nvPr/>
          </p:nvSpPr>
          <p:spPr>
            <a:xfrm rot="19127400">
              <a:off x="1096560" y="295056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218800">
              <a:off x="866160" y="28137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77120" y="2817000"/>
            <a:ext cx="471600" cy="1069200"/>
            <a:chOff x="1977120" y="2817000"/>
            <a:chExt cx="471600" cy="1069200"/>
          </a:xfrm>
        </p:grpSpPr>
        <p:sp>
          <p:nvSpPr>
            <p:cNvPr id="122" name=""/>
            <p:cNvSpPr/>
            <p:nvPr/>
          </p:nvSpPr>
          <p:spPr>
            <a:xfrm rot="16279200">
              <a:off x="1865880" y="3167280"/>
              <a:ext cx="920160" cy="223920"/>
            </a:xfrm>
            <a:prstGeom prst="rightArrow">
              <a:avLst>
                <a:gd name="adj1" fmla="val 50000"/>
                <a:gd name="adj2" fmla="val 1027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371200">
              <a:off x="1632600" y="3313800"/>
              <a:ext cx="919440" cy="223200"/>
            </a:xfrm>
            <a:prstGeom prst="rightArrow">
              <a:avLst>
                <a:gd name="adj1" fmla="val 50000"/>
                <a:gd name="adj2" fmla="val 10298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447920" y="37339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124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124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590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048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3581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8240" y="5006880"/>
            <a:ext cx="3891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cruda prepa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teñida o la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Verdana"/>
              </a:rPr>
              <a:t>Tela seca y acab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24080" y="1523880"/>
            <a:ext cx="4496040" cy="2286000"/>
            <a:chOff x="3124080" y="1523880"/>
            <a:chExt cx="4496040" cy="22860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248520" y="2362320"/>
              <a:ext cx="12189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rcRect l="0" t="0" r="50533" b="0"/>
            <a:stretch/>
          </p:blipFill>
          <p:spPr>
            <a:xfrm>
              <a:off x="3124080" y="2743200"/>
              <a:ext cx="144792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800600" y="2286000"/>
              <a:ext cx="114300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5105520" y="1523880"/>
              <a:ext cx="198108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24080" y="2666880"/>
              <a:ext cx="1524240" cy="1143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5680" y="1523880"/>
              <a:ext cx="3124440" cy="1981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89200" y="2432880"/>
            <a:ext cx="5331960" cy="1627920"/>
            <a:chOff x="2689200" y="2432880"/>
            <a:chExt cx="5331960" cy="1627920"/>
          </a:xfrm>
        </p:grpSpPr>
        <p:sp>
          <p:nvSpPr>
            <p:cNvPr id="144" name=""/>
            <p:cNvSpPr/>
            <p:nvPr/>
          </p:nvSpPr>
          <p:spPr>
            <a:xfrm rot="20218800">
              <a:off x="6324480" y="3581280"/>
              <a:ext cx="304920" cy="381240"/>
            </a:xfrm>
            <a:prstGeom prst="upArrow">
              <a:avLst>
                <a:gd name="adj1" fmla="val 50000"/>
                <a:gd name="adj2" fmla="val 31257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422600">
              <a:off x="7475040" y="31446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437000">
              <a:off x="2843280" y="244152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4382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lanificación y Programación en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905120"/>
            <a:ext cx="380520" cy="75960"/>
            <a:chOff x="3429000" y="1905120"/>
            <a:chExt cx="380520" cy="75960"/>
          </a:xfrm>
        </p:grpSpPr>
        <p:sp>
          <p:nvSpPr>
            <p:cNvPr id="155" name=""/>
            <p:cNvSpPr/>
            <p:nvPr/>
          </p:nvSpPr>
          <p:spPr>
            <a:xfrm>
              <a:off x="342900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3356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480" y="24382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1240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724280"/>
            <a:ext cx="457200" cy="609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91320" y="1905120"/>
            <a:ext cx="380520" cy="75960"/>
            <a:chOff x="5791320" y="1905120"/>
            <a:chExt cx="380520" cy="75960"/>
          </a:xfrm>
        </p:grpSpPr>
        <p:sp>
          <p:nvSpPr>
            <p:cNvPr id="164" name=""/>
            <p:cNvSpPr/>
            <p:nvPr/>
          </p:nvSpPr>
          <p:spPr>
            <a:xfrm>
              <a:off x="579132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4360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5238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1240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8098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4724280"/>
            <a:ext cx="7467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752480"/>
            <a:ext cx="9144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áq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75248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438280"/>
            <a:ext cx="1524240" cy="16322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4070520"/>
            <a:ext cx="1752840" cy="83808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2585880"/>
            <a:ext cx="1609560" cy="2246400"/>
            <a:chOff x="1590840" y="2585880"/>
            <a:chExt cx="1609560" cy="2246400"/>
          </a:xfrm>
        </p:grpSpPr>
        <p:sp>
          <p:nvSpPr>
            <p:cNvPr id="199" name=""/>
            <p:cNvSpPr/>
            <p:nvPr/>
          </p:nvSpPr>
          <p:spPr>
            <a:xfrm>
              <a:off x="1590840" y="2585880"/>
              <a:ext cx="463320" cy="1336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4160" y="2585880"/>
              <a:ext cx="463680" cy="1336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17840" y="2585880"/>
              <a:ext cx="463320" cy="13366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4146480"/>
              <a:ext cx="762120" cy="685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4146480"/>
              <a:ext cx="838080" cy="6858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447920" y="5028840"/>
            <a:ext cx="1981080" cy="1086120"/>
            <a:chOff x="1447920" y="5028840"/>
            <a:chExt cx="1981080" cy="1086120"/>
          </a:xfrm>
        </p:grpSpPr>
        <p:sp>
          <p:nvSpPr>
            <p:cNvPr id="205" name=""/>
            <p:cNvSpPr/>
            <p:nvPr/>
          </p:nvSpPr>
          <p:spPr>
            <a:xfrm>
              <a:off x="1911600" y="574668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quir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0574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553080" y="2438280"/>
            <a:ext cx="1905120" cy="2895840"/>
            <a:chOff x="6553080" y="2438280"/>
            <a:chExt cx="1905120" cy="2895840"/>
          </a:xfrm>
        </p:grpSpPr>
        <p:sp>
          <p:nvSpPr>
            <p:cNvPr id="208" name=""/>
            <p:cNvSpPr/>
            <p:nvPr/>
          </p:nvSpPr>
          <p:spPr>
            <a:xfrm>
              <a:off x="65530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88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629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0280" y="38098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9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724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152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74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343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960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24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059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724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553080" y="4267080"/>
            <a:ext cx="1828800" cy="1067040"/>
            <a:chOff x="6553080" y="4267080"/>
            <a:chExt cx="1828800" cy="1067040"/>
          </a:xfrm>
        </p:grpSpPr>
        <p:sp>
          <p:nvSpPr>
            <p:cNvPr id="232" name=""/>
            <p:cNvSpPr/>
            <p:nvPr/>
          </p:nvSpPr>
          <p:spPr>
            <a:xfrm>
              <a:off x="670572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34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6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77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77120" y="5028840"/>
            <a:ext cx="1981080" cy="1328760"/>
            <a:chOff x="6477120" y="5028840"/>
            <a:chExt cx="1981080" cy="1328760"/>
          </a:xfrm>
        </p:grpSpPr>
        <p:sp>
          <p:nvSpPr>
            <p:cNvPr id="240" name=""/>
            <p:cNvSpPr/>
            <p:nvPr/>
          </p:nvSpPr>
          <p:spPr>
            <a:xfrm>
              <a:off x="6652800" y="5715000"/>
              <a:ext cx="164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70866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086600" y="2438280"/>
            <a:ext cx="990720" cy="2286000"/>
            <a:chOff x="7086600" y="2438280"/>
            <a:chExt cx="990720" cy="2286000"/>
          </a:xfrm>
        </p:grpSpPr>
        <p:sp>
          <p:nvSpPr>
            <p:cNvPr id="243" name=""/>
            <p:cNvSpPr/>
            <p:nvPr/>
          </p:nvSpPr>
          <p:spPr>
            <a:xfrm>
              <a:off x="70866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46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267080" y="3809880"/>
            <a:ext cx="1371600" cy="1524240"/>
            <a:chOff x="4267080" y="3809880"/>
            <a:chExt cx="1371600" cy="1524240"/>
          </a:xfrm>
        </p:grpSpPr>
        <p:sp>
          <p:nvSpPr>
            <p:cNvPr id="247" name=""/>
            <p:cNvSpPr/>
            <p:nvPr/>
          </p:nvSpPr>
          <p:spPr>
            <a:xfrm>
              <a:off x="4267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9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55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78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69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41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86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191120" y="2438280"/>
            <a:ext cx="1143000" cy="2895840"/>
            <a:chOff x="4191120" y="2438280"/>
            <a:chExt cx="1143000" cy="2895840"/>
          </a:xfrm>
        </p:grpSpPr>
        <p:sp>
          <p:nvSpPr>
            <p:cNvPr id="258" name=""/>
            <p:cNvSpPr/>
            <p:nvPr/>
          </p:nvSpPr>
          <p:spPr>
            <a:xfrm>
              <a:off x="45720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91120" y="2438280"/>
              <a:ext cx="1143000" cy="2286000"/>
              <a:chOff x="4191120" y="2438280"/>
              <a:chExt cx="1143000" cy="22860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911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434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911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1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956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434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56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832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434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006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528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242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956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06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28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956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06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528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055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769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292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814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055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83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3809880" y="5028840"/>
            <a:ext cx="1981440" cy="1328760"/>
            <a:chOff x="3809880" y="5028840"/>
            <a:chExt cx="1981440" cy="1328760"/>
          </a:xfrm>
        </p:grpSpPr>
        <p:sp>
          <p:nvSpPr>
            <p:cNvPr id="287" name=""/>
            <p:cNvSpPr/>
            <p:nvPr/>
          </p:nvSpPr>
          <p:spPr>
            <a:xfrm>
              <a:off x="4067640" y="5715000"/>
              <a:ext cx="14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lanifi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4419360" y="4419000"/>
              <a:ext cx="762120" cy="198144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410080" y="2438280"/>
            <a:ext cx="152640" cy="6858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BL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e puede resumir en los siguientes asp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cursos de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Dos sistemas mantenidos en forma paralela, uno en hojas electrónicas y el sistema ER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dios visuales defici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 información que existe no se aprovecha del todo o directamente no se cuenta con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Se ajustan más al corto plazo, mientras que para el mediano y largo plazo no son confiables o no se consideran, incurriéndose así en sub-óptimos o soluciones miop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Sistema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ara ello se deben defin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odelo de Programación de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querimientos Funcionale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determina desde el punto de vista del programador la inclusión de tarea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colección y análisis de información acerca de las ordenes a programarse y de las capacidades operacionales de la p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 total o parcial de las ordenes, la evaluación de los programas y su ed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acción con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1-10T14:54:11Z</dcterms:modified>
  <cp:revision>32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