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E59A-A08A-4BCF-82B5-7672713D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1375-B46C-45AE-956B-3B69C817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F637-712B-46BC-916F-6E0A91D7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B16E-6154-4965-A04A-B0D38414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8A82-1B6A-4A53-BA46-C41453CB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DD56-A194-40D5-A533-788825BD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2DCC-125A-4C29-BF25-E0300913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BA4C-4E0D-4B97-8EB3-2A4426C8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CCC1-EB82-4802-AAB3-F1F79E13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9612-DA80-46CB-A3E9-B1D32783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A73E-46BC-492C-8512-CA2E70D2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B25-7579-4B30-ABD3-565B8F2A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B88A-C387-45C5-BA98-EE4BE168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FAB5-8AEF-44E2-A1E5-C78D6D3E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54FE-5454-4A58-9699-33E0C090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0881-715B-414C-945C-4A8838E3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9731-B3DC-47B7-AB53-0D574270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77E-5F0B-4E53-8746-4DFF5B6B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3C7-1877-4AC2-A410-3C14B013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38F7-B30F-4B46-A33F-5BAFD984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48F1-773E-4761-8B90-754356DC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B185-EA44-421A-89D9-F05D65D8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AF4-70C1-4AD6-8A36-C6542628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7E30-ECF3-4029-87C2-1E231301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C4D0-120B-4D4E-92AD-53B3A49B7CE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1A0D-0317-4688-AA79-B7F0B1A3FDE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0.jpeg"/><Relationship Id="rId21" Type="http://schemas.openxmlformats.org/officeDocument/2006/relationships/image" Target="../media/image10.jpeg"/><Relationship Id="rId22" Type="http://schemas.openxmlformats.org/officeDocument/2006/relationships/image" Target="../media/image11.jpeg"/><Relationship Id="rId23" Type="http://schemas.openxmlformats.org/officeDocument/2006/relationships/image" Target="../media/image9.jpeg"/><Relationship Id="rId24" Type="http://schemas.openxmlformats.org/officeDocument/2006/relationships/image" Target="../media/image10.jpeg"/><Relationship Id="rId25" Type="http://schemas.openxmlformats.org/officeDocument/2006/relationships/image" Target="../media/image11.jpeg"/><Relationship Id="rId26" Type="http://schemas.openxmlformats.org/officeDocument/2006/relationships/image" Target="../media/image9.jpeg"/><Relationship Id="rId27" Type="http://schemas.openxmlformats.org/officeDocument/2006/relationships/image" Target="../media/image9.jpeg"/><Relationship Id="rId28" Type="http://schemas.openxmlformats.org/officeDocument/2006/relationships/image" Target="../media/image9.jpeg"/><Relationship Id="rId29" Type="http://schemas.openxmlformats.org/officeDocument/2006/relationships/image" Target="../media/image11.jpeg"/><Relationship Id="rId30" Type="http://schemas.openxmlformats.org/officeDocument/2006/relationships/image" Target="../media/image9.jpeg"/><Relationship Id="rId31" Type="http://schemas.openxmlformats.org/officeDocument/2006/relationships/image" Target="../media/image12.jpeg"/><Relationship Id="rId32" Type="http://schemas.openxmlformats.org/officeDocument/2006/relationships/image" Target="../media/image12.jpe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89480" y="789120"/>
            <a:ext cx="7565040" cy="19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00"/>
                </a:solidFill>
                <a:latin typeface="Garamond"/>
              </a:rPr>
              <a:t>Sistema de Programaci</a:t>
            </a:r>
            <a:r>
              <a:rPr b="0" lang="es-BO" sz="5400" spc="-1" strike="noStrike">
                <a:solidFill>
                  <a:srgbClr val="999900"/>
                </a:solidFill>
                <a:latin typeface="Garamond"/>
              </a:rPr>
              <a:t>ón de la Producción en Tintorería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8600" y="327024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000" spc="-1" strike="noStrike">
                <a:solidFill>
                  <a:srgbClr val="000000"/>
                </a:solidFill>
                <a:latin typeface="Verdana"/>
              </a:rPr>
              <a:t>Caso: Fábrica Textil UNIVERSALTEX S.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4648320"/>
            <a:ext cx="1828800" cy="1096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066560" y="5105520"/>
            <a:ext cx="383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Alumno: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Abel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Profesor Guía: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Guillermo Du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Modelo de Programación de la Producció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l problema consiste en asignar de manera “óptima” una serie de ordenes a un cierto grupo de máqui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l modelo se caracteriza por medio de los siguientes asp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Medio ambiente de la maqu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aracterísticas y restricciones del 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Función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Metodología para solucionar el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Modelo de Programación de la Producció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105520" y="4540320"/>
            <a:ext cx="1218960" cy="7938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7238880" y="2819520"/>
            <a:ext cx="1173240" cy="631800"/>
          </a:xfrm>
          <a:prstGeom prst="rect">
            <a:avLst/>
          </a:prstGeom>
          <a:ln w="0">
            <a:noFill/>
          </a:ln>
        </p:spPr>
      </p:pic>
      <p:grpSp>
        <p:nvGrpSpPr>
          <p:cNvPr id="301" name=""/>
          <p:cNvGrpSpPr/>
          <p:nvPr/>
        </p:nvGrpSpPr>
        <p:grpSpPr>
          <a:xfrm>
            <a:off x="2685960" y="2300400"/>
            <a:ext cx="1581120" cy="3659040"/>
            <a:chOff x="2685960" y="2300400"/>
            <a:chExt cx="1581120" cy="3659040"/>
          </a:xfrm>
        </p:grpSpPr>
        <p:grpSp>
          <p:nvGrpSpPr>
            <p:cNvPr id="302" name=""/>
            <p:cNvGrpSpPr/>
            <p:nvPr/>
          </p:nvGrpSpPr>
          <p:grpSpPr>
            <a:xfrm>
              <a:off x="2943000" y="2300400"/>
              <a:ext cx="790560" cy="366480"/>
              <a:chOff x="2943000" y="2300400"/>
              <a:chExt cx="790560" cy="366480"/>
            </a:xfrm>
          </p:grpSpPr>
          <p:pic>
            <p:nvPicPr>
              <p:cNvPr id="3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38280" y="2338560"/>
                <a:ext cx="395280" cy="32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943000" y="2338560"/>
                <a:ext cx="395280" cy="32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>
                <a:off x="2943000" y="2300400"/>
                <a:ext cx="790560" cy="366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819160" y="2952720"/>
              <a:ext cx="1121040" cy="1162080"/>
              <a:chOff x="2819160" y="2952720"/>
              <a:chExt cx="1121040" cy="1162080"/>
            </a:xfrm>
          </p:grpSpPr>
          <p:pic>
            <p:nvPicPr>
              <p:cNvPr id="30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412440" y="3075120"/>
                <a:ext cx="527400" cy="43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819160" y="3380760"/>
                <a:ext cx="527400" cy="43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412440" y="3564360"/>
                <a:ext cx="527400" cy="43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5400000">
                <a:off x="2798640" y="2973240"/>
                <a:ext cx="1162080" cy="1121040"/>
              </a:xfrm>
              <a:custGeom>
                <a:avLst/>
                <a:gdLst>
                  <a:gd name="textAreaLeft" fmla="*/ 255600 w 1162080"/>
                  <a:gd name="textAreaRight" fmla="*/ 906480 w 1162080"/>
                  <a:gd name="textAreaTop" fmla="*/ 246600 h 1121040"/>
                  <a:gd name="textAreaBottom" fmla="*/ 874440 h 1121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685960" y="4456080"/>
              <a:ext cx="1581120" cy="673200"/>
              <a:chOff x="2685960" y="4456080"/>
              <a:chExt cx="1581120" cy="673200"/>
            </a:xfrm>
          </p:grpSpPr>
          <p:pic>
            <p:nvPicPr>
              <p:cNvPr id="31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685960" y="4456080"/>
                <a:ext cx="790560" cy="65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476520" y="4456080"/>
                <a:ext cx="790560" cy="6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2685960" y="4456080"/>
                <a:ext cx="1581120" cy="6732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3152520" y="5410080"/>
              <a:ext cx="657360" cy="549360"/>
              <a:chOff x="3152520" y="5410080"/>
              <a:chExt cx="657360" cy="549360"/>
            </a:xfrm>
          </p:grpSpPr>
          <p:pic>
            <p:nvPicPr>
              <p:cNvPr id="31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52520" y="5410080"/>
                <a:ext cx="657360" cy="54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3152520" y="5410080"/>
                <a:ext cx="657360" cy="5493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762120" y="2252520"/>
            <a:ext cx="1096560" cy="3614760"/>
            <a:chOff x="762120" y="2252520"/>
            <a:chExt cx="1096560" cy="3614760"/>
          </a:xfrm>
        </p:grpSpPr>
        <p:grpSp>
          <p:nvGrpSpPr>
            <p:cNvPr id="319" name=""/>
            <p:cNvGrpSpPr/>
            <p:nvPr/>
          </p:nvGrpSpPr>
          <p:grpSpPr>
            <a:xfrm>
              <a:off x="762120" y="4419720"/>
              <a:ext cx="1083960" cy="725040"/>
              <a:chOff x="762120" y="4419720"/>
              <a:chExt cx="1083960" cy="725040"/>
            </a:xfrm>
          </p:grpSpPr>
          <p:pic>
            <p:nvPicPr>
              <p:cNvPr id="32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70040" y="4809600"/>
                <a:ext cx="332280" cy="3351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518120" y="4618800"/>
                <a:ext cx="327960" cy="3452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140120" y="4618800"/>
                <a:ext cx="327960" cy="3452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62120" y="4419720"/>
                <a:ext cx="328320" cy="3452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24" name=""/>
            <p:cNvGrpSpPr/>
            <p:nvPr/>
          </p:nvGrpSpPr>
          <p:grpSpPr>
            <a:xfrm>
              <a:off x="990720" y="2252520"/>
              <a:ext cx="836280" cy="414000"/>
              <a:chOff x="990720" y="2252520"/>
              <a:chExt cx="836280" cy="414000"/>
            </a:xfrm>
          </p:grpSpPr>
          <p:pic>
            <p:nvPicPr>
              <p:cNvPr id="32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990720" y="2388240"/>
                <a:ext cx="164520" cy="1872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204200" y="2252520"/>
                <a:ext cx="164520" cy="187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443960" y="2258640"/>
                <a:ext cx="164520" cy="187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1663560" y="2395080"/>
                <a:ext cx="163440" cy="186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1443960" y="2478600"/>
                <a:ext cx="164520" cy="187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0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1204200" y="2478600"/>
                <a:ext cx="164520" cy="187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31" name=""/>
            <p:cNvGrpSpPr/>
            <p:nvPr/>
          </p:nvGrpSpPr>
          <p:grpSpPr>
            <a:xfrm>
              <a:off x="838440" y="3257640"/>
              <a:ext cx="1018800" cy="497880"/>
              <a:chOff x="838440" y="3257640"/>
              <a:chExt cx="1018800" cy="497880"/>
            </a:xfrm>
          </p:grpSpPr>
          <p:pic>
            <p:nvPicPr>
              <p:cNvPr id="33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38000" y="3528720"/>
                <a:ext cx="21924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1374480" y="3257640"/>
                <a:ext cx="21888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838440" y="3392640"/>
                <a:ext cx="218160" cy="226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5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1631160" y="3257640"/>
                <a:ext cx="21708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6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1374480" y="3528720"/>
                <a:ext cx="21888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7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1110240" y="3528720"/>
                <a:ext cx="21816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8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110240" y="3257640"/>
                <a:ext cx="21816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39" name=""/>
            <p:cNvGrpSpPr/>
            <p:nvPr/>
          </p:nvGrpSpPr>
          <p:grpSpPr>
            <a:xfrm>
              <a:off x="990720" y="5595840"/>
              <a:ext cx="867960" cy="271440"/>
              <a:chOff x="990720" y="5595840"/>
              <a:chExt cx="867960" cy="271440"/>
            </a:xfrm>
          </p:grpSpPr>
          <p:pic>
            <p:nvPicPr>
              <p:cNvPr id="340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1594800" y="5595840"/>
                <a:ext cx="263880" cy="271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41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990720" y="5595840"/>
                <a:ext cx="263880" cy="271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42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293120" y="5595840"/>
                <a:ext cx="263880" cy="271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</p:grpSp>
      <p:grpSp>
        <p:nvGrpSpPr>
          <p:cNvPr id="343" name=""/>
          <p:cNvGrpSpPr/>
          <p:nvPr/>
        </p:nvGrpSpPr>
        <p:grpSpPr>
          <a:xfrm>
            <a:off x="2133720" y="2405160"/>
            <a:ext cx="304560" cy="3386160"/>
            <a:chOff x="2133720" y="2405160"/>
            <a:chExt cx="304560" cy="3386160"/>
          </a:xfrm>
        </p:grpSpPr>
        <p:sp>
          <p:nvSpPr>
            <p:cNvPr id="344" name=""/>
            <p:cNvSpPr/>
            <p:nvPr/>
          </p:nvSpPr>
          <p:spPr>
            <a:xfrm>
              <a:off x="2133720" y="2405160"/>
              <a:ext cx="304560" cy="1522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3409920"/>
              <a:ext cx="304560" cy="1522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3720" y="4724280"/>
              <a:ext cx="304560" cy="152640"/>
            </a:xfrm>
            <a:prstGeom prst="rightArrow">
              <a:avLst>
                <a:gd name="adj1" fmla="val 50000"/>
                <a:gd name="adj2" fmla="val 49882"/>
              </a:avLst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33720" y="5638680"/>
              <a:ext cx="304560" cy="152640"/>
            </a:xfrm>
            <a:prstGeom prst="rightArrow">
              <a:avLst>
                <a:gd name="adj1" fmla="val 50000"/>
                <a:gd name="adj2" fmla="val 49882"/>
              </a:avLst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09480" y="2133720"/>
            <a:ext cx="1371600" cy="4343400"/>
            <a:chOff x="609480" y="2133720"/>
            <a:chExt cx="1371600" cy="4343400"/>
          </a:xfrm>
        </p:grpSpPr>
        <p:sp>
          <p:nvSpPr>
            <p:cNvPr id="349" name=""/>
            <p:cNvSpPr/>
            <p:nvPr/>
          </p:nvSpPr>
          <p:spPr>
            <a:xfrm>
              <a:off x="609480" y="2133720"/>
              <a:ext cx="1371600" cy="396216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6095880"/>
              <a:ext cx="1371600" cy="3812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YEL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514600" y="2133720"/>
            <a:ext cx="1905120" cy="4343400"/>
            <a:chOff x="2514600" y="2133720"/>
            <a:chExt cx="1905120" cy="4343400"/>
          </a:xfrm>
        </p:grpSpPr>
        <p:sp>
          <p:nvSpPr>
            <p:cNvPr id="352" name=""/>
            <p:cNvSpPr/>
            <p:nvPr/>
          </p:nvSpPr>
          <p:spPr>
            <a:xfrm>
              <a:off x="2514600" y="2133720"/>
              <a:ext cx="1905120" cy="396216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14600" y="6095880"/>
              <a:ext cx="1905120" cy="3812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1" lang="es-BO" sz="1200" spc="-1" strike="noStrike">
                  <a:solidFill>
                    <a:srgbClr val="000000"/>
                  </a:solidFill>
                  <a:latin typeface="Verdana"/>
                </a:rPr>
                <a:t>ÁQUINA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Verdana"/>
                </a:rPr>
                <a:t>TEÑIDO Y LAV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105520" y="2286000"/>
            <a:ext cx="1216080" cy="1577520"/>
            <a:chOff x="5105520" y="2286000"/>
            <a:chExt cx="1216080" cy="1577520"/>
          </a:xfrm>
        </p:grpSpPr>
        <p:pic>
          <p:nvPicPr>
            <p:cNvPr id="355" name="" descr=""/>
            <p:cNvPicPr/>
            <p:nvPr/>
          </p:nvPicPr>
          <p:blipFill>
            <a:blip r:embed="rId31"/>
            <a:stretch/>
          </p:blipFill>
          <p:spPr>
            <a:xfrm>
              <a:off x="5105520" y="3124080"/>
              <a:ext cx="1216080" cy="73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32"/>
            <a:stretch/>
          </p:blipFill>
          <p:spPr>
            <a:xfrm>
              <a:off x="5105520" y="2286000"/>
              <a:ext cx="1216080" cy="73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"/>
          <p:cNvGrpSpPr/>
          <p:nvPr/>
        </p:nvGrpSpPr>
        <p:grpSpPr>
          <a:xfrm>
            <a:off x="4952880" y="2133720"/>
            <a:ext cx="1524240" cy="2209680"/>
            <a:chOff x="4952880" y="2133720"/>
            <a:chExt cx="1524240" cy="2209680"/>
          </a:xfrm>
        </p:grpSpPr>
        <p:sp>
          <p:nvSpPr>
            <p:cNvPr id="358" name=""/>
            <p:cNvSpPr/>
            <p:nvPr/>
          </p:nvSpPr>
          <p:spPr>
            <a:xfrm>
              <a:off x="4952880" y="2133720"/>
              <a:ext cx="1524240" cy="182880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52880" y="3962520"/>
              <a:ext cx="1524240" cy="38088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HIDRO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EXTRACTO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952880" y="4419720"/>
            <a:ext cx="1524240" cy="1294920"/>
            <a:chOff x="4952880" y="4419720"/>
            <a:chExt cx="1524240" cy="1294920"/>
          </a:xfrm>
        </p:grpSpPr>
        <p:sp>
          <p:nvSpPr>
            <p:cNvPr id="361" name=""/>
            <p:cNvSpPr/>
            <p:nvPr/>
          </p:nvSpPr>
          <p:spPr>
            <a:xfrm>
              <a:off x="4952880" y="4419720"/>
              <a:ext cx="1524240" cy="9140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52880" y="5333760"/>
              <a:ext cx="1524240" cy="38088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OMPACTADO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7086600" y="2666880"/>
            <a:ext cx="1523880" cy="1295640"/>
            <a:chOff x="7086600" y="2666880"/>
            <a:chExt cx="1523880" cy="1295640"/>
          </a:xfrm>
        </p:grpSpPr>
        <p:sp>
          <p:nvSpPr>
            <p:cNvPr id="364" name=""/>
            <p:cNvSpPr/>
            <p:nvPr/>
          </p:nvSpPr>
          <p:spPr>
            <a:xfrm>
              <a:off x="7086600" y="2666880"/>
              <a:ext cx="1523880" cy="91440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86600" y="3581280"/>
              <a:ext cx="1523880" cy="3812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SECADO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010280" y="4724280"/>
            <a:ext cx="1752480" cy="1311120"/>
            <a:chOff x="7010280" y="4724280"/>
            <a:chExt cx="1752480" cy="1311120"/>
          </a:xfrm>
        </p:grpSpPr>
        <p:pic>
          <p:nvPicPr>
            <p:cNvPr id="367" name="" descr=""/>
            <p:cNvPicPr/>
            <p:nvPr/>
          </p:nvPicPr>
          <p:blipFill>
            <a:blip r:embed="rId33"/>
            <a:stretch/>
          </p:blipFill>
          <p:spPr>
            <a:xfrm>
              <a:off x="7010280" y="4724280"/>
              <a:ext cx="175248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34"/>
            <a:stretch/>
          </p:blipFill>
          <p:spPr>
            <a:xfrm>
              <a:off x="7314840" y="5486400"/>
              <a:ext cx="1143000" cy="54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9" name=""/>
          <p:cNvGrpSpPr/>
          <p:nvPr/>
        </p:nvGrpSpPr>
        <p:grpSpPr>
          <a:xfrm>
            <a:off x="6934320" y="4724280"/>
            <a:ext cx="1904760" cy="1752840"/>
            <a:chOff x="6934320" y="4724280"/>
            <a:chExt cx="1904760" cy="1752840"/>
          </a:xfrm>
        </p:grpSpPr>
        <p:sp>
          <p:nvSpPr>
            <p:cNvPr id="370" name=""/>
            <p:cNvSpPr/>
            <p:nvPr/>
          </p:nvSpPr>
          <p:spPr>
            <a:xfrm>
              <a:off x="6934320" y="4724280"/>
              <a:ext cx="1904760" cy="137160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34320" y="6095880"/>
              <a:ext cx="1904760" cy="3812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RAM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4572000" y="49528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0" y="30481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6474960" y="3048120"/>
            <a:ext cx="622800" cy="1774440"/>
            <a:chOff x="6474960" y="3048120"/>
            <a:chExt cx="622800" cy="1774440"/>
          </a:xfrm>
        </p:grpSpPr>
        <p:sp>
          <p:nvSpPr>
            <p:cNvPr id="375" name=""/>
            <p:cNvSpPr/>
            <p:nvPr/>
          </p:nvSpPr>
          <p:spPr>
            <a:xfrm>
              <a:off x="6629400" y="30481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 rot="18177000">
              <a:off x="6331320" y="4323240"/>
              <a:ext cx="909720" cy="152280"/>
            </a:xfrm>
            <a:prstGeom prst="rightArrow">
              <a:avLst>
                <a:gd name="adj1" fmla="val 50000"/>
                <a:gd name="adj2" fmla="val 149350"/>
              </a:avLst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 rot="5400000">
            <a:off x="7581240" y="430524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029200" y="5790960"/>
            <a:ext cx="1371600" cy="609840"/>
            <a:chOff x="5029200" y="5790960"/>
            <a:chExt cx="1371600" cy="609840"/>
          </a:xfrm>
        </p:grpSpPr>
        <p:sp>
          <p:nvSpPr>
            <p:cNvPr id="379" name=""/>
            <p:cNvSpPr/>
            <p:nvPr/>
          </p:nvSpPr>
          <p:spPr>
            <a:xfrm>
              <a:off x="5029200" y="6096240"/>
              <a:ext cx="1371600" cy="304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Verdana"/>
                </a:rPr>
                <a:t>Químicos </a:t>
              </a:r>
              <a:r>
                <a:rPr b="1" lang="es-BO" sz="1600" spc="-1" strike="noStrike">
                  <a:solidFill>
                    <a:srgbClr val="000000"/>
                  </a:solidFill>
                  <a:latin typeface="Verdana"/>
                </a:rPr>
                <a:t>(Q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5029200" y="5790960"/>
              <a:ext cx="1371600" cy="305280"/>
              <a:chOff x="5029200" y="5790960"/>
              <a:chExt cx="1371600" cy="30528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5029200" y="5790960"/>
                <a:ext cx="1371240" cy="305280"/>
                <a:chOff x="5029200" y="5790960"/>
                <a:chExt cx="1371240" cy="3052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29200" y="5791320"/>
                  <a:ext cx="477000" cy="304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10800000">
                  <a:off x="5923440" y="5790960"/>
                  <a:ext cx="477000" cy="304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446440" y="5791320"/>
                  <a:ext cx="477000" cy="30492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5029200" y="5791320"/>
                <a:ext cx="1371600" cy="3049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BO" sz="1200" spc="-1" strike="noStrike">
                    <a:solidFill>
                      <a:srgbClr val="000000"/>
                    </a:solidFill>
                    <a:latin typeface="Verdana"/>
                  </a:rPr>
                  <a:t>Colorantes </a:t>
                </a:r>
                <a:r>
                  <a:rPr b="1" lang="es-BO" sz="1600" spc="-1" strike="noStrike">
                    <a:solidFill>
                      <a:srgbClr val="000000"/>
                    </a:solidFill>
                    <a:latin typeface="Verdana"/>
                  </a:rPr>
                  <a:t>(C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"/>
          <p:cNvGrpSpPr/>
          <p:nvPr/>
        </p:nvGrpSpPr>
        <p:grpSpPr>
          <a:xfrm>
            <a:off x="4571640" y="5866920"/>
            <a:ext cx="2286360" cy="457560"/>
            <a:chOff x="4571640" y="5866920"/>
            <a:chExt cx="2286360" cy="457560"/>
          </a:xfrm>
        </p:grpSpPr>
        <p:sp>
          <p:nvSpPr>
            <p:cNvPr id="387" name=""/>
            <p:cNvSpPr/>
            <p:nvPr/>
          </p:nvSpPr>
          <p:spPr>
            <a:xfrm>
              <a:off x="6553080" y="6171840"/>
              <a:ext cx="304920" cy="152640"/>
            </a:xfrm>
            <a:prstGeom prst="rightArrow">
              <a:avLst>
                <a:gd name="adj1" fmla="val 50000"/>
                <a:gd name="adj2" fmla="val 499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0800000">
              <a:off x="4571640" y="58669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cc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0800000">
              <a:off x="4571640" y="6171840"/>
              <a:ext cx="304920" cy="152640"/>
            </a:xfrm>
            <a:prstGeom prst="rightArrow">
              <a:avLst>
                <a:gd name="adj1" fmla="val 50000"/>
                <a:gd name="adj2" fmla="val 499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517680" y="1479600"/>
            <a:ext cx="83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MAQUINARIA Y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Modelo de Programación de la Producció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función objetivo puede 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aximización del porcentaje o número de envíos puntu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inimización del retraso promedio de las ordenes, pudiendo usarse ponderadores o minimización del máximo retraso (del peor cas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aximización de la utilización de la maquin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inimización del tiempo de finalización de la última orden (se maximiza la produc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inimización de la suma de tiempos de finalización de todas las ordenes, es decir, del tiempo de flujo (se minimiza el inventario en proces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Modelo de Programación de la Producció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s metodologías más empleada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Reglas simples de prior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rogramación Matemática, que incluye enfoques de programación dinámica y branch and bound (R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Técnicas algorítmicas que buscan mas que nada soluciones robustas (combinación de heurísticas y reglas simples de prioriza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Búsqueda dirigida por restricciones, donde se buscan soluciones factibles que cumplan todas las reglas (Constraint Programming y Programación). Está alineada con 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Diseño del Sistem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stá compuesto básicamente por tres subsiste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dministración de Base de Datos: donde se deben manejar datos de la planta y del trabajo mismo (interacción con ER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rogramación: que incluye los módulos de generación, edición y análisis de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Interfase del usuario, por ejemplo gráficos Gant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OBJETIVOS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Objetivo General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tener programas completos, útiles, realistas y de manera oportuna basados en soluciones “óptimas” y objetivas de tal modo que sirvan como base para la proyección de la producción de ordenes en Tintorería en el corto, mediano y largo plaz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OBJETIVOS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Objetivos Específicos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esarrollar de manera más eficiente los procesos de planificación y programación de tintore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ermitir flexibilidad en la progra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ejorar la calidad de la información debiendo ser el reflejo de lo que sucede en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eterminar verdaderos requerimientos de químicos y color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otenciar el uso del sistema E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Obtener programas óptimos o con soluciones robustas de manera objetiva y relativamente ráp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PROGRAMACIÓN DE ACTIVIDADES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Gráfico Gantt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2" name=""/>
          <p:cNvSpPr/>
          <p:nvPr/>
        </p:nvSpPr>
        <p:spPr>
          <a:xfrm>
            <a:off x="16002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NOV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DIC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9718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ENE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FEB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3434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MAR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0292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ABR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725280" y="4952880"/>
            <a:ext cx="6858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600200" y="1981080"/>
            <a:ext cx="6858000" cy="2819520"/>
            <a:chOff x="1600200" y="1981080"/>
            <a:chExt cx="6858000" cy="2819520"/>
          </a:xfrm>
        </p:grpSpPr>
        <p:sp>
          <p:nvSpPr>
            <p:cNvPr id="410" name=""/>
            <p:cNvSpPr/>
            <p:nvPr/>
          </p:nvSpPr>
          <p:spPr>
            <a:xfrm>
              <a:off x="16002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860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718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576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3434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292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150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008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866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724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600200" y="2286000"/>
            <a:ext cx="4800600" cy="457200"/>
          </a:xfrm>
          <a:prstGeom prst="rect">
            <a:avLst/>
          </a:prstGeom>
          <a:gradFill rotWithShape="0">
            <a:gsLst>
              <a:gs pos="0">
                <a:srgbClr val="a0c9c9"/>
              </a:gs>
              <a:gs pos="50000">
                <a:srgbClr val="ccffff"/>
              </a:gs>
              <a:gs pos="100000">
                <a:srgbClr val="a0c9c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Revisión Bibliográf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150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MAY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JUN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0866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JUL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7724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AGO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590920" y="2895480"/>
            <a:ext cx="1904760" cy="457200"/>
          </a:xfrm>
          <a:prstGeom prst="rect">
            <a:avLst/>
          </a:prstGeom>
          <a:gradFill rotWithShape="0">
            <a:gsLst>
              <a:gs pos="0">
                <a:srgbClr val="c9c950"/>
              </a:gs>
              <a:gs pos="50000">
                <a:srgbClr val="ffff66"/>
              </a:gs>
              <a:gs pos="100000">
                <a:srgbClr val="c9c9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Trabajo de Ca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57600" y="3505320"/>
            <a:ext cx="3048120" cy="457200"/>
          </a:xfrm>
          <a:prstGeom prst="rect">
            <a:avLst/>
          </a:prstGeom>
          <a:gradFill rotWithShape="0">
            <a:gsLst>
              <a:gs pos="0">
                <a:srgbClr val="a0c9a0"/>
              </a:gs>
              <a:gs pos="50000">
                <a:srgbClr val="ccffcc"/>
              </a:gs>
              <a:gs pos="100000">
                <a:srgbClr val="a0c9a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Formulación y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de la Sol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334120" y="4114800"/>
            <a:ext cx="2361960" cy="457200"/>
          </a:xfrm>
          <a:prstGeom prst="rect">
            <a:avLst/>
          </a:prstGeom>
          <a:gradFill rotWithShape="0">
            <a:gsLst>
              <a:gs pos="0">
                <a:srgbClr val="e2b487"/>
              </a:gs>
              <a:gs pos="50000">
                <a:srgbClr val="ffcc99"/>
              </a:gs>
              <a:gs pos="100000">
                <a:srgbClr val="e2b48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del 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066680" y="1981080"/>
            <a:ext cx="457200" cy="2819520"/>
          </a:xfrm>
          <a:prstGeom prst="flowChartDelay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16200000">
            <a:off x="216360" y="3364560"/>
            <a:ext cx="21880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5400000">
            <a:off x="4838760" y="1866600"/>
            <a:ext cx="380880" cy="6858000"/>
          </a:xfrm>
          <a:prstGeom prst="flowChartDelay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Verdana"/>
              </a:rPr>
              <a:t>M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REFERENCIAS BIBLIOGRÁFICAS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. Pinedo, R. Samroengraja and B. Yen, “Design Issues with Regard to Scheduling Systems in Manufacturing”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Columbia University, New York, New York 100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J. Rickel, “Issues in the Design of Scheduling Systems”, in “Expert Systems and Intelligent Manufacturing”, (M.D. Oliff, ed.)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Elsevier Science Publishing Co., 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K.R. Baker, “Introduction to Sequencing and Scheduling”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John Wile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&amp; Sons, New York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1980</a:t>
            </a: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R.W. Conway, W.L. Maxwell and L.W. Miller, “Theory of Scheduling”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Addison-Wesley Publishing Co., Reading, MA., 1967</a:t>
            </a: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EGUNT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3141720" y="2228760"/>
            <a:ext cx="668160" cy="5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4513320" y="215280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4513320" y="276228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4343400" y="3371760"/>
            <a:ext cx="668160" cy="5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9" name="" descr=""/>
          <p:cNvPicPr/>
          <p:nvPr/>
        </p:nvPicPr>
        <p:blipFill>
          <a:blip r:embed="rId5"/>
          <a:stretch/>
        </p:blipFill>
        <p:spPr>
          <a:xfrm>
            <a:off x="4114800" y="459108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0" name="" descr=""/>
          <p:cNvPicPr/>
          <p:nvPr/>
        </p:nvPicPr>
        <p:blipFill>
          <a:blip r:embed="rId6"/>
          <a:stretch/>
        </p:blipFill>
        <p:spPr>
          <a:xfrm>
            <a:off x="4114800" y="398160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1" name="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4114800" y="5429160"/>
            <a:ext cx="668160" cy="5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2" name="" descr=""/>
          <p:cNvPicPr/>
          <p:nvPr/>
        </p:nvPicPr>
        <p:blipFill>
          <a:blip r:embed="rId8"/>
          <a:stretch/>
        </p:blipFill>
        <p:spPr>
          <a:xfrm>
            <a:off x="3200400" y="283860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3" name="" descr=""/>
          <p:cNvPicPr/>
          <p:nvPr/>
        </p:nvPicPr>
        <p:blipFill>
          <a:blip r:embed="rId9"/>
          <a:stretch/>
        </p:blipFill>
        <p:spPr>
          <a:xfrm>
            <a:off x="3827520" y="205740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bl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olución Propue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jetivo Gen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grama de Activida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Referencias Bibliográfic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Descripción de la Empresa – Ametex S.A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adena textil integrada verticalmente en torno a ocho plantas y con procesos que van desde el hilado hasta la costura y acabado de prendas de vestir de algod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2.400 empl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Ventas anuales de 35 millones de dóla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77% de las ventas corresponden a exportaciones principalmente a Estados Un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roducción de ocho millones de prendas anualmente para marcas como Polo Ralph Lauren, Polo Kids y Express principalm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uenta con un sistema ERP especializado en texti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Descripción de Universaltex S.A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Fábrica textil que forma parte de la compañía Amete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400 emple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cesos principales: tejido, tintorería, secado y acab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ateria prima: hilo de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ducto terminado: variedades de tela acabada de pu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Proceso de Fabricación de Tela - Tintorerí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39625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Hilo Crud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Encon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1981080"/>
            <a:ext cx="1066680" cy="76212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Tintor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de Hil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Ci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39625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jedu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irculare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Rectilín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3962520"/>
            <a:ext cx="1066680" cy="761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Tintor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Tela Sól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y Ray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72400" y="3962520"/>
            <a:ext cx="1066680" cy="761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3300"/>
                </a:solidFill>
                <a:latin typeface="Verdana"/>
              </a:rPr>
              <a:t>Secad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3300"/>
                </a:solidFill>
                <a:latin typeface="Verdana"/>
              </a:rPr>
              <a:t>Acab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3962520"/>
            <a:ext cx="106704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la Cruda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repa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25909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Despa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41911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4191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4191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1911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8305560" y="213336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8305560" y="350496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1523880"/>
            <a:ext cx="106704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ffff"/>
                </a:solidFill>
                <a:latin typeface="Verdana"/>
              </a:rPr>
              <a:t>C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505320"/>
            <a:ext cx="106704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ffff"/>
                </a:solidFill>
                <a:latin typeface="Verdana"/>
              </a:rPr>
              <a:t>HIL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73400">
            <a:off x="1371240" y="396216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400" y="5032440"/>
            <a:ext cx="313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Hilo heather, cru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Hilo crudo bl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Hilo teñ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Cinta Cru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Cinta Teñ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Hilo heather, crudo y teñ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891000" y="2584800"/>
            <a:ext cx="948240" cy="817200"/>
            <a:chOff x="891000" y="2584800"/>
            <a:chExt cx="948240" cy="817200"/>
          </a:xfrm>
        </p:grpSpPr>
        <p:sp>
          <p:nvSpPr>
            <p:cNvPr id="119" name=""/>
            <p:cNvSpPr/>
            <p:nvPr/>
          </p:nvSpPr>
          <p:spPr>
            <a:xfrm rot="19127400">
              <a:off x="1096560" y="2950560"/>
              <a:ext cx="761760" cy="228600"/>
            </a:xfrm>
            <a:prstGeom prst="rightArrow">
              <a:avLst>
                <a:gd name="adj1" fmla="val 50000"/>
                <a:gd name="adj2" fmla="val 8330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8218800">
              <a:off x="866160" y="2813760"/>
              <a:ext cx="762120" cy="228600"/>
            </a:xfrm>
            <a:prstGeom prst="rightArrow">
              <a:avLst>
                <a:gd name="adj1" fmla="val 50000"/>
                <a:gd name="adj2" fmla="val 8334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77120" y="2817000"/>
            <a:ext cx="471600" cy="1069200"/>
            <a:chOff x="1977120" y="2817000"/>
            <a:chExt cx="471600" cy="1069200"/>
          </a:xfrm>
        </p:grpSpPr>
        <p:sp>
          <p:nvSpPr>
            <p:cNvPr id="122" name=""/>
            <p:cNvSpPr/>
            <p:nvPr/>
          </p:nvSpPr>
          <p:spPr>
            <a:xfrm rot="16279200">
              <a:off x="1865880" y="3167280"/>
              <a:ext cx="920160" cy="223920"/>
            </a:xfrm>
            <a:prstGeom prst="rightArrow">
              <a:avLst>
                <a:gd name="adj1" fmla="val 50000"/>
                <a:gd name="adj2" fmla="val 102733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5371200">
              <a:off x="1632600" y="3313800"/>
              <a:ext cx="919440" cy="223200"/>
            </a:xfrm>
            <a:prstGeom prst="rightArrow">
              <a:avLst>
                <a:gd name="adj1" fmla="val 50000"/>
                <a:gd name="adj2" fmla="val 102984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447920" y="37339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31240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31240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25909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30481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419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4419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419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4419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3581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2133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38240" y="5006880"/>
            <a:ext cx="3891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Tela cruda (sólida, rayada o heat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Tela cruda prepa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Tela teñida o lav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3300"/>
                </a:solidFill>
                <a:latin typeface="Verdana"/>
              </a:rPr>
              <a:t>Tela seca y acab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Tela de color, rayada y hea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124080" y="1523880"/>
            <a:ext cx="4496040" cy="2286000"/>
            <a:chOff x="3124080" y="1523880"/>
            <a:chExt cx="4496040" cy="228600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6248520" y="2362320"/>
              <a:ext cx="12189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rcRect l="0" t="0" r="50533" b="0"/>
            <a:stretch/>
          </p:blipFill>
          <p:spPr>
            <a:xfrm>
              <a:off x="3124080" y="2743200"/>
              <a:ext cx="1447920" cy="9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4800600" y="2286000"/>
              <a:ext cx="114300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4"/>
            <a:stretch/>
          </p:blipFill>
          <p:spPr>
            <a:xfrm>
              <a:off x="5105520" y="1523880"/>
              <a:ext cx="198108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124080" y="2666880"/>
              <a:ext cx="1524240" cy="1143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95680" y="1523880"/>
              <a:ext cx="3124440" cy="1981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689200" y="2432880"/>
            <a:ext cx="5331960" cy="1627920"/>
            <a:chOff x="2689200" y="2432880"/>
            <a:chExt cx="5331960" cy="1627920"/>
          </a:xfrm>
        </p:grpSpPr>
        <p:sp>
          <p:nvSpPr>
            <p:cNvPr id="144" name=""/>
            <p:cNvSpPr/>
            <p:nvPr/>
          </p:nvSpPr>
          <p:spPr>
            <a:xfrm rot="20218800">
              <a:off x="6324480" y="3581280"/>
              <a:ext cx="304920" cy="381240"/>
            </a:xfrm>
            <a:prstGeom prst="upArrow">
              <a:avLst>
                <a:gd name="adj1" fmla="val 50000"/>
                <a:gd name="adj2" fmla="val 31257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9422600">
              <a:off x="7475040" y="3144600"/>
              <a:ext cx="304920" cy="914400"/>
            </a:xfrm>
            <a:prstGeom prst="upArrow">
              <a:avLst>
                <a:gd name="adj1" fmla="val 50000"/>
                <a:gd name="adj2" fmla="val 7497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437000">
              <a:off x="2843280" y="2441520"/>
              <a:ext cx="304560" cy="533520"/>
            </a:xfrm>
            <a:prstGeom prst="upArrow">
              <a:avLst>
                <a:gd name="adj1" fmla="val 50000"/>
                <a:gd name="adj2" fmla="val 43794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388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438280"/>
            <a:ext cx="7467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Planificación y Programación en Tintorerí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29000" y="1905120"/>
            <a:ext cx="380520" cy="75960"/>
            <a:chOff x="3429000" y="1905120"/>
            <a:chExt cx="380520" cy="75960"/>
          </a:xfrm>
        </p:grpSpPr>
        <p:sp>
          <p:nvSpPr>
            <p:cNvPr id="155" name=""/>
            <p:cNvSpPr/>
            <p:nvPr/>
          </p:nvSpPr>
          <p:spPr>
            <a:xfrm>
              <a:off x="3429000" y="1905120"/>
              <a:ext cx="7596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81280" y="1905120"/>
              <a:ext cx="7560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33560" y="1905120"/>
              <a:ext cx="7596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09480" y="2438280"/>
            <a:ext cx="457200" cy="6858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3124080"/>
            <a:ext cx="457200" cy="6858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8098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2670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4724280"/>
            <a:ext cx="457200" cy="60984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791320" y="1905120"/>
            <a:ext cx="380520" cy="75960"/>
            <a:chOff x="5791320" y="1905120"/>
            <a:chExt cx="380520" cy="75960"/>
          </a:xfrm>
        </p:grpSpPr>
        <p:sp>
          <p:nvSpPr>
            <p:cNvPr id="164" name=""/>
            <p:cNvSpPr/>
            <p:nvPr/>
          </p:nvSpPr>
          <p:spPr>
            <a:xfrm>
              <a:off x="5791320" y="1905120"/>
              <a:ext cx="7596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43600" y="1905120"/>
              <a:ext cx="7560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5880" y="1905120"/>
              <a:ext cx="7596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52388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01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057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3124080"/>
            <a:ext cx="7467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3809880"/>
            <a:ext cx="7467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4267080"/>
            <a:ext cx="7467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4724280"/>
            <a:ext cx="7467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057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629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773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2438280"/>
            <a:ext cx="53352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2438280"/>
            <a:ext cx="53352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752480"/>
            <a:ext cx="914400" cy="6858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Máq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752480"/>
            <a:ext cx="914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2438280"/>
            <a:ext cx="1524240" cy="16322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4070520"/>
            <a:ext cx="1752840" cy="83808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590840" y="2585880"/>
            <a:ext cx="1609560" cy="2246400"/>
            <a:chOff x="1590840" y="2585880"/>
            <a:chExt cx="1609560" cy="2246400"/>
          </a:xfrm>
        </p:grpSpPr>
        <p:sp>
          <p:nvSpPr>
            <p:cNvPr id="199" name=""/>
            <p:cNvSpPr/>
            <p:nvPr/>
          </p:nvSpPr>
          <p:spPr>
            <a:xfrm>
              <a:off x="1590840" y="2585880"/>
              <a:ext cx="463320" cy="1336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54160" y="2585880"/>
              <a:ext cx="463680" cy="13366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17840" y="2585880"/>
              <a:ext cx="463320" cy="13366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00200" y="4146480"/>
              <a:ext cx="762120" cy="685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62320" y="4146480"/>
              <a:ext cx="838080" cy="6858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447920" y="5028840"/>
            <a:ext cx="1981080" cy="1086120"/>
            <a:chOff x="1447920" y="5028840"/>
            <a:chExt cx="1981080" cy="1086120"/>
          </a:xfrm>
        </p:grpSpPr>
        <p:sp>
          <p:nvSpPr>
            <p:cNvPr id="205" name=""/>
            <p:cNvSpPr/>
            <p:nvPr/>
          </p:nvSpPr>
          <p:spPr>
            <a:xfrm>
              <a:off x="1911600" y="5746680"/>
              <a:ext cx="106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quir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2057400" y="4419360"/>
              <a:ext cx="762120" cy="1981080"/>
            </a:xfrm>
            <a:custGeom>
              <a:avLst/>
              <a:gdLst>
                <a:gd name="textAreaLeft" fmla="*/ 487080 w 762120"/>
                <a:gd name="textAreaRight" fmla="*/ 762480 w 7621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553080" y="2438280"/>
            <a:ext cx="1905120" cy="2895840"/>
            <a:chOff x="6553080" y="2438280"/>
            <a:chExt cx="1905120" cy="2895840"/>
          </a:xfrm>
        </p:grpSpPr>
        <p:sp>
          <p:nvSpPr>
            <p:cNvPr id="208" name=""/>
            <p:cNvSpPr/>
            <p:nvPr/>
          </p:nvSpPr>
          <p:spPr>
            <a:xfrm>
              <a:off x="6553080" y="24382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0572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38880" y="24382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294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5200" y="31240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62920" y="31240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10280" y="38098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6292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7240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012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1520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10280" y="42670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15200" y="42670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67480" y="42670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34320" y="31240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31240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96080" y="31240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7240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4680" y="31240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0592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012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72400" y="42670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553080" y="4267080"/>
            <a:ext cx="1828800" cy="1067040"/>
            <a:chOff x="6553080" y="4267080"/>
            <a:chExt cx="1828800" cy="1067040"/>
          </a:xfrm>
        </p:grpSpPr>
        <p:sp>
          <p:nvSpPr>
            <p:cNvPr id="232" name=""/>
            <p:cNvSpPr/>
            <p:nvPr/>
          </p:nvSpPr>
          <p:spPr>
            <a:xfrm>
              <a:off x="6705720" y="42670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53080" y="42670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343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296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96080" y="4724280"/>
              <a:ext cx="15264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487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0773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477120" y="5028840"/>
            <a:ext cx="1981080" cy="1328760"/>
            <a:chOff x="6477120" y="5028840"/>
            <a:chExt cx="1981080" cy="1328760"/>
          </a:xfrm>
        </p:grpSpPr>
        <p:sp>
          <p:nvSpPr>
            <p:cNvPr id="240" name=""/>
            <p:cNvSpPr/>
            <p:nvPr/>
          </p:nvSpPr>
          <p:spPr>
            <a:xfrm>
              <a:off x="6652800" y="5715000"/>
              <a:ext cx="164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yel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gram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7086600" y="4419360"/>
              <a:ext cx="762120" cy="1981080"/>
            </a:xfrm>
            <a:custGeom>
              <a:avLst/>
              <a:gdLst>
                <a:gd name="textAreaLeft" fmla="*/ 487080 w 762120"/>
                <a:gd name="textAreaRight" fmla="*/ 762480 w 7621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086600" y="2438280"/>
            <a:ext cx="990720" cy="2286000"/>
            <a:chOff x="7086600" y="2438280"/>
            <a:chExt cx="990720" cy="2286000"/>
          </a:xfrm>
        </p:grpSpPr>
        <p:sp>
          <p:nvSpPr>
            <p:cNvPr id="243" name=""/>
            <p:cNvSpPr/>
            <p:nvPr/>
          </p:nvSpPr>
          <p:spPr>
            <a:xfrm>
              <a:off x="708660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43800" y="31240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24680" y="42670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267080" y="3809880"/>
            <a:ext cx="1371600" cy="1524240"/>
            <a:chOff x="4267080" y="3809880"/>
            <a:chExt cx="1371600" cy="1524240"/>
          </a:xfrm>
        </p:grpSpPr>
        <p:sp>
          <p:nvSpPr>
            <p:cNvPr id="247" name=""/>
            <p:cNvSpPr/>
            <p:nvPr/>
          </p:nvSpPr>
          <p:spPr>
            <a:xfrm>
              <a:off x="4267080" y="4724280"/>
              <a:ext cx="152640" cy="609840"/>
            </a:xfrm>
            <a:prstGeom prst="bevel">
              <a:avLst>
                <a:gd name="adj" fmla="val 125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197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0552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5780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24280" y="4724280"/>
              <a:ext cx="15264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769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292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81480" y="4724280"/>
              <a:ext cx="15264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341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864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191120" y="2438280"/>
            <a:ext cx="1143000" cy="2895840"/>
            <a:chOff x="4191120" y="2438280"/>
            <a:chExt cx="1143000" cy="2895840"/>
          </a:xfrm>
        </p:grpSpPr>
        <p:sp>
          <p:nvSpPr>
            <p:cNvPr id="258" name=""/>
            <p:cNvSpPr/>
            <p:nvPr/>
          </p:nvSpPr>
          <p:spPr>
            <a:xfrm>
              <a:off x="45720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191120" y="2438280"/>
              <a:ext cx="1143000" cy="2286000"/>
              <a:chOff x="4191120" y="2438280"/>
              <a:chExt cx="1143000" cy="2286000"/>
            </a:xfrm>
          </p:grpSpPr>
          <p:sp>
            <p:nvSpPr>
              <p:cNvPr id="260" name=""/>
              <p:cNvSpPr/>
              <p:nvPr/>
            </p:nvSpPr>
            <p:spPr>
              <a:xfrm>
                <a:off x="419112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43400" y="38098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9112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120" y="31240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34340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495680" y="3809880"/>
                <a:ext cx="152640" cy="4572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34340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95680" y="24382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648320" y="38098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343400" y="31240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0060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952880" y="24382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724280" y="31240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495680" y="31240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00600" y="38098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952880" y="3809880"/>
                <a:ext cx="15264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495680" y="4267080"/>
                <a:ext cx="15264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64832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0060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952880" y="4267080"/>
                <a:ext cx="15264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10552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876920" y="31240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029200" y="31240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181480" y="31240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10552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4832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"/>
          <p:cNvGrpSpPr/>
          <p:nvPr/>
        </p:nvGrpSpPr>
        <p:grpSpPr>
          <a:xfrm>
            <a:off x="3809880" y="5028840"/>
            <a:ext cx="1981440" cy="1328760"/>
            <a:chOff x="3809880" y="5028840"/>
            <a:chExt cx="1981440" cy="1328760"/>
          </a:xfrm>
        </p:grpSpPr>
        <p:sp>
          <p:nvSpPr>
            <p:cNvPr id="287" name=""/>
            <p:cNvSpPr/>
            <p:nvPr/>
          </p:nvSpPr>
          <p:spPr>
            <a:xfrm>
              <a:off x="4067640" y="5715000"/>
              <a:ext cx="147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yel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lanific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4419360" y="4419000"/>
              <a:ext cx="762120" cy="1981440"/>
            </a:xfrm>
            <a:custGeom>
              <a:avLst/>
              <a:gdLst>
                <a:gd name="textAreaLeft" fmla="*/ 487080 w 762120"/>
                <a:gd name="textAreaRight" fmla="*/ 762480 w 76212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410080" y="2438280"/>
            <a:ext cx="152640" cy="68580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PROBLEM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Se puede resumir en los siguientes aspect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Recursos de Planific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Dos sistemas mantenidos en forma paralela, uno en hojas electrónicas y el sistema ER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Medios visuales deficien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La información que existe no se aprovecha del todo o directamente no se cuenta con ell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rogra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Se ajustan más al corto plazo, mientras que para el mediano y largo plazo no son confiables o no se consideran, incurriéndose así en sub-óptimos o soluciones miop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s-BO" sz="2800" spc="-1" strike="noStrike">
                <a:solidFill>
                  <a:srgbClr val="000000"/>
                </a:solidFill>
                <a:latin typeface="Verdana"/>
              </a:rPr>
              <a:t>Sistema de Programación de la Producción en Tintorerí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ara ello se deben defin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querimientos fun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Modelo de Programación de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Diseño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Requerimientos Funcionales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e determina desde el punto de vista del programador la inclusión de tareas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colección y análisis de información acerca de las ordenes a programarse y de las capacidades operacionales de la p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rogramación total o parcial de las ordenes, la evaluación de los programas y su edi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Interacción con la p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3:12:04Z</dcterms:created>
  <dc:creator> Abel Gonzalo Salinas Columba</dc:creator>
  <dc:description/>
  <dc:language>en-US</dc:language>
  <cp:lastModifiedBy>julie lagos</cp:lastModifiedBy>
  <dcterms:modified xsi:type="dcterms:W3CDTF">2004-11-10T14:54:11Z</dcterms:modified>
  <cp:revision>327</cp:revision>
  <dc:subject/>
  <dc:title>Modelo de Programación de la Producción en Tintorerí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