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6.jpeg" ContentType="image/jpeg"/>
  <Override PartName="/ppt/media/image1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9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8.png" ContentType="image/png"/>
  <Override PartName="/ppt/media/image5.gif" ContentType="image/gif"/>
  <Override PartName="/ppt/media/image1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4BA17A-1F7F-40DE-973D-9658B4952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8360" y="20484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39320"/>
            <a:ext cx="8229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CA5D46-1C4F-462C-ADC8-2C645E44F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20484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39320"/>
            <a:ext cx="40158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39320"/>
            <a:ext cx="40158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7A981-406C-4413-AD89-FF405824A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68360" y="20484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2649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412640"/>
            <a:ext cx="2649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412640"/>
            <a:ext cx="2649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39320"/>
            <a:ext cx="2649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39320"/>
            <a:ext cx="2649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39320"/>
            <a:ext cx="2649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9B0EAE-B4DC-4E5D-82C9-1AFEC73B9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AECC0-F185-4ED8-8996-D6A693B82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20484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412640"/>
            <a:ext cx="82296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C36BC-6B53-4A61-8D00-F45544460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20484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61AD4-CD21-432B-81C3-5A88B86D2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20484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7CAAA-B112-47C2-8D9D-7FF964442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20484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4E14F-0FC7-48D0-90AA-C5FB30C13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68360" y="204840"/>
            <a:ext cx="8229600" cy="493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CA7BB-F476-4F68-ACFC-F98CAF97B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20484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739320"/>
            <a:ext cx="40158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AE60F-738A-4743-92C2-09995C931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20484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412640"/>
            <a:ext cx="82296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F97262-5369-4B0D-AFCE-DF6BA607B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20484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739320"/>
            <a:ext cx="40158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8A87A-A884-4A1C-A91A-AED6D97EA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20484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739320"/>
            <a:ext cx="8229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81C4A-7042-4451-B6E0-88E14A154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20484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739320"/>
            <a:ext cx="8229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DD2DD-5EC5-4FE5-8477-66F3EFF17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20484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739320"/>
            <a:ext cx="40158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739320"/>
            <a:ext cx="40158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3D760-6F2A-454C-8E0A-63206F823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20484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2649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412640"/>
            <a:ext cx="2649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412640"/>
            <a:ext cx="2649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739320"/>
            <a:ext cx="2649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739320"/>
            <a:ext cx="2649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739320"/>
            <a:ext cx="2649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EAED3-3922-42EA-80D5-CCDCB1971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20484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69B8D5-99B2-4C18-9BDF-A14941048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20484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796ADF-0866-445F-9355-E7DA0C877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8360" y="20484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D96414-F109-4DB1-BA27-5F71ABD0E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68360" y="204840"/>
            <a:ext cx="8229600" cy="493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898C1C-8465-4D84-AD3C-51F4E4BC5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20484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39320"/>
            <a:ext cx="40158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52FAD5-C31C-4ABB-956A-960B9744A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20484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39320"/>
            <a:ext cx="40158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B278EB-3669-4C38-B613-A652BE712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20484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39320"/>
            <a:ext cx="8229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65B61C-4B27-4FAD-BABC-76D53BF2F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3333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FE415-641F-4AB4-9463-69AD77036E4C}" type="slidenum">
              <a:rPr b="0" lang="en-US" sz="12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09680" y="1197000"/>
            <a:ext cx="137880" cy="1411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547560" y="843120"/>
            <a:ext cx="139680" cy="1378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74680" y="565200"/>
            <a:ext cx="136440" cy="1382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title"/>
          </p:nvPr>
        </p:nvSpPr>
        <p:spPr>
          <a:xfrm>
            <a:off x="468360" y="20484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body"/>
          </p:nvPr>
        </p:nvSpPr>
        <p:spPr>
          <a:xfrm>
            <a:off x="457200" y="1412640"/>
            <a:ext cx="8229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386af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386a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 flipV="1">
            <a:off x="324000" y="1015560"/>
            <a:ext cx="8497800" cy="36720"/>
          </a:xfrm>
          <a:prstGeom prst="rect">
            <a:avLst/>
          </a:prstGeom>
          <a:gradFill rotWithShape="0">
            <a:gsLst>
              <a:gs pos="0">
                <a:srgbClr val="4d0808"/>
              </a:gs>
              <a:gs pos="100000">
                <a:srgbClr val="fff2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3505320" cy="685800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6699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16120" y="1690560"/>
            <a:ext cx="7427880" cy="253368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1066680"/>
            <a:ext cx="2867040" cy="3157560"/>
            <a:chOff x="0" y="1066680"/>
            <a:chExt cx="2867040" cy="3157560"/>
          </a:xfrm>
        </p:grpSpPr>
        <p:sp>
          <p:nvSpPr>
            <p:cNvPr id="49" name=""/>
            <p:cNvSpPr/>
            <p:nvPr/>
          </p:nvSpPr>
          <p:spPr>
            <a:xfrm>
              <a:off x="573120" y="3583080"/>
              <a:ext cx="576360" cy="641160"/>
            </a:xfrm>
            <a:prstGeom prst="rect">
              <a:avLst/>
            </a:prstGeom>
            <a:solidFill>
              <a:srgbClr val="0386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716120" y="1690560"/>
              <a:ext cx="574560" cy="642960"/>
            </a:xfrm>
            <a:prstGeom prst="rect">
              <a:avLst/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281320" y="1066680"/>
              <a:ext cx="585720" cy="635040"/>
            </a:xfrm>
            <a:prstGeom prst="rect">
              <a:avLst/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141560" y="3583080"/>
              <a:ext cx="583920" cy="64116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281320" y="1690560"/>
              <a:ext cx="585720" cy="642960"/>
            </a:xfrm>
            <a:prstGeom prst="rect">
              <a:avLst/>
            </a:prstGeom>
            <a:solidFill>
              <a:srgbClr val="0386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141560" y="2324160"/>
              <a:ext cx="583920" cy="633240"/>
            </a:xfrm>
            <a:prstGeom prst="rect">
              <a:avLst/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2324160"/>
              <a:ext cx="582480" cy="63324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716120" y="2324160"/>
              <a:ext cx="574560" cy="633240"/>
            </a:xfrm>
            <a:prstGeom prst="rect">
              <a:avLst/>
            </a:prstGeom>
            <a:solidFill>
              <a:srgbClr val="0386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73120" y="2948040"/>
              <a:ext cx="576360" cy="644400"/>
            </a:xfrm>
            <a:prstGeom prst="rect">
              <a:avLst/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141560" y="2948040"/>
              <a:ext cx="583920" cy="644400"/>
            </a:xfrm>
            <a:prstGeom prst="rect">
              <a:avLst/>
            </a:prstGeom>
            <a:solidFill>
              <a:srgbClr val="0386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7477E-A08C-48C2-855A-2ADC9847FA37}" type="slidenum">
              <a:rPr b="0" lang="en-US" sz="12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386af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84360" y="2319120"/>
            <a:ext cx="63007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HDSO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loración de Mapas de Kohonen de Alta Dimensionalid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3851280" y="4365720"/>
            <a:ext cx="53928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resenta: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bastián Bec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Profesor Guía: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Richard Webe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743200" y="1125360"/>
            <a:ext cx="64008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Magíster en Gestión de Operacion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rebuchet MS"/>
              </a:rPr>
              <a:t>Universidad de Chi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20484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Arial"/>
              </a:rPr>
              <a:t>2. Mapas de Kohone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Idea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“Visualizar un conjunto de datos de alta dimensionalidad en </a:t>
            </a:r>
            <a:r>
              <a:rPr b="0" i="1" lang="en-US" sz="3200" spc="-1" strike="noStrike">
                <a:solidFill>
                  <a:srgbClr val="ffff99"/>
                </a:solidFill>
                <a:latin typeface="Arial"/>
              </a:rPr>
              <a:t>un mapa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de baja dimensionalidad (2)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724360" y="3357720"/>
            <a:ext cx="259272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99"/>
                    </a:gs>
                    <a:gs pos="100000">
                      <a:srgbClr val="fc1287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Proyecció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99"/>
                  </a:gs>
                  <a:gs pos="100000">
                    <a:srgbClr val="fc1287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539640" y="3357720"/>
            <a:ext cx="295272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3d4a8"/>
                    </a:gs>
                    <a:gs pos="100000">
                      <a:srgbClr val="005cb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uantizació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3d4a8"/>
                  </a:gs>
                  <a:gs pos="100000">
                    <a:srgbClr val="005cbf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549440" y="5157720"/>
            <a:ext cx="57592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ff3399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Mapas de Kohone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ff3399"/>
                  </a:gs>
                </a:gsLst>
                <a:lin ang="135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3" name=""/>
          <p:cNvSpPr/>
          <p:nvPr/>
        </p:nvSpPr>
        <p:spPr>
          <a:xfrm rot="2944800">
            <a:off x="2231640" y="4330800"/>
            <a:ext cx="1008000" cy="360360"/>
          </a:xfrm>
          <a:prstGeom prst="rightArrow">
            <a:avLst>
              <a:gd name="adj1" fmla="val 50000"/>
              <a:gd name="adj2" fmla="val 69930"/>
            </a:avLst>
          </a:prstGeom>
          <a:gradFill rotWithShape="0">
            <a:gsLst>
              <a:gs pos="0">
                <a:srgbClr val="fc1287"/>
              </a:gs>
              <a:gs pos="100000">
                <a:srgbClr val="74083e"/>
              </a:gs>
            </a:gsLst>
            <a:lin ang="2454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 rot="18655200">
            <a:off x="5903640" y="4330800"/>
            <a:ext cx="1008000" cy="360000"/>
          </a:xfrm>
          <a:prstGeom prst="rightArrow">
            <a:avLst>
              <a:gd name="adj1" fmla="val 50000"/>
              <a:gd name="adj2" fmla="val 70000"/>
            </a:avLst>
          </a:prstGeom>
          <a:gradFill rotWithShape="0">
            <a:gsLst>
              <a:gs pos="0">
                <a:srgbClr val="fc1287"/>
              </a:gs>
              <a:gs pos="100000">
                <a:srgbClr val="74083e"/>
              </a:gs>
            </a:gsLst>
            <a:lin ang="2454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20484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Arial"/>
              </a:rPr>
              <a:t>2. Mapas de Kohone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78920" y="1125360"/>
            <a:ext cx="6769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: “World Poverty Map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826920" y="1731960"/>
            <a:ext cx="7417080" cy="43610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826920" y="6165720"/>
            <a:ext cx="7056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39 Variables Asociadas a la Calidad de Vida del BM. (HUT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360" y="20484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Arial"/>
              </a:rPr>
              <a:t>2. Mapas de Kohone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78920" y="1125360"/>
            <a:ext cx="6769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: “World Poverty Map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26920" y="6165720"/>
            <a:ext cx="7056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39 Variables Asociadas a la Calidad de Vida del BM. (HUT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4360" y="1628640"/>
            <a:ext cx="7848360" cy="49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20484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Arial"/>
              </a:rPr>
              <a:t>2. Mapas de Kohone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821844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lvl="1" marL="9111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lgoritmo S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1160" indent="-490680">
              <a:spcBef>
                <a:spcPts val="601"/>
              </a:spcBef>
              <a:buClr>
                <a:srgbClr val="ffff99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Inicializar los prototip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116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1160" indent="-490680">
              <a:spcBef>
                <a:spcPts val="601"/>
              </a:spcBef>
              <a:buClr>
                <a:srgbClr val="ffff99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ncontrar neurona ganadora (BM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116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1160" indent="-490680">
              <a:spcBef>
                <a:spcPts val="601"/>
              </a:spcBef>
              <a:buClr>
                <a:srgbClr val="ffff99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Modificar los vectores prototip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116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116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116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1160" indent="-490680">
              <a:spcBef>
                <a:spcPts val="601"/>
              </a:spcBef>
              <a:buClr>
                <a:srgbClr val="ffff99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Volver a 3 hasta que no ocurran cambios significativos en el map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2195640" y="2276640"/>
                <a:ext cx="12952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1908000" y="3141720"/>
                <a:ext cx="381636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‖"/>
                        <m:endChr m:val="‖"/>
                      </m:dPr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in</m:t>
                    </m:r>
                    <m:d>
                      <m:dPr>
                        <m:begChr m:val="{"/>
                        <m:endChr m:val=""/>
                      </m:dPr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e>
                        </m:d>
                        <m:d>
                          <m:dPr>
                            <m:begChr m:val=""/>
                            <m:endChr m:val="}"/>
                          </m:dPr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2195640" y="4164120"/>
                <a:ext cx="367164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2195640" y="4818240"/>
                <a:ext cx="180000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9" name=""/>
          <p:cNvSpPr/>
          <p:nvPr/>
        </p:nvSpPr>
        <p:spPr>
          <a:xfrm>
            <a:off x="6084720" y="4214880"/>
            <a:ext cx="1800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para i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є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</a:t>
            </a:r>
            <a:r>
              <a:rPr b="1" lang="es-ES" sz="1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360" y="20484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Arial"/>
              </a:rPr>
              <a:t>2. Mapas de Kohone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8920" y="1125360"/>
            <a:ext cx="6769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tra forma de ver el mapa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26920" y="6165720"/>
            <a:ext cx="7056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39 Variables Asociadas a la Calidad de Vida del BM. (HUT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826920" y="1782720"/>
            <a:ext cx="7355160" cy="41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68360" y="20484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Arial"/>
              </a:rPr>
              <a:t>2. Mapas de Kohone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Parámetros del Model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Definición de la función de vecindad y radios de convergenci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Tasa de aprendizaj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Époc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Online v/s Bat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c128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Dimensionalidad del map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8360" y="20484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Arial"/>
              </a:rPr>
              <a:t>2. Mapas de Kohone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Deficiencias de SOM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Obliga adapatarse a una Grill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omputacionalmente Costos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ómo definir el número de neuronas requeri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Aleator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reservación Topológica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c128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Dificil Visualizar en más de 2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360" y="20484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Arial"/>
              </a:rPr>
              <a:t>3. Dimensionalidad Intrínsic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La DI de un conjunto de datos es el mínimo número de </a:t>
            </a:r>
            <a:r>
              <a:rPr b="0" i="1" lang="en-US" sz="2800" spc="-1" strike="noStrike">
                <a:solidFill>
                  <a:srgbClr val="ffff99"/>
                </a:solidFill>
                <a:latin typeface="Arial"/>
              </a:rPr>
              <a:t>variables libres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que se requieren para representar los datos </a:t>
            </a:r>
            <a:r>
              <a:rPr b="0" i="1" lang="en-US" sz="2800" spc="-1" strike="noStrike">
                <a:solidFill>
                  <a:srgbClr val="ffff99"/>
                </a:solidFill>
                <a:latin typeface="Arial"/>
              </a:rPr>
              <a:t>sin pérdida de información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¿Porqué encontrar la DI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Ahorrar Espaci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Mejorar Velocid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Capacidad de Generalización Ópti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20484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Arial"/>
              </a:rPr>
              <a:t>3. Dimensionalidad Intrínsic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22000"/>
            <a:ext cx="7283520" cy="503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Ejemplo Dimensionalidad Frac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99"/>
                </a:solidFill>
                <a:latin typeface="Arial"/>
              </a:rPr>
              <a:t>Statistically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 Self-Simil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¿Cómo aumenta el número de vecinos a medida que aumenta la distancia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684360" y="1844640"/>
            <a:ext cx="7056360" cy="30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360" y="20484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Arial"/>
              </a:rPr>
              <a:t>3. Dimensionalidad Intrínsic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46908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imensionalidad Fractal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4284720" y="2492280"/>
            <a:ext cx="4691160" cy="7984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4643280" y="1413000"/>
            <a:ext cx="1865520" cy="6807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4284720" y="4005360"/>
            <a:ext cx="1873080" cy="43344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250920" y="3500280"/>
            <a:ext cx="82087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nemos una cota mínima de datos requeridos para estimar la DI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50920" y="2565360"/>
            <a:ext cx="40384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gral de Correlació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4"/>
          <a:stretch/>
        </p:blipFill>
        <p:spPr>
          <a:xfrm>
            <a:off x="1403280" y="4689360"/>
            <a:ext cx="5905440" cy="19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20484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Introduc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Mapas de Kohon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Dimensionalidad Intríns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HDS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Metodología y Plan de Trabaj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Referenci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20484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Arial"/>
              </a:rPr>
              <a:t>3. Dimensionalidad Intrínsic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94920" y="1988640"/>
            <a:ext cx="82184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Los datos suelen encontrarse embedid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Es posible estimar la DI de un conjunto de dat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Hay relación entre la calidad de VQ y la D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Hay diversas técnicas (Fractal, LPC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Computacionalmente bara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Suele ser subjetiv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85920" y="1268280"/>
            <a:ext cx="8218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 Important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8360" y="20484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4. HDSO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99"/>
                </a:solidFill>
                <a:latin typeface="Arial"/>
              </a:rPr>
              <a:t>Objetivo: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s-CL" sz="2800" spc="-1" strike="noStrike">
                <a:solidFill>
                  <a:srgbClr val="ffffff"/>
                </a:solidFill>
                <a:latin typeface="Arial"/>
              </a:rPr>
              <a:t>“Explorar datos multidimensionales en mapas de Kohonen de alta dimensionalidad usando técnicas de proyección y visualización de información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Motivcació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Los datos suelen estar embedid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La dimensionalidad global difiere de la loc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Kohonen pierde mucha información en 2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c128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Usar técnicas de </a:t>
            </a:r>
            <a:r>
              <a:rPr b="0" lang="es-CL" sz="2800" spc="-1" strike="noStrike">
                <a:solidFill>
                  <a:srgbClr val="ffff99"/>
                </a:solidFill>
                <a:latin typeface="Arial"/>
              </a:rPr>
              <a:t>infovis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 para explor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68360" y="20484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4. HDSO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Exploración Básic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99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Estimar DI </a:t>
            </a:r>
            <a:r>
              <a:rPr b="0" lang="es-CL" sz="3200" spc="-1" strike="noStrike">
                <a:solidFill>
                  <a:srgbClr val="ffff99"/>
                </a:solidFill>
                <a:latin typeface="Arial"/>
              </a:rPr>
              <a:t>p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 del conjunto n-dimensio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99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onstruir Mapa en p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&lt;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 n dimensi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99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Proyectar  2-PCA sobre mapa en 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99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Selecciono una reg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99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Proyecto 2-PCA de la reg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99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Volver a 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20484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4. HDSO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Otros Elemento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99"/>
                </a:solidFill>
                <a:latin typeface="Arial"/>
              </a:rPr>
              <a:t>Linkear 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mapa en p, con mapa en 2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99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Mejorar Visualiz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99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Validar Resultad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ambiar método de V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Mapa de Navegación” (profundia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Soporte de Brush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oordenadas Paralel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Indicadores Calidad PCA*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68360" y="20484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5. Metodología y Plan de Trabaj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evisión Bibliográf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600" spc="-1" strike="noStrike">
                <a:solidFill>
                  <a:srgbClr val="ffffff"/>
                </a:solidFill>
                <a:latin typeface="Arial"/>
              </a:rPr>
              <a:t>Ago. 04 – Feb. 0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Generación de Conjuntos de Datos Artifici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600" spc="-1" strike="noStrike">
                <a:solidFill>
                  <a:srgbClr val="ffffff"/>
                </a:solidFill>
                <a:latin typeface="Arial"/>
              </a:rPr>
              <a:t>Ago. 04 – Feb. 0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Codificación de SOM Livian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600" spc="-1" strike="noStrike">
                <a:solidFill>
                  <a:srgbClr val="ffffff"/>
                </a:solidFill>
                <a:latin typeface="Arial"/>
              </a:rPr>
              <a:t>Ago. 04 – Feb. 0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esarrollo de PCA y otras proyecc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600" spc="-1" strike="noStrike">
                <a:solidFill>
                  <a:srgbClr val="ffffff"/>
                </a:solidFill>
                <a:latin typeface="Arial"/>
              </a:rPr>
              <a:t>Ago. 04 – Feb. 0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inking entre map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600" spc="-1" strike="noStrike">
                <a:solidFill>
                  <a:srgbClr val="ffffff"/>
                </a:solidFill>
                <a:latin typeface="Arial"/>
              </a:rPr>
              <a:t>Dic. 05 – Jun. 0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Armado del prototipo Explorad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600" spc="-1" strike="noStrike">
                <a:solidFill>
                  <a:srgbClr val="ffffff"/>
                </a:solidFill>
                <a:latin typeface="Arial"/>
              </a:rPr>
              <a:t>Dic. 05 – Jun. 0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uebas, Análisis y Resultad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600" spc="-1" strike="noStrike">
                <a:solidFill>
                  <a:srgbClr val="ffffff"/>
                </a:solidFill>
                <a:latin typeface="Arial"/>
              </a:rPr>
              <a:t>Jul. 05 – Ago. 0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edacción y Revisión Final de la Investiga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600" spc="-1" strike="noStrike">
                <a:solidFill>
                  <a:srgbClr val="ffffff"/>
                </a:solidFill>
                <a:latin typeface="Arial"/>
              </a:rPr>
              <a:t>Sep. 05 – Dic. 0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8360" y="20484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6. Referencia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</a:rPr>
              <a:t>Vesanto, Juha. </a:t>
            </a:r>
            <a:r>
              <a:rPr b="0" lang="es-CL" sz="1600" spc="-1" strike="noStrike">
                <a:solidFill>
                  <a:srgbClr val="ffff99"/>
                </a:solidFill>
                <a:latin typeface="Arial"/>
              </a:rPr>
              <a:t>“SOM-Based Data Visualization Methods”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</a:rPr>
              <a:t> (1999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K. Kumaraswamy, V. Megalooikonomou and C. Faloutsos. </a:t>
            </a:r>
            <a:r>
              <a:rPr b="0" lang="en-US" sz="1600" spc="-1" strike="noStrike">
                <a:solidFill>
                  <a:srgbClr val="ffff99"/>
                </a:solidFill>
                <a:latin typeface="Arial"/>
              </a:rPr>
              <a:t>“Fractal Dimension and Vector Quantization”.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Information Processing Letters, Vol. 91, No. 3, pp. 107-113, Aug. 2004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. Camastra, A. Vinciarelli. </a:t>
            </a:r>
            <a:r>
              <a:rPr b="0" lang="en-US" sz="1600" spc="-1" strike="noStrike">
                <a:solidFill>
                  <a:srgbClr val="ffff99"/>
                </a:solidFill>
                <a:latin typeface="Arial"/>
              </a:rPr>
              <a:t>“Estimating the Intrinsic Dimension of Data with a Fractal-Based Method”.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IEEE Transactions on Pattern Analysis and Machine Intelligence. Vol. 24 No.10. Oct. 2002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</a:rPr>
              <a:t>Kohonen, Teuvo. </a:t>
            </a:r>
            <a:r>
              <a:rPr b="0" lang="es-CL" sz="1600" spc="-1" strike="noStrike">
                <a:solidFill>
                  <a:srgbClr val="ffff99"/>
                </a:solidFill>
                <a:latin typeface="Arial"/>
              </a:rPr>
              <a:t>“Self Organizing Maps”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</a:rPr>
              <a:t> (1995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. demartines, and J. Herault, </a:t>
            </a:r>
            <a:r>
              <a:rPr b="0" lang="es-CL" sz="1600" spc="-1" strike="noStrike">
                <a:solidFill>
                  <a:srgbClr val="ffff99"/>
                </a:solidFill>
                <a:latin typeface="Arial"/>
              </a:rPr>
              <a:t>“Curvilinear Component Analysis: A Self-Organizing Neural Network for Nonlinear Mapping of Data Sets”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IEEE Trans. Neural Network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vol. 8, NO 1, 1997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</a:rPr>
              <a:t>Hastie;Stuetzle. </a:t>
            </a:r>
            <a:r>
              <a:rPr b="0" lang="es-CL" sz="1600" spc="-1" strike="noStrike">
                <a:solidFill>
                  <a:srgbClr val="ffff99"/>
                </a:solidFill>
                <a:latin typeface="Arial"/>
              </a:rPr>
              <a:t>“Principal Curves”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</a:rPr>
              <a:t> (1989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</a:rPr>
              <a:t>Sammon, J.W. </a:t>
            </a:r>
            <a:r>
              <a:rPr b="0" lang="es-CL" sz="1600" spc="-1" strike="noStrike">
                <a:solidFill>
                  <a:srgbClr val="ffff99"/>
                </a:solidFill>
                <a:latin typeface="Arial"/>
              </a:rPr>
              <a:t>“A nonlinear mapping for data structure analysis.”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</a:rPr>
              <a:t> (1969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</a:rPr>
              <a:t>Martinetz et.al. </a:t>
            </a:r>
            <a:r>
              <a:rPr b="0" lang="es-CL" sz="1600" spc="-1" strike="noStrike">
                <a:solidFill>
                  <a:srgbClr val="ffff99"/>
                </a:solidFill>
                <a:latin typeface="Arial"/>
              </a:rPr>
              <a:t>“Neural Gas network for vector quantization and its application to time series prediction.”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32960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 txBox="1"/>
          <p:nvPr/>
        </p:nvSpPr>
        <p:spPr>
          <a:xfrm>
            <a:off x="1835280" y="404640"/>
            <a:ext cx="56880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¿Preguntas?</a:t>
            </a:r>
            <a:endParaRPr b="0" lang="en-US" sz="18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20484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. Introducció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3848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Arial"/>
              </a:rPr>
              <a:t>La </a:t>
            </a:r>
            <a:r>
              <a:rPr b="0" lang="es-CL" sz="3600" spc="-1" strike="noStrike">
                <a:solidFill>
                  <a:srgbClr val="ffff99"/>
                </a:solidFill>
                <a:latin typeface="Arial"/>
              </a:rPr>
              <a:t>nube</a:t>
            </a:r>
            <a:r>
              <a:rPr b="0" lang="es-CL" sz="3600" spc="-1" strike="noStrike">
                <a:solidFill>
                  <a:srgbClr val="ffffff"/>
                </a:solidFill>
                <a:latin typeface="Arial"/>
              </a:rPr>
              <a:t> de dato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CR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Weblo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Estrell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Frecuencias de tetranucléotid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Bibliote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Fract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E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564000" y="1916280"/>
            <a:ext cx="528156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20484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. Introducció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gunas pregunta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¿Qué datos? ¿Cuánto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¿Cómo los ordenamo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¿Cómo los manipulamo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¿Cómo extraemos informació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¿Cómo los incorporamos a un PT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971640" y="5300640"/>
            <a:ext cx="1728720" cy="504720"/>
          </a:xfrm>
          <a:prstGeom prst="rightArrow">
            <a:avLst>
              <a:gd name="adj1" fmla="val 50000"/>
              <a:gd name="adj2" fmla="val 85628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132000" y="5300640"/>
            <a:ext cx="2962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DataMining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20484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. Introducció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83552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rendizaje No-Supervis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do un conjunto de dat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¿Cómo se distribuye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¿Cómo se relaciona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¿En qué espacio vive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c128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ómo los puedo ver, representar y entender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364000" y="1144440"/>
            <a:ext cx="3240360" cy="31672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5580000" y="4416480"/>
            <a:ext cx="288144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20484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. Introducció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6121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Cuantización Vectorial (VQ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Representar al conjunto de datos por </a:t>
            </a:r>
            <a:r>
              <a:rPr b="0" lang="es-CL" sz="2400" spc="-1" strike="noStrike">
                <a:solidFill>
                  <a:srgbClr val="ffff99"/>
                </a:solidFill>
                <a:latin typeface="Arial"/>
              </a:rPr>
              <a:t>vectores prototip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Compres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Comprens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Cluster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K-Mea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Jerárquic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KN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Vorono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Funciónes Distanc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211640" y="2637000"/>
            <a:ext cx="4537080" cy="35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20484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. Introducció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932360" y="2282760"/>
            <a:ext cx="3809880" cy="38102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250920" y="1484280"/>
            <a:ext cx="5616360" cy="44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uantización Vectorial (VQ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Problema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iversos tipos de atribut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Escalabil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Formas Arbitrar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Sensibilidad a Outli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Parámetros de Entra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20484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. Introducció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18608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Proyección Vectorial (VP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Análisis de Componentes Princip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99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Matriz de Covarianz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99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igen values, vecto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Obtenem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99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Variables No- Correlacionad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99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Ordenados por Varianz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99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s sólo una transf. Line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99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Buena partid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643280" y="2055960"/>
            <a:ext cx="4038840" cy="30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20484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. Introducció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412640"/>
            <a:ext cx="713916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Proyección Vectorial (VP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CCA, CDA, NPCA, MDS, Sammon Mapping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888840" y="3068640"/>
            <a:ext cx="7428240" cy="31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6T00:08:45Z</dcterms:created>
  <dc:creator>.</dc:creator>
  <dc:description/>
  <dc:language>en-US</dc:language>
  <cp:lastModifiedBy>julie lagos</cp:lastModifiedBy>
  <dcterms:modified xsi:type="dcterms:W3CDTF">2004-11-10T13:25:55Z</dcterms:modified>
  <cp:revision>151</cp:revision>
  <dc:subject/>
  <dc:title>Visualización de Información</dc:title>
</cp:coreProperties>
</file>