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6.jpeg" ContentType="image/jpe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AE7E-A6C5-41DC-A841-059A2BF0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C9FA-E90C-4085-841F-3D32AABE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B5EE-3B08-4AD1-B0F5-FC3DDA5A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1E6D-F4D5-49EC-92E7-BDAF2348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04FB-CA64-4F35-8906-77CB148A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C193-7590-49FE-B4D9-DFA08A93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EE37-F524-4E02-BD46-4DBBA310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59A2-A78A-43D8-AAD8-60074D19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82F5-36C5-4EE2-ACAB-99308900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1B75-E8EB-48BF-9B6E-D43D959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19F3-5476-43AE-B204-2268D37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B669-B6BB-4F43-B1CC-D38F0EA9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59DF-1B40-4EA3-9AC2-6FE50F82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1BB-831E-4D3A-B5FB-95C79DB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1C7-5B88-4E84-8F1E-A829150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FD3-9706-47E3-AE1E-A3EE0D3D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4DA-7F53-4DDC-B12C-AA59B052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DC0F-1B7E-4EA8-A072-2A0E47C9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4686-5682-4D0A-BBB8-9AB0D20C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2EB3-BA62-4657-9448-FE13EA9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DD82-9DCF-4418-BACD-49F48194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844B-5510-48A3-A0BD-9B035CF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9CEA-5F79-4101-8AF3-34D4D3F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9917-3039-4366-8C62-FFE6071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F911-138A-41B1-869C-3B1F0B83F2C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1197000"/>
            <a:ext cx="137880" cy="141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843120"/>
            <a:ext cx="139680" cy="137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565200"/>
            <a:ext cx="136440" cy="138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324000" y="1015560"/>
            <a:ext cx="8497800" cy="36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9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723C-AF67-4720-92F2-1978CA78ED8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319120"/>
            <a:ext cx="63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DS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ción de Mapas de Kohonen de Alta Dimension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51280" y="4365720"/>
            <a:ext cx="539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bastián Be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rofesor Guía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chard We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12536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agíster en Gestión de Ope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Visualizar un conjunto de datos de alta dimensionalidad en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un mapa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de baja dimensionalidad (2)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24360" y="3357720"/>
            <a:ext cx="25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c128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ye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c1287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335772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ant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49440" y="5157720"/>
            <a:ext cx="57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pas de Koh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944800">
            <a:off x="2231640" y="43308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8655200">
            <a:off x="5903640" y="4330800"/>
            <a:ext cx="1008000" cy="360000"/>
          </a:xfrm>
          <a:prstGeom prst="rightArrow">
            <a:avLst>
              <a:gd name="adj1" fmla="val 50000"/>
              <a:gd name="adj2" fmla="val 7000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731960"/>
            <a:ext cx="7417080" cy="4361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oritmo 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izar lo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contrar neurona ganadora (B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dificar los vectore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ver a 3 hasta que no ocurran cambios significativos en 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27664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8000" y="3141720"/>
                <a:ext cx="3816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4164120"/>
                <a:ext cx="36716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95640" y="481824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084720" y="421488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ara 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a forma de ver el map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1782720"/>
            <a:ext cx="7355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ámetros del Mode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nición de la función de vecindad y radios de converg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sa de aprendiz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p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line v/s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mensionalidad del m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ciencias de S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 adapatarse a una Gr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utacionalmente Cost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mo definir el número de neuronas requ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e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ervación Topológ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icil Visualizar en más de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DI de un conjunto de datos es el mínimo número de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variables libr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que se requieren para representar los datos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sin pérdida de informació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rqué encontrar la D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horrar Esp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jorar Velo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pacidad de Generalización Óp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728352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 Dimensionalidad Frac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tatistically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lf-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¿Cómo aumenta el número de vecinos a medida que aumenta la dista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9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alidad Frac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91160" cy="798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5520" cy="68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1873080" cy="43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3500280"/>
            <a:ext cx="82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emos una cota mínima de datos requeridos para estimar la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56536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l de Correl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689360"/>
            <a:ext cx="59054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pas de Koh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mensionalidad Intrín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DS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todología y Plan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fer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ncontrarse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posible estimar la DI de un conjunto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relación entre la calidad de VQ y la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diversas técnicas (Fractal, LP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utacionalmente bar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le ser su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920" y="1268280"/>
            <a:ext cx="82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 Importa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Objetiv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“Explorar datos multidimensionales en mapas de Kohonen de alta dimensionalidad usando técnicas de proyección y visualización de informació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tiv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star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dimensionalidad global difiere de l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Kohonen pierde mucha información en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sar técnicas de </a:t>
            </a: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nfovi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ara explo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loración Bás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imar DI </a:t>
            </a: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conjunto n-dimen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ruir Mapa en 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n dimen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ar  2-PCA sobre mapa e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lecciono un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 2-PCA de l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ver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Elem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Linkear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en p, con mapa en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Visual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idar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mbiar método de V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de Navegación” (profundi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porte de Br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ordenadas Parale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dicadores Calidad PCA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etodología y Plan de Traba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neración de Conjuntos de Datos Artifi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dificación de SOM Livi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o de PCA y otras proy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inking entre m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mado del prototipo Explo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uebas, Análisis y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Jul. 05 – Ago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acción y Revisión Final de la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Sep. 05 – Dic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Refere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Vesanto, Juha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OM-Based Data Visualization Method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Kumaraswamy, V. Megalooikonomou and C. Faloutsos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Fractal Dimension and Vector Quantization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formation Processing Letters, Vol. 91, No. 3, pp. 107-113, Aug. 2004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. Camastra, A. Vinciarelli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Estimating the Intrinsic Dimension of Data with a Fractal-Based Method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EEE Transactions on Pattern Analysis and Machine Intelligence. Vol. 24 No.10. Oct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Kohonen, Teuvo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elf Organizing Map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. demartines, and J. Herault,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Curvilinear Component Analysis: A Self-Organizing Neural Network for Nonlinear Mapping of Data Set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EEE Trans. Neural Network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vol. 8, NO 1, 199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Hastie;Stuetzle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Principal Curve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8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ammon, J.W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A nonlinear mapping for data structure analysis.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6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Martinetz et.al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Neural Gas network for vector quantization and its application to time series predictio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2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35280" y="40464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Preguntas?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CL" sz="3600" spc="-1" strike="noStrike">
                <a:solidFill>
                  <a:srgbClr val="ffff99"/>
                </a:solidFill>
                <a:latin typeface="Arial"/>
              </a:rPr>
              <a:t>nub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de dat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s de tetranucléo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ibliot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c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916280"/>
            <a:ext cx="5281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as pregun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datos? ¿Cuán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orden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manipul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extraemos inform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incorporamos a un PT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300640"/>
            <a:ext cx="1728720" cy="504720"/>
          </a:xfrm>
          <a:prstGeom prst="rightArrow">
            <a:avLst>
              <a:gd name="adj1" fmla="val 50000"/>
              <a:gd name="adj2" fmla="val 856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32000" y="530064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taMining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ndizaje No-Supervis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o un conjunto de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distribu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relacion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n qué espacio vi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128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los puedo ver, representar y enten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1144440"/>
            <a:ext cx="3240360" cy="31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41648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612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r al conjunto de datos por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vectores proto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-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erárqu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oron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ónes Dis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537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228276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484280"/>
            <a:ext cx="561636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versos tipos de atrib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as Arbitr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nsibilidad a Out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ámetros de Ent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Análisis de Componentes Princip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riz de Co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igen values, ve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b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riables No- Cor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Ordenados por 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sólo una transf.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uena pa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20559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139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CA, CDA, NPCA, MDS, Sammon Mapp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8840" y="3068640"/>
            <a:ext cx="74282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0:08:45Z</dcterms:created>
  <dc:creator>.</dc:creator>
  <dc:description/>
  <dc:language>en-US</dc:language>
  <cp:lastModifiedBy>julie lagos</cp:lastModifiedBy>
  <dcterms:modified xsi:type="dcterms:W3CDTF">2004-11-10T13:25:55Z</dcterms:modified>
  <cp:revision>151</cp:revision>
  <dc:subject/>
  <dc:title>Visualización de Información</dc:title>
</cp:coreProperties>
</file>