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6.jpeg" ContentType="image/jpeg"/>
  <Override PartName="/ppt/media/image1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7FCA2-9060-4BD9-A47F-C6C9EF94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49499-9DF2-4005-9E69-923B1B10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94FC8-8986-4B39-BDE9-4E2454A7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5F2C6-AE2E-4294-AD69-807824DD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9498-FCEA-4E35-A371-ABE3BDDB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8178-6B1C-4DD0-9B62-75D45338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3D03-9854-4312-BBF7-93151B7B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CC94-064E-46C3-84E6-3B4E00AB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CFA6-83B2-4D4D-A91B-A5FE320B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360" y="2048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9A17-9CEE-4006-977F-41452EB9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9323-3044-4F54-8838-B9D0E5BB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2CDB2-03FE-4AC1-AC89-1C92DACB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5B5D-DEE7-43EA-B8C4-2057345B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45A6-190A-45AB-AAEE-A891FB88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516C-0319-4F77-81BB-DF338AA4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CB95-C817-468D-B9F9-5E0A8D0B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05AD-2F96-4A77-83BC-CE67EADF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24E7B-5F47-4E94-85F6-7FFDE827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D2698-3BA2-4EB9-B1F5-6A11CD9A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65B88-B974-45CC-A023-E45CDAC6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048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301B-87DC-4405-87C3-D74B5ADA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C3FE3-A8FC-4AA1-9E7F-5BF27828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756C-7B2B-463E-9653-C1E1D8A3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43842-0B40-4E79-A6A5-7C24BDC9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C795-7E78-4824-9BF1-B2A7170A2587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9680" y="1197000"/>
            <a:ext cx="137880" cy="141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7560" y="843120"/>
            <a:ext cx="139680" cy="137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74680" y="565200"/>
            <a:ext cx="136440" cy="138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324000" y="1015560"/>
            <a:ext cx="8497800" cy="367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9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48CA-C4D9-45DE-BA77-4EB15F56B7FB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4360" y="2319120"/>
            <a:ext cx="63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HDS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ción de Mapas de Kohonen de Alta Dimension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51280" y="4365720"/>
            <a:ext cx="5392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enta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bastián Be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Profesor Guía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chard Web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1125360"/>
            <a:ext cx="6400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Magíster en Gestión de Oper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rebuchet MS"/>
              </a:rPr>
              <a:t>Universidad de Ch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de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Visualizar un conjunto de datos de alta dimensionalidad en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un mapa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de baja dimensionalidad (2)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724360" y="3357720"/>
            <a:ext cx="259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c1287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yec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c1287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3357720"/>
            <a:ext cx="29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uantiza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49440" y="5157720"/>
            <a:ext cx="575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pas de Kohon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 rot="2944800">
            <a:off x="2231640" y="43308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gradFill rotWithShape="0">
            <a:gsLst>
              <a:gs pos="0">
                <a:srgbClr val="fc1287"/>
              </a:gs>
              <a:gs pos="100000">
                <a:srgbClr val="74083e"/>
              </a:gs>
            </a:gsLst>
            <a:lin ang="245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rot="18655200">
            <a:off x="5903640" y="4330800"/>
            <a:ext cx="1008000" cy="360000"/>
          </a:xfrm>
          <a:prstGeom prst="rightArrow">
            <a:avLst>
              <a:gd name="adj1" fmla="val 50000"/>
              <a:gd name="adj2" fmla="val 70000"/>
            </a:avLst>
          </a:prstGeom>
          <a:gradFill rotWithShape="0">
            <a:gsLst>
              <a:gs pos="0">
                <a:srgbClr val="fc1287"/>
              </a:gs>
              <a:gs pos="100000">
                <a:srgbClr val="74083e"/>
              </a:gs>
            </a:gsLst>
            <a:lin ang="245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6769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: “World Poverty Map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6920" y="1731960"/>
            <a:ext cx="7417080" cy="4361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6165720"/>
            <a:ext cx="70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9 Variables Asociadas a la Calidad de Vida del BM. (HU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6769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: “World Poverty Map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6165720"/>
            <a:ext cx="70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9 Variables Asociadas a la Calidad de Vida del BM. (HU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911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goritmo S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icializar los protot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contrar neurona ganadora (BM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odificar los vectores protot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olver a 3 hasta que no ocurran cambios significativos en el ma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195640" y="2276640"/>
                <a:ext cx="1295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908000" y="3141720"/>
                <a:ext cx="3816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"/>
                      </m:dPr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95640" y="4164120"/>
                <a:ext cx="36716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195640" y="4818240"/>
                <a:ext cx="1800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084720" y="4214880"/>
            <a:ext cx="18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para 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є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6769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ra forma de ver el map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6165720"/>
            <a:ext cx="70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9 Variables Asociadas a la Calidad de Vida del BM. (HU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1782720"/>
            <a:ext cx="73551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arámetros del Mode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finición de la función de vecindad y radios de converg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sa de aprendiza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Ép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nline v/s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12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mensionalidad del ma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ficiencias de SO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liga adapatarse a una Gri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utacionalmente Cost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ómo definir el número de neuronas requer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e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eservación Topológ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12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ficil Visualizar en más de 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 DI de un conjunto de datos es el mínimo número de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variables libre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que se requieren para representar los datos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sin pérdida de informació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Porqué encontrar la D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horrar Espa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ejorar Veloc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apacidad de Generalización Ópt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22000"/>
            <a:ext cx="728352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mplo Dimensionalidad Frac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Statistically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Self-Simi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¿Cómo aumenta el número de vecinos a medida que aumenta la distanc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0563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69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mensionalidad Frac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91160" cy="798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1865520" cy="680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284720" y="4005360"/>
            <a:ext cx="1873080" cy="433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0920" y="3500280"/>
            <a:ext cx="820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emos una cota mínima de datos requeridos para estimar la D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2565360"/>
            <a:ext cx="4038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l de Correl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403280" y="4689360"/>
            <a:ext cx="590544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apas de Koh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mensionalidad Intríns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DS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todología y Plan de Traba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fer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184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datos suelen encontrarse embed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 posible estimar la DI de un conjunto de da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y relación entre la calidad de VQ y la 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y diversas técnicas (Fractal, LP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mputacionalmente bar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uele ser su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920" y="1268280"/>
            <a:ext cx="8218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 Importa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HDS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Objetiv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“Explorar datos multidimensionales en mapas de Kohonen de alta dimensionalidad usando técnicas de proyección y visualización de información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otiv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datos suelen estar embed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dimensionalidad global difiere de la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Kohonen pierde mucha información en 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c12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sar técnicas de </a:t>
            </a: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infovi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ara explor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HDS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ploración Bás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imar DI </a:t>
            </a: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p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del conjunto n-dimen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struir Mapa en 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n dimen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yectar  2-PCA sobre mapa en 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lecciono una reg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yecto 2-PCA de la reg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Volver a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HDS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s Element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Linkear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pa en p, con mapa en 2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jorar Visual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alidar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mbiar método de V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pa de Navegación” (profundi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oporte de Bru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ordenadas Parale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dicadores Calidad PCA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Metodología y Plan de Trabaj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visión Biblio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eneración de Conjuntos de Datos Artifi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dificación de SOM Livi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o de PCA y otras proyec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inking entre map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Dic. 05 – Jun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mado del prototipo Explor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Dic. 05 – Jun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uebas, Análisis y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Jul. 05 – Ago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acción y Revisión Final de la Investig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Sep. 05 – Dic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 Referenci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Vesanto, Juha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SOM-Based Data Visualization Method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9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. Kumaraswamy, V. Megalooikonomou and C. Faloutsos. 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“Fractal Dimension and Vector Quantization”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nformation Processing Letters, Vol. 91, No. 3, pp. 107-113, Aug. 2004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. Camastra, A. Vinciarelli. 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“Estimating the Intrinsic Dimension of Data with a Fractal-Based Method”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EEE Transactions on Pattern Analysis and Machine Intelligence. Vol. 24 No.10. Oct. 200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Kohonen, Teuvo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Self Organizing Map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9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. demartines, and J. Herault,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Curvilinear Component Analysis: A Self-Organizing Neural Network for Nonlinear Mapping of Data Set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EEE Trans. Neural Network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vol. 8, NO 1, 1997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Hastie;Stuetzle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Principal Curve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8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Sammon, J.W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A nonlinear mapping for data structure analysis.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6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Martinetz et.al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Neural Gas network for vector quantization and its application to time series prediction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29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835280" y="404640"/>
            <a:ext cx="56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¿Preguntas?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CL" sz="3600" spc="-1" strike="noStrike">
                <a:solidFill>
                  <a:srgbClr val="ffff99"/>
                </a:solidFill>
                <a:latin typeface="Arial"/>
              </a:rPr>
              <a:t>nube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de dato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Web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re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recuencias de tetranucléot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ibliote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rac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564000" y="1916280"/>
            <a:ext cx="52815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unas pregun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Qué datos? ¿Cuánt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los ordenam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los manipulam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extraemos inform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los incorporamos a un PT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300640"/>
            <a:ext cx="1728720" cy="504720"/>
          </a:xfrm>
          <a:prstGeom prst="rightArrow">
            <a:avLst>
              <a:gd name="adj1" fmla="val 50000"/>
              <a:gd name="adj2" fmla="val 8562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32000" y="5300640"/>
            <a:ext cx="296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taMining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8355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endizaje No-Supervis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do un conjunto de da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ómo se distribuy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ómo se relacion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n qué espacio viv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128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ómo los puedo ver, representar y enten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64000" y="1144440"/>
            <a:ext cx="3240360" cy="316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580000" y="4416480"/>
            <a:ext cx="288144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6121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ntización Vectorial (V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resentar al conjunto de datos por 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vectores prototi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mpre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mpren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K-Me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Jerárqu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KN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orono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unciónes Dist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211640" y="2637000"/>
            <a:ext cx="45370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32360" y="228276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0920" y="1484280"/>
            <a:ext cx="561636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antización Vectorial (V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blem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versos tipos de atribu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cal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rmas Arbitr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nsibilidad a Outl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ámetros de Ent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186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yección Vectorial (V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Análisis de Componentes Princip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riz de Covaria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igen values, vec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btenem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riables No- Correlacion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Ordenados por Varia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 sólo una transf. Lin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uena pa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3280" y="205596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1391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yección Vectorial (V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CA, CDA, NPCA, MDS, Sammon Mapping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88840" y="3068640"/>
            <a:ext cx="742824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00:08:45Z</dcterms:created>
  <dc:creator>.</dc:creator>
  <dc:description/>
  <dc:language>en-US</dc:language>
  <cp:lastModifiedBy>julie lagos</cp:lastModifiedBy>
  <dcterms:modified xsi:type="dcterms:W3CDTF">2004-11-10T13:25:55Z</dcterms:modified>
  <cp:revision>151</cp:revision>
  <dc:subject/>
  <dc:title>Visualización de Información</dc:title>
</cp:coreProperties>
</file>