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8F2-766F-4BCB-9191-3DBEA6E0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D14-D2F3-42B8-8E94-48CD0D80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B17-91D6-482F-A280-08EFA7AC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F38-7FE6-4C47-B9C1-BE255BBE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9D4E1-CD73-4D47-AFB4-C70243E649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77BBD-2CA1-4BE5-970C-8E6F4E0D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7827A-B6CE-44F1-BD57-9333F913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4E9E8-FE13-4349-9C25-E77CD6D9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4DAF5-4C5D-458A-9F3F-738DDE73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AEED7-D1FE-499B-9C91-0D9FB08E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27725-ED25-4828-8664-BC690DDA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290-4A13-4E7A-A3DA-1A647198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4E2F1-D035-410F-A462-E33CD1B5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A10CD-B065-4F54-8F04-904E40A4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C91D5-C2E9-4126-ADCE-A344E181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F241A-8D5A-47BA-B443-888AC49B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32B13-1552-47D6-9973-E1B3CFEAA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EC6-EBEB-4BD8-AA9D-55EB95FE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0BC-2E42-4734-B2D4-E9E43DE1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595-F963-48A1-B53F-ECCFBFC1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C68-C6ED-4E06-82F1-33B9D84E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B02-9E0E-46D2-BFE0-A13EE00E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455-7446-495D-8DB8-D84CB08C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9BE-C25E-4312-BEAA-A39D6C5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47C7-B04E-4807-88DB-02C318CFCFFC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84440" y="64771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Magíster en gestión de operacion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5C68-9150-4261-AACF-E6D0E9DC6DD4}" type="slidenum">
              <a:rPr b="0" lang="es-MX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2046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바탕"/>
              </a:rPr>
              <a:t>Presentación tema de tesis:</a:t>
            </a:r>
            <a:br>
              <a:rPr sz="3000"/>
            </a:br>
            <a:br>
              <a:rPr sz="3000"/>
            </a:b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Desarrollo de un modelo para el diseño de licitaciones aplicado en el ministerio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601956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Facultad de Ciencias Físicas y Matemática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Departamento de Ingeniería Industrial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92929"/>
                </a:solidFill>
                <a:latin typeface="Arial"/>
              </a:rPr>
              <a:t>Magíster en gestión de operacion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85080" y="260280"/>
          <a:ext cx="8380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260280"/>
                    <a:ext cx="8380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859280" y="4581360"/>
            <a:ext cx="514836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Alumno</a:t>
            </a: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Matías Pulido Solar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Profesor guí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Samuel Varas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292929"/>
                </a:solidFill>
                <a:uFillTx/>
                <a:latin typeface="Arial"/>
              </a:rPr>
              <a:t>Fecha: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92929"/>
                </a:solidFill>
                <a:latin typeface="Arial"/>
              </a:rPr>
              <a:t>20-10-04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Horizontes cortos de tiemp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ases no consideran algunos trade off com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probabilidad quiebre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Número de proveedores v/s volumen a negoc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-378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antidad a licitar v/s costo stoc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odalidad actual provoca pocas ofert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Multas mal dimensionad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No existe un modelo formal de evaluación para la adjudicación (fuera del alcance del tema de tesis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Posibles enf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gramación matemá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Función objetivo que incorpore trade-of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tricciones a estud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información histór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enchmark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Considerando programas similares a nivel internaciona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nalizando implicancias de determinados diseño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Bibliografía consul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ogramación entera mejora el proceso de licitación de raciones alimenticias”. Epstein, Henriquez, Catalán, Weintraub y Martinez. Marzo, 200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The design of auctions and tenders with quality thresholds: The symmetric case”. Martin Cripps, Norman Ireland.199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“</a:t>
            </a: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uctions and bidding: A primer”. Paul Milgrom. Journal of Economics perspectives. Volumen 3, Número 3. 1989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Bases administrativas productos PNAC y PACAM, 30 de Abril de 2004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Carta Gan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gunt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824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바탕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Introducc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Descripción del proble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osibles enfoqu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Bibliografía consult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Carta gant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22957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ones de servicios públicos: una tendencia mundia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eficient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Gana la mejor ofer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Valores priva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Resultados equivalentes sin importar modalidad de licitació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2 etapa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señ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71640" y="1773360"/>
          <a:ext cx="7151760" cy="4573440"/>
        </p:xfrm>
        <a:graphic>
          <a:graphicData uri="http://schemas.openxmlformats.org/drawingml/2006/table">
            <a:tbl>
              <a:tblPr/>
              <a:tblGrid>
                <a:gridCol w="1903320"/>
                <a:gridCol w="2863800"/>
                <a:gridCol w="2384640"/>
              </a:tblGrid>
              <a:tr h="1099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tapa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esafí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Características estudios previos realizados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Diseño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atractiva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Incentivos a cumplir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Bases orientadas a la        reducción de costos de L.P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 (teoría de agencia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djudicación</a:t>
                      </a:r>
                      <a:endParaRPr b="0" lang="en-US" sz="22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Asignación proveedor óptimo.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Operacione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Económ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292929"/>
                          </a:solidFill>
                          <a:latin typeface="바탕"/>
                        </a:rPr>
                        <a:t>Técnicos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Licitación de programas de alimentación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NAC: Orientado a mujeres embarazadas, nodrizas de bajo peso y niños menores de 6 añ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PACAM: Orientado a adultos mayor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resupuesto anual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292929"/>
                </a:solidFill>
                <a:latin typeface="바탕"/>
              </a:rPr>
              <a:t>$30,000 millon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1655640" cy="1082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84360" y="3068640"/>
            <a:ext cx="1944720" cy="1276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32360" y="2995560"/>
            <a:ext cx="1206360" cy="1486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79640" y="357192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634080" y="3067200"/>
            <a:ext cx="1216080" cy="122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570800" y="2851200"/>
            <a:ext cx="1573200" cy="1000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7929720" y="3859200"/>
            <a:ext cx="849240" cy="11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0072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5719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0" y="530064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.100.000 beneficia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3960" y="465120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481 Consultori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1161 Postas rurale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9640" y="17002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92929"/>
                </a:solidFill>
                <a:latin typeface="바탕"/>
              </a:rPr>
              <a:t>Cadena logís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Productos entregado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NAC: Leche fortificada, leche cereal y sop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PACAM: Sopa crem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42920" y="3213000"/>
          <a:ext cx="67690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213000"/>
                    <a:ext cx="67690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Importancia del rol de proveedor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ocial: Gravedad de quiebres de stock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Económico: Importancia en estructura de costo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3095640"/>
            <a:ext cx="6481800" cy="376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676120" y="3789360"/>
            <a:ext cx="346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Se licit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$27,000 millones!!!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바탕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바탕"/>
              </a:rPr>
              <a:t>Licitación actual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Se licita mediante 2 modalidad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División geográfica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directa: 4 zonas independient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Distribución por CENABAST: No existe divisió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0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바탕"/>
              </a:rPr>
              <a:t>Adjudicación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Comisión decida cualitativam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considera principalmente precio y comportamiento anterior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바탕"/>
              </a:rPr>
              <a:t>Se adjudica modalidad más convenien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5:20:33Z</dcterms:created>
  <dc:creator>Juan Pablo Torres</dc:creator>
  <dc:description/>
  <dc:language>en-US</dc:language>
  <cp:lastModifiedBy>julie lagos</cp:lastModifiedBy>
  <dcterms:modified xsi:type="dcterms:W3CDTF">2004-10-22T14:10:31Z</dcterms:modified>
  <cp:revision>51</cp:revision>
  <dc:subject/>
  <dc:title>Diapositiva 1</dc:title>
</cp:coreProperties>
</file>