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2FE-9F6F-4DD2-9F82-7DFF27A3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7FE-A377-44C1-B246-EC67E409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804-3FD2-4E18-9CD0-A49A761D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1D5-D185-4D8E-9D15-A2BA1589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A46C0-CAB3-445A-BF8E-839EA0AC5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F789-58B7-49EA-86BA-95F5F179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4533F-2E46-4687-8283-0A1CBB56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3EFE5-B3AB-4124-853D-BA1E8FF4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917F9-DD6C-4BEF-B96B-5F758148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7B6C9-F48E-4960-B3DD-A197B7AB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FC57-C457-4C71-B6D6-7323321C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0EA-5EFE-49AC-8A4D-43259B1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EC963-6D9F-4E61-B474-ACF54968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F880F-A86A-4AA7-8492-571240C9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9E6E6-E54C-4AE5-A96F-CD51F058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0AD91-7910-43E9-BEB1-B533EF19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656FA-DAE8-4F12-98B7-1093832FD1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3A8-EE55-46D3-9E09-5C5D44C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951-586D-4B55-B17C-2A1CDFC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247-BE67-478E-90F0-C01BC0C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328-1B78-4762-BBB1-619D16AB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24E-BA36-4374-933A-BB86BB5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114-2445-4FE8-95E9-E4C95EA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3B5-2F09-4AE0-8C01-6975152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3ECE-3A30-46DC-80F8-AF5628E88E65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84440" y="64771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Magíster en gestión de operaci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C38B-5926-438E-B832-B37D0804822C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</a:rPr>
              <a:t>Presentación tema de tesis:</a:t>
            </a:r>
            <a:br>
              <a:rPr sz="3000"/>
            </a:b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Desarrollo de un modelo para el diseño de licitaciones aplicado en el ministeri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601956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Facultad de Ciencias Físicas y Matemática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Departamento de Ingeniería Industr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Magíster en gestión de operacio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85080" y="260280"/>
          <a:ext cx="8380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260280"/>
                    <a:ext cx="838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59280" y="4581360"/>
            <a:ext cx="5148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Alumno</a:t>
            </a: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Matías Pulido Solar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Profesor guí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Samuel Vara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Fec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20-10-0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Horizontes cortos de tiemp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ases no consideran algunos trade off com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probabilidad quiebre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volumen a negoc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antidad a licitar v/s costo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odalidad actual provoca pocas ofert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ultas mal dimensionad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No existe un modelo formal de evaluación para la adjudicación (fuera del alcance del tema de tesis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Posibles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gramación matemá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Función objetivo que incorpore trade-o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tricciones a estud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información histó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programas similares a nivel interna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nalizando implicancias de determinados diseñ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Bibliografía consul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ogramación entera mejora el proceso de licitación de raciones alimenticias”. Epstein, Henriquez, Catalán, Weintraub y Martinez. Marzo, 200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The design of auctions and tenders with quality thresholds: The symmetric case”. Martin Cripps, Norman Ireland.199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uctions and bidding: A primer”. Paul Milgrom. Journal of Economics perspectives. Volumen 3, Número 3. 1989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Bases administrativas productos PNAC y PACAM, 30 de Abril de 200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Carta Gan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824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Introdu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Descripción del probl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osibles enfo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ibliografía consul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Carta gant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295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ones de servicios públicos: una tendencia mundi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eficie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Gana la mejor ofer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Valores priv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ultados equivalentes sin importar modalidad de licit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2 etap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señ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1773360"/>
          <a:ext cx="7151760" cy="4573440"/>
        </p:xfrm>
        <a:graphic>
          <a:graphicData uri="http://schemas.openxmlformats.org/drawingml/2006/table">
            <a:tbl>
              <a:tblPr/>
              <a:tblGrid>
                <a:gridCol w="1903320"/>
                <a:gridCol w="2863800"/>
                <a:gridCol w="2384640"/>
              </a:tblGrid>
              <a:tr h="109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tapa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esafí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Características estudios previos realizad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iseño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atractiva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Incentivos a cumpli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orientadas a la        reducción de costos de L.P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 (teoría de agenc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djudicación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signación proveedor óptimo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Licitación de programas de alimentació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NAC: Orientado a mujeres embarazadas, nodrizas de bajo peso y niños menores de 6 añ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ACAM: Orientado a adultos may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esupuesto anu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$30,000 mill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1944720" cy="127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995560"/>
            <a:ext cx="120636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357192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34080" y="3067200"/>
            <a:ext cx="121608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570800" y="2851200"/>
            <a:ext cx="15732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929720" y="3859200"/>
            <a:ext cx="84924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0" y="530064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.100.000 beneficia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3960" y="46512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481 Consulto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161 Postas rural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640" y="17002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92929"/>
                </a:solidFill>
                <a:latin typeface="바탕"/>
              </a:rPr>
              <a:t>Cadena logís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ductos entregado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NAC: Leche fortificada, leche cereal y sop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ACAM: Sopa cr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3213000"/>
          <a:ext cx="67690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13000"/>
                    <a:ext cx="6769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Importancia del rol de proveed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ocial: Gravedad de quiebres de st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Económico: Importancia en estructura de cost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095640"/>
            <a:ext cx="6481800" cy="376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76120" y="378936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Se lici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$27,000 millones!!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Se licita mediante 2 modalida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visión geográfic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: 4 zonas independ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: No existe divisió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Comisión decida cualitativ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considera principalmente precio y comportamiento anteri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adjudica modalidad más conveni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5:20:33Z</dcterms:created>
  <dc:creator>Juan Pablo Torres</dc:creator>
  <dc:description/>
  <dc:language>en-US</dc:language>
  <cp:lastModifiedBy>julie lagos</cp:lastModifiedBy>
  <dcterms:modified xsi:type="dcterms:W3CDTF">2004-10-22T14:10:31Z</dcterms:modified>
  <cp:revision>51</cp:revision>
  <dc:subject/>
  <dc:title>Diapositiva 1</dc:title>
</cp:coreProperties>
</file>