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C862-45AB-4B1A-8E24-729BDCBE1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3951-DA99-40C6-A839-1F3C36BE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09D-88A9-4A05-8380-34F12627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504-9AF4-4018-A57F-9ACAA7F21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804F7-E537-4453-B5DC-F6B4622F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DE35-308C-432B-96BD-91C6CF50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249B-2940-4CD0-B12B-F9EEE3A0C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D1EC-C5AB-4388-9B18-016F01DB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11C73-3076-4E52-A2E3-DA2F4C7B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CE0B-6D79-4E42-8DAF-35206976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8AE1-D667-4C08-916B-034C267A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572-4242-43BB-89E9-9397F15E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4404-3A7D-4844-A737-1F2DA3BB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5EA0-976B-4691-A356-DA94989B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4FAE-3135-4F09-8351-26B783E6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5438-E88C-4262-9719-69AD15B2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AD15-A546-4A07-AD05-E6FA7F1B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031F-8A23-411B-830F-8394CB62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E7EC-1F39-45BD-9CFF-714F0C0B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E3C5-764C-491B-AF6B-E6C72B26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FB40-42BA-4C43-937F-2121C0BE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43D8-FEF2-434C-B1B0-6FCF8A60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7685-9F01-4656-85F8-0DE0C492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6F15-2385-4646-8895-A314E0D6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85EF-4D55-4760-81EF-C934DA986B2D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 Narrow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 Narrow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4291-732F-466E-B62D-038F450BCE1E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839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rebuchet MS"/>
                <a:ea typeface="Times New Roman"/>
              </a:rPr>
              <a:t>Desarrollo de un simulador de mercado para la gestión de categorías en supermercados</a:t>
            </a: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lejandra Puente 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02760" y="5680080"/>
            <a:ext cx="669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IN79L Preparación de Tesis    </a:t>
            </a: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Primavera 2004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Software especializado y amigable que permita mostrar los efectos de decisiones que tomen los administradores de categorías, sin riesgo de pérdidas de diner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629400" y="4038480"/>
            <a:ext cx="2154240" cy="2530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315920" y="56386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Tesis</a:t>
            </a:r>
            <a:endParaRPr b="0" lang="en-US" sz="2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Plan de trabaj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57200" y="152280"/>
          <a:ext cx="8381880" cy="63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280"/>
                    <a:ext cx="8381880" cy="63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Referenc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“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nálisis y evaluación de los proyectos pilotos de Administración por Categorías en Chile”, Oscar Arce G. (2000), Memoria. Universidad de Chile, Facultad de Cs. Físicas y Matemáticas, Depto de Ingeniería Civil Industri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formación proporcionada por Verónica Moreno P. (tesista MGO, DII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“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imMarket: Multiagent-Based Customer Simulation and Decision Support for Category Management”, 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rndt Schwaiger and Björn Stahmer. M. Schillo et al. (Eds.): MATES 2003, LNAI 2831, pp. 74–84, 2003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“</a:t>
            </a:r>
            <a:r>
              <a:rPr b="0" lang="es-E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dministración por categorías, el caso de Industrias de Maíz y Alimentos y Supermercados Bravo”, Christian Paz G. (1999), Memoria. Universidad de Chile, Facultad de Cs. Físicas y Matemáticas, Depto de Ingeniería Civil Industrial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Introdu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Metodologí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Resultados espera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Plan de trabaj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Referenci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715000" y="4800600"/>
            <a:ext cx="313704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ntecede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CR (Efficient Customer Response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ategory Manage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Actualmente hay tesis y memorias relativas al tem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248520" y="4572000"/>
            <a:ext cx="2286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Gener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Desarrollo de herramienta amigable para capacitación de A.C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Específ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Tomar como base trabajos realizados y extraer los resultados útil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</a:rPr>
              <a:t>Entender y “Traducir” los resultados para incorporarlos en el diseño del softwar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ntegrar los modelos y variables relevantes en el desarrollo del software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238880" y="304920"/>
            <a:ext cx="160020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Revisión bibliográfica y trabajos actu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studiar modelos de comportamiento de compra y aplicabilidad al caso en estudio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Variables y reglas relevant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iseño preliminar del simulador de merca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Traspaso a código y depur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iseño de Manual de Usuar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Ava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Breve revisión de trabajo de tesis existe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odelación en Exten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parada la generación de datos y las corridas de simulación para decisiones de los A.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 deben copiar y pegar los datos manualmente a planillas excel y en algunos casos formato txt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Ingreso de parámetros se debe hacer “dentro” del model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7467480" y="304920"/>
            <a:ext cx="1274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95816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Inicializ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838080" y="1066680"/>
          <a:ext cx="7162920" cy="556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16292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914400" y="533160"/>
            <a:ext cx="795816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Simulación para el jue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80880" y="2666880"/>
          <a:ext cx="838224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66880"/>
                    <a:ext cx="838224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Y de la literatura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Para satisfacer las necesidades de los clientes hay que conocerlos..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imMarket: Simulación de consumidores individuales basados en sistema multi-agente y que incorpora factores externo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Utiliza redes de comportamiento (Bayesian nets).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Se modelan utilizando data mining (datos de tarjetas de clientes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60020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08:59:36Z</dcterms:created>
  <dc:creator>Alejandra Puente Ch.</dc:creator>
  <dc:description/>
  <dc:language>en-US</dc:language>
  <cp:lastModifiedBy>julie lagos</cp:lastModifiedBy>
  <dcterms:modified xsi:type="dcterms:W3CDTF">2004-10-22T14:10:09Z</dcterms:modified>
  <cp:revision>9</cp:revision>
  <dc:subject/>
  <dc:title>Desarrollo de un simulador de mercado para la gestión de categorías en supermercados  </dc:title>
</cp:coreProperties>
</file>