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115-3A55-4E17-803D-7E271570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4EF-10B2-4D69-995B-579BFEE2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782-067D-4172-BB5C-A864120E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4A1-F9BA-4E05-8D84-F4EF7ACF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0D64-1F70-48A9-B0DF-A999D10D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FAAD-6512-4189-9C48-25787AA5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0F74-FB33-478F-A137-1BC484DA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A8DF-E6E9-4705-9D63-269EE8D0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C92A-23E6-41E9-A167-D67F152A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DA56-B4E8-4207-85BF-4012BDFB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AA3C-8A99-4B2C-929F-E5B537E9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DB5-8A05-47F4-B760-58789CA9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9414-BD0F-401E-8852-7222EA56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7B9A-2FEE-4E45-BFC1-F45831EA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4C08-0767-402A-82BC-F0A3DA29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EC5D-A9D3-4100-8EEA-41A5843F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BEB2-61CE-4B8B-A7BB-1BFA6FE8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834-61B3-4F3A-B45E-40427EBB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756-7E98-4049-ACA5-EE9EA35A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A2E-E385-4776-8D7F-EFFD0D52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D51-FCA4-4A35-843D-38497E66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7BD-7167-4F3C-9682-3C5805A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BE6-F983-4782-915C-04B52AC8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5A3-0509-41E6-9317-C52A8A53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53B-3954-4A5E-A88C-80D3A936A7D0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4396-9029-4C70-B75F-E55A564615C0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esarrollo de un simulador de mercado para la gestión de categorías en supermercados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lejandra Puente 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568008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79L Preparación de Tesis    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imavera 2004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oftware especializado y amigable que permita mostrar los efectos de decisiones que tomen los administradores de categorías, sin riesgo de pérdidas de diner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154240" cy="2530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315920" y="5638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152280"/>
          <a:ext cx="8381880" cy="63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38188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álisis y evaluación de los proyectos pilotos de Administración por Categorías en Chile”, Oscar Arce G. (2000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formación proporcionada por Verónica Moreno P. (tesista MGO, DII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mMarket: Multiagent-Based Customer Simulation and Decision Support for Category Management”,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ndt Schwaiger and Björn Stahmer. M. Schillo et al. (Eds.): MATES 2003, LNAI 2831, pp. 74–84, 2003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dministración por categorías, el caso de Industrias de Maíz y Alimentos y Supermercados Bravo”, Christian Paz G. (1999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3137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CR (Efficient Customer Respons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ategory Manag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ctualmente hay tesis y memorias relativas al t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286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de herramienta amigable para capacitación de A.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pecíf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omar como base trabajos realizados y extraer los resultados útil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ntender y “Traducir” los resultados para incorporarlos en el diseñ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tegrar los modelos y variables relevantes en el desarroll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00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visión bibliográfica y trabajos actu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udiar modelos de comportamiento de compra y aplicabilidad al caso en estudio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Variables y reglas relevan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preliminar del simulador de merc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Traspaso a código y depur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de Manual de Usu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v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reve revisión de trabajo de tesis exist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odelación en Exte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parada la generación de datos y las corridas de simulación para decisiones de los A.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deben copiar y pegar los datos manualmente a planillas excel y en algunos casos formato tx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greso de parámetros se debe hacer “dentro” del model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7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95816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ici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38080" y="1066680"/>
          <a:ext cx="7162920" cy="55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9581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mulación para el jue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2666880"/>
          <a:ext cx="838224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838224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Y de la literatura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ara satisfacer las necesidades de los clientes hay que conocerlos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imMarket: Simulación de consumidores individuales basados en sistema multi-agente y que incorpora factores extern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Utiliza redes de comportamiento (Bayesian nets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modelan utilizando data mining (datos de tarjetas de cliente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0020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8:59:36Z</dcterms:created>
  <dc:creator>Alejandra Puente Ch.</dc:creator>
  <dc:description/>
  <dc:language>en-US</dc:language>
  <cp:lastModifiedBy>julie lagos</cp:lastModifiedBy>
  <dcterms:modified xsi:type="dcterms:W3CDTF">2004-10-22T14:10:09Z</dcterms:modified>
  <cp:revision>9</cp:revision>
  <dc:subject/>
  <dc:title>Desarrollo de un simulador de mercado para la gestión de categorías en supermercados  </dc:title>
</cp:coreProperties>
</file>