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5ED3-AE98-459F-9886-4AE7237F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4808-683E-42B7-80FA-62B37D82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BBC-0484-475F-9099-6C5015B3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19F5-07B3-4A6B-BAC5-F63D47F1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73CB-A31D-42C8-803E-4F4DB2B5C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3DA34-CB1E-4887-9D25-E7ECD4CCD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61EB7-42C4-4A7E-A665-86A6E380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BD84-3154-4FAC-BABE-E6E02F904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94E3-CC62-48C1-9DC4-F0319656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1FF9-6865-47B2-B8F5-1A9277E0F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6623-0BA7-4ADF-9370-D39E256A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5A9E-B317-4A4D-8B77-A460810B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B4FA-9E06-4CE4-9580-F965E8FD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C8491-08B6-4DF0-B727-C37D27FD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C3BA-A165-4DBE-94D0-3496086C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EF3B-97F4-4063-BC5B-0C3F9907C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5B2C4-5BB1-4B12-A93F-C2FA69985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7035-C180-4A06-A2E5-D64258F43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3A40-4DCF-4FEA-BC17-CDCDFBBA9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A349-EBB1-4041-AC6E-40BE455CF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951D-4036-4517-A3A1-F42CF1DD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A5EB-5062-4CC4-B55D-FDEC3F5B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B42C-6D95-4407-A4AF-71D85E91D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E02A-0894-421F-910F-5B1D6CB9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2D4D-B8FC-4B0B-B321-0F4FDBB164A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EF88-2CC0-406A-87D7-63E904155E5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89480" y="789120"/>
            <a:ext cx="7565040" cy="19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999900"/>
                </a:solidFill>
                <a:latin typeface="Garamond"/>
              </a:rPr>
              <a:t>Modelo de Programaci</a:t>
            </a:r>
            <a:r>
              <a:rPr b="0" lang="es-BO" sz="5300" spc="-1" strike="noStrike">
                <a:solidFill>
                  <a:srgbClr val="999900"/>
                </a:solidFill>
                <a:latin typeface="Garamond"/>
              </a:rPr>
              <a:t>ón de la Producción en Tintorería</a:t>
            </a:r>
            <a:endParaRPr b="0" lang="en-US" sz="53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228600" y="327024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3000" spc="-1" strike="noStrike">
                <a:solidFill>
                  <a:srgbClr val="000000"/>
                </a:solidFill>
                <a:latin typeface="Verdana"/>
              </a:rPr>
              <a:t>Caso: Fábrica Textil UNIVERSALTEX S.A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990720" y="4648320"/>
            <a:ext cx="1828800" cy="10969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077360" y="5105520"/>
            <a:ext cx="456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Verdana"/>
              </a:rPr>
              <a:t>Alumno: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Abel Gonzalo Salinas Colum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000" spc="-1" strike="noStrike">
                <a:solidFill>
                  <a:srgbClr val="000000"/>
                </a:solidFill>
                <a:latin typeface="Verdana"/>
              </a:rPr>
              <a:t>Profesor Tutor: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Andrés Weintra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Proceso de Planificación de Inquirie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edidos en sistema con información muy general (mediano a largo plazo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Reserva de capacidades en Knitting Program. Tintorería como caja negr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Creación en sistema de ordenes genéricas copiando las reservas y considerando Tintorería como máquina virtua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e reportan fechas de despacho de tela y flex da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Proceso de Planificación de AP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querimientos definitivos de tela por sistema y en detalle (corto a mediano plaz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emplazo de ordenes de Inqs por muchas ordenes de APs. Un Inq puede estar formado por uno o más AP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emplazo Inqs por APs en Knitting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álculo de requerimiento de materiales y de algunas cargas en Tintorer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Reservas en el Programa de Tintorería, reservando máquinas a las carg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Se reportan nuevas fechas de despacho de te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Proceso de Programación de AP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Ejecución de ordenes de acuerdo a cálculos y Programas de Tintorería y Tejedur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Subdivisión de órdenes asignándoles máquinas en Tejedur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reación de Dyelots por color o estilo, en función al cálculo de cargas o con crite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Asignación de material a ordenes de acuerdo a su disponi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Actualización del Programa de Tintorería con nuevos Dyelots o reemplazando cargas por Dyelo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opia del Programa de Tintorería en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Se reportan retrasos y estado de ped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EL PROBLEMA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Sistemas Alternos (Hojas Electrónicas)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Se utilizan en actividades com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lanificación y Programación de Tejeduría (Knitting Program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lanificación y Programación de Tintorer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álculo de materi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álculo de cargas de Tintorer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álculo de capac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álculo de químicos y colorant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Determinación de fech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EL PROBLEMA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¿Por qué Sistemas Alternos?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El sistema ERP actual carece 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Medios visuales apropi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Facilidad en el cambio de priorida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Identificación clara de pedidos y espacios asign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Consideración de capacidades fini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Un programa de tintorería automático, con información útil y fácil de prioriz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Herramientas para optimizar la program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EL PROBLEMA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EN RESUMEN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El sistema ERP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No es la única fuente de inform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No es el único medio para ingresar da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Así, no puede ser aprovechado para responder rápidamente al clien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Tampoco para mejorar la puntualidad en la entrega de product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0000"/>
                </a:solidFill>
                <a:latin typeface="Verdana"/>
              </a:rPr>
              <a:t>Aún así mantiene grandes cantidades de información útil y muy relevante, pero que no puede aprovechar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EL PROBLEMA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EN RESUMEN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Los sistemas altern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ermiten realizar de manera eficaz las actividades de planificación y progra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Son muy dependientes de las personas que los manej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Además son alimentados en gran parte con información del sistema ERP aunque manual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No todas sus soluciones son copiadas al sistema ER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Dan soluciones miopes y sub-óptimas a corto plazo y sin considerar todas las variables relevan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ff0000"/>
                </a:solidFill>
                <a:latin typeface="Verdana"/>
              </a:rPr>
              <a:t>No están integrados con el sistema ER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EL CASO DE TEJEDURÍ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80880" y="2846520"/>
            <a:ext cx="4114800" cy="3097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4724280" y="28954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787320" y="6033960"/>
            <a:ext cx="383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Visual Interactive Planning (V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853960" y="5958000"/>
            <a:ext cx="22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Knitting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1600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Adquisición del módulo VIP que eventualmente reemplazaría al Knitt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¿</a:t>
            </a: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EL CASO DE TINTORERÍA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3520" y="1635120"/>
            <a:ext cx="8076960" cy="36990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80880" y="54100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PROGRAMA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5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s-BO" sz="2800" spc="-1" strike="noStrike">
                <a:solidFill>
                  <a:srgbClr val="000000"/>
                </a:solidFill>
                <a:latin typeface="Verdana"/>
              </a:rPr>
              <a:t>Modelo de Programación de la Producción en Tintorerí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odelo de Programación 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ebe ser desarrollado también como sistema alte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ero integrado con el sistema ER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ebe permitir una visualización completa de la utilización de la cap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400" spc="-1" strike="noStrike">
                <a:solidFill>
                  <a:srgbClr val="999900"/>
                </a:solidFill>
                <a:latin typeface="Garamond"/>
              </a:rPr>
              <a:t>Agend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El Probl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 Solu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Objetivo Gener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eguntas o D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 idea 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eterminar diariamente o cuando se requiera, la secuencia de </a:t>
            </a:r>
            <a:r>
              <a:rPr b="0" lang="es-BO" sz="2800" spc="-1" strike="noStrike">
                <a:solidFill>
                  <a:srgbClr val="ff0000"/>
                </a:solidFill>
                <a:latin typeface="Verdana"/>
              </a:rPr>
              <a:t>TODOS</a:t>
            </a: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 los Dyelots pendientes a procesarse de la manera </a:t>
            </a:r>
            <a:r>
              <a:rPr b="0" lang="es-BO" sz="2800" spc="-1" strike="noStrike">
                <a:solidFill>
                  <a:srgbClr val="ff0000"/>
                </a:solidFill>
                <a:latin typeface="Verdana"/>
              </a:rPr>
              <a:t>“más conveniente”</a:t>
            </a: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 po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ujet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Capacidades mínima y máxima de cada máqu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ecuencia de col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ioridad de acuerdo al inicio del proceso siguiente según el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isponibilidad de materi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isponibilidad de químicos y color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Espacios disponi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90680" indent="-490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ujeto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Visión de Aps compl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Distinción entre APs planificados y program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Consideración de Inquiries y su reserva en una máquina virt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cesos y dur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Col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Tipo de tela, etc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Función Objetiv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inimizar el tiempo total de retra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inimizar costos de p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ff0000"/>
                </a:solidFill>
                <a:latin typeface="Verdana"/>
              </a:rPr>
              <a:t>Maximizar la utilización de la capac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LA SOLUCIÓN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OPUESTA ADICIONAL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s entradas del modelo propuesto serían los Dyelo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 carga de los Dyelots se calcula man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La propuesta adicional serí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odelo para optimizar y automatizar el cálculo del tamaño de los Dyelo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OBJETIVOS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OBJETIVO GENERAL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Brindar información completa, útil, oportuna y lo más aproximada a la realidad posible basada en soluciones óptimas y objetivas de tal modo que permita tomar decisiones de manera más rápida y coher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OBJETIVOS</a:t>
            </a:r>
            <a:br>
              <a:rPr sz="2800"/>
            </a:b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OBJETIVOS ESPECÍFICO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Utilizar de manera óptima la capacidad de tintore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ermitir decisiones acerca de la viabilidad de nuevos compromisos o adelantos de otros según se requi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Mejorar la calidad de la información debiendo ser el reflejo de lo que sucede en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Determinar verdaderos requerimientos de químicos y colora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otenciar el uso del sistema E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Fomentar la actualización de información en el sistema E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Lograr soluciones óptimas de manera objetiva y relativamente rápi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Automatizar los procesos de planificación y program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4000" spc="-1" strike="noStrike">
                <a:solidFill>
                  <a:srgbClr val="999900"/>
                </a:solidFill>
                <a:latin typeface="Garamond"/>
              </a:rPr>
              <a:t>PREGUNTAS O DUD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1676520"/>
            <a:ext cx="82296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2743200" y="2560680"/>
            <a:ext cx="365760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Descripción de la Empresa – Ametex S.A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Compañía fundada en 1965 en la ciudad de La Paz y considerada la empresa textil más importante de Boliv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Cadena textil integrada verticalmente en torno a ocho pla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rocesos desde el hilado hasta la costura y acabado de prendas de vestir de algod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Da empleo a 2.400 person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Ventas anuales de 35 millones de dóla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77% de las ventas corresponden a exportaciones principalmente a Estados Un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Producción de ocho millones de prendas anualmente para marcas como Polo Ralph Lauren, Polo Kids y Express principalm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000" spc="-1" strike="noStrike">
                <a:solidFill>
                  <a:srgbClr val="000000"/>
                </a:solidFill>
                <a:latin typeface="Verdana"/>
              </a:rPr>
              <a:t>Cuenta con un sistema ERP especializado en texti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Descripción de Universaltex S.A.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Fábrica textil que forma parte de la compañía Ametex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Aproximadamente 400 emple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cesos principales: tejido, tintorería, secado y acab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ateria prima: hilo de algod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Producto terminado: variedades de tela acabada de punt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Mercado Textil y de Prendas de Vestir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Mercado sofisticado que demanda innovaciones más frecuentes, mayor exclusividad, mayor variedad y mejor servi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Necesidades futuras cada vez más inciertas y sujetas a cambios más frecuent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urgimiento de mercados externos y por ende liberalización comerci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4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4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Misión de la Compañía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SUMINISTRAR A NUESTROS CLIENTES CON PRODUCTOS TEXTILES DE GRAN CALIDAD Y EN UN </a:t>
            </a:r>
            <a:r>
              <a:rPr b="0" lang="es-BO" sz="2800" spc="-1" strike="noStrike">
                <a:solidFill>
                  <a:srgbClr val="ff0000"/>
                </a:solidFill>
                <a:latin typeface="Verdana"/>
              </a:rPr>
              <a:t>TIEMPO OPORTUNO</a:t>
            </a:r>
            <a:r>
              <a:rPr b="0" lang="es-BO" sz="28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000000"/>
                </a:solidFill>
                <a:latin typeface="Verdana"/>
              </a:rPr>
              <a:t>Que se manifiesta 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cnología moderna para los equipos de produc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Laboratorio completamente equipado para el aseguramiento de la calida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Aseguramiento de la calidad en la línea, realizado por auditores certifica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Entrenamiento y motiva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ff0000"/>
                </a:solidFill>
                <a:latin typeface="Verdana"/>
              </a:rPr>
              <a:t>Sistema de información basado en un ERP especializado en la industria textil y de confeccio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8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Cadena Textil Integrada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315200" y="1523880"/>
            <a:ext cx="94608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302600" y="5334120"/>
            <a:ext cx="979560" cy="106668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838080" y="1676520"/>
            <a:ext cx="2645640" cy="2209680"/>
            <a:chOff x="838080" y="1676520"/>
            <a:chExt cx="2645640" cy="2209680"/>
          </a:xfrm>
        </p:grpSpPr>
        <p:sp>
          <p:nvSpPr>
            <p:cNvPr id="108" name=""/>
            <p:cNvSpPr/>
            <p:nvPr/>
          </p:nvSpPr>
          <p:spPr>
            <a:xfrm rot="16200000">
              <a:off x="914400" y="20574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cc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914400" y="25146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6200000">
              <a:off x="914400" y="34290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16200000">
              <a:off x="914400" y="29718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6200000">
              <a:off x="914400" y="1600200"/>
              <a:ext cx="380880" cy="533520"/>
            </a:xfrm>
            <a:prstGeom prst="downArrow">
              <a:avLst>
                <a:gd name="adj1" fmla="val 50000"/>
                <a:gd name="adj2" fmla="val 35019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24520" y="1676520"/>
              <a:ext cx="199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Fibra de algod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78080" y="2133720"/>
              <a:ext cx="60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Hi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90320" y="2590920"/>
              <a:ext cx="6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Tel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40720" y="3505320"/>
              <a:ext cx="20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Prendas de vest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428480" y="3048120"/>
              <a:ext cx="184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BO" sz="1800" spc="-1" strike="noStrike">
                  <a:solidFill>
                    <a:srgbClr val="000000"/>
                  </a:solidFill>
                  <a:latin typeface="Verdana"/>
                </a:rPr>
                <a:t>Piezas cortad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648320" y="1676520"/>
            <a:ext cx="1904760" cy="68580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HIL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48320" y="2895480"/>
            <a:ext cx="1904760" cy="6858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UNIVERSAL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4114800"/>
            <a:ext cx="190476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MAT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48320" y="4114800"/>
            <a:ext cx="190476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MI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52480" y="5334120"/>
            <a:ext cx="1905120" cy="685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M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4114800"/>
            <a:ext cx="1904760" cy="6858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BA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10080" y="2438280"/>
            <a:ext cx="38124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10080" y="365760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863600">
            <a:off x="2819520" y="4876920"/>
            <a:ext cx="38088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67480" y="48769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10080" y="4876920"/>
            <a:ext cx="38124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3962160" y="533376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8483000">
            <a:off x="4385880" y="474156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2455200">
            <a:off x="4190760" y="33523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9394400">
            <a:off x="6629400" y="33523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6705720" y="1752480"/>
            <a:ext cx="380880" cy="533520"/>
          </a:xfrm>
          <a:prstGeom prst="downArrow">
            <a:avLst>
              <a:gd name="adj1" fmla="val 50000"/>
              <a:gd name="adj2" fmla="val 3501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876920" y="5257800"/>
            <a:ext cx="182556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8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Proceso de Fabricación de Tela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6" name=""/>
          <p:cNvSpPr/>
          <p:nvPr/>
        </p:nvSpPr>
        <p:spPr>
          <a:xfrm>
            <a:off x="1905120" y="33526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Hilo Crud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Encon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19051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intor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de Hil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in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33526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jedu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irculares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Rectilín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77120" y="33526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intorerí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la Sól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y Ray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01000" y="33526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Secado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cab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3352680"/>
            <a:ext cx="106704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la Cruda 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repar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01000" y="19810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Almacé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Despa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48120" y="358128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2000" y="35812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095880" y="35812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358128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0800000">
            <a:off x="7391520" y="220932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8305560" y="28954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2133720"/>
            <a:ext cx="106668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ffff"/>
                </a:solidFill>
                <a:latin typeface="Verdana"/>
              </a:rPr>
              <a:t>C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3505320"/>
            <a:ext cx="1067040" cy="4572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ffffff"/>
                </a:solidFill>
                <a:latin typeface="Verdana"/>
              </a:rPr>
              <a:t>HIL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523880" y="358128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600" y="4597560"/>
            <a:ext cx="364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Hilo heather, cru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Hilo crudo bl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Hilo teñ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Cinta Cru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Cinta Teñ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Hilo heather, crudo y teñ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044000" y="2535480"/>
            <a:ext cx="947160" cy="816840"/>
            <a:chOff x="1044000" y="2535480"/>
            <a:chExt cx="947160" cy="816840"/>
          </a:xfrm>
        </p:grpSpPr>
        <p:sp>
          <p:nvSpPr>
            <p:cNvPr id="154" name=""/>
            <p:cNvSpPr/>
            <p:nvPr/>
          </p:nvSpPr>
          <p:spPr>
            <a:xfrm rot="19127400">
              <a:off x="1248480" y="2901240"/>
              <a:ext cx="761760" cy="228240"/>
            </a:xfrm>
            <a:prstGeom prst="rightArrow">
              <a:avLst>
                <a:gd name="adj1" fmla="val 50000"/>
                <a:gd name="adj2" fmla="val 8343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8218800">
              <a:off x="1019160" y="2764800"/>
              <a:ext cx="762120" cy="228240"/>
            </a:xfrm>
            <a:prstGeom prst="rightArrow">
              <a:avLst>
                <a:gd name="adj1" fmla="val 50000"/>
                <a:gd name="adj2" fmla="val 83478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2209680" y="2734560"/>
            <a:ext cx="384120" cy="549360"/>
            <a:chOff x="2209680" y="2734560"/>
            <a:chExt cx="384120" cy="549360"/>
          </a:xfrm>
        </p:grpSpPr>
        <p:sp>
          <p:nvSpPr>
            <p:cNvPr id="157" name=""/>
            <p:cNvSpPr/>
            <p:nvPr/>
          </p:nvSpPr>
          <p:spPr>
            <a:xfrm rot="16279200">
              <a:off x="2261520" y="2880000"/>
              <a:ext cx="469800" cy="183240"/>
            </a:xfrm>
            <a:prstGeom prst="rightArrow">
              <a:avLst>
                <a:gd name="adj1" fmla="val 50000"/>
                <a:gd name="adj2" fmla="val 6409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371200">
              <a:off x="2068200" y="2956680"/>
              <a:ext cx="469800" cy="183240"/>
            </a:xfrm>
            <a:prstGeom prst="rightArrow">
              <a:avLst>
                <a:gd name="adj1" fmla="val 50000"/>
                <a:gd name="adj2" fmla="val 64096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152388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28195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281952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251460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00200" y="297180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8120" y="3809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095880" y="38098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20120" y="3809880"/>
            <a:ext cx="30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077320" y="2971800"/>
            <a:ext cx="38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24382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07480" y="4572000"/>
            <a:ext cx="454860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la cruda (sólida, rayada o heath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la cruda prepa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la teñida o lav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la seca y acab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Tela de color, rayada y h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2800" spc="-1" strike="noStrike">
                <a:solidFill>
                  <a:srgbClr val="999900"/>
                </a:solidFill>
                <a:latin typeface="Garamond"/>
              </a:rPr>
              <a:t>INTRODUCCIÓN</a:t>
            </a:r>
            <a:br>
              <a:rPr sz="2800"/>
            </a:br>
            <a:r>
              <a:rPr b="0" lang="es-BO" sz="3600" spc="-1" strike="noStrike">
                <a:solidFill>
                  <a:srgbClr val="999900"/>
                </a:solidFill>
                <a:latin typeface="Garamond"/>
              </a:rPr>
              <a:t>Flujos de Planificación y Programación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160020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omercia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liz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15238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l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743200" y="39625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or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29200" y="26668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Operaci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238880" y="3962520"/>
            <a:ext cx="106704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rogram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y Control T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29200" y="3962520"/>
            <a:ext cx="1066680" cy="76176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Te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29200" y="1905120"/>
            <a:ext cx="990720" cy="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266688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Confec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029200" y="5257800"/>
            <a:ext cx="1066680" cy="76212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00"/>
                </a:solidFill>
                <a:latin typeface="Verdana"/>
              </a:rPr>
              <a:t>Hilad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05740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89440" y="2342160"/>
            <a:ext cx="326880" cy="42120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37160" y="2418120"/>
            <a:ext cx="326880" cy="4212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699000" y="2287440"/>
            <a:ext cx="374400" cy="3924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3429000"/>
            <a:ext cx="0" cy="53352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34290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486400" y="3429000"/>
            <a:ext cx="0" cy="53352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334120" y="342900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38680" y="4724280"/>
            <a:ext cx="0" cy="53352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86400" y="4724280"/>
            <a:ext cx="0" cy="53352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46680" y="2971800"/>
            <a:ext cx="99036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3124080"/>
            <a:ext cx="99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4267080"/>
            <a:ext cx="99036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934800" y="3367080"/>
            <a:ext cx="893520" cy="4284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010760" y="3519720"/>
            <a:ext cx="893160" cy="428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162920" y="5257800"/>
            <a:ext cx="12952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200" spc="-1" strike="noStrike">
                <a:solidFill>
                  <a:srgbClr val="000000"/>
                </a:solidFill>
                <a:latin typeface="Verdana"/>
              </a:rPr>
              <a:t>Te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4267080"/>
            <a:ext cx="99072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772400" y="4724280"/>
            <a:ext cx="0" cy="53352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20415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1 -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2953800">
            <a:off x="4235760" y="262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10 -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4692960" y="35344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6 -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5400000">
            <a:off x="4845240" y="48297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5 - 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rot="20045400">
            <a:off x="4115160" y="37335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2559240" y="361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3124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ff0000"/>
                </a:solidFill>
                <a:latin typeface="Verdana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1660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1 - 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rot="18904800">
            <a:off x="3429360" y="2209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3016440" y="361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9 -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4267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5302440" y="4906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6 - 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5400000">
            <a:off x="5150160" y="361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20045400">
            <a:off x="3886560" y="335232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62520" y="27432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3134400">
            <a:off x="4616640" y="239184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6600"/>
                </a:solidFill>
                <a:latin typeface="Verdana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4267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66"/>
                </a:solidFill>
                <a:latin typeface="Verdana"/>
              </a:rPr>
              <a:t>4 -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5400000">
            <a:off x="7131240" y="4906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66"/>
                </a:solidFill>
                <a:latin typeface="Verdana"/>
              </a:rPr>
              <a:t>3 -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791320" y="3429000"/>
            <a:ext cx="0" cy="53352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3134400">
            <a:off x="4845240" y="22395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66"/>
                </a:solidFill>
                <a:latin typeface="Verdana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18040" y="2189520"/>
            <a:ext cx="326880" cy="4212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29200" y="1676520"/>
            <a:ext cx="99072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29200" y="14320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66"/>
                </a:solidFill>
                <a:latin typeface="Verdana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5400000">
            <a:off x="5455080" y="361080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1000" spc="-1" strike="noStrike">
                <a:solidFill>
                  <a:srgbClr val="000066"/>
                </a:solidFill>
                <a:latin typeface="Verdana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563868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577880" y="54100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Verdana"/>
              </a:rPr>
              <a:t>Planificación </a:t>
            </a:r>
            <a:r>
              <a:rPr b="1" lang="es-BO" sz="1400" spc="-1" strike="noStrike">
                <a:solidFill>
                  <a:srgbClr val="ff0000"/>
                </a:solidFill>
                <a:latin typeface="Verdana"/>
              </a:rPr>
              <a:t>de Inq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6019920"/>
            <a:ext cx="990720" cy="0"/>
          </a:xfrm>
          <a:prstGeom prst="line">
            <a:avLst/>
          </a:prstGeom>
          <a:ln w="38160">
            <a:solidFill>
              <a:srgbClr val="00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564200" y="5791320"/>
            <a:ext cx="195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00"/>
                </a:solidFill>
                <a:latin typeface="Verdana"/>
              </a:rPr>
              <a:t>Planificación</a:t>
            </a:r>
            <a:r>
              <a:rPr b="1" lang="es-BO" sz="1400" spc="-1" strike="noStrike">
                <a:solidFill>
                  <a:srgbClr val="006600"/>
                </a:solidFill>
                <a:latin typeface="Verdana"/>
              </a:rPr>
              <a:t> de 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6400800"/>
            <a:ext cx="99072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6760" y="6172200"/>
            <a:ext cx="275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Verdana"/>
              </a:rPr>
              <a:t>Programaci</a:t>
            </a:r>
            <a:r>
              <a:rPr b="1" lang="es-BO" sz="1400" spc="-1" strike="noStrike">
                <a:solidFill>
                  <a:srgbClr val="000066"/>
                </a:solidFill>
                <a:latin typeface="Verdana"/>
              </a:rPr>
              <a:t>ón de APs en Te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504360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1800" spc="-1" strike="noStrike">
                <a:solidFill>
                  <a:srgbClr val="000000"/>
                </a:solidFill>
                <a:latin typeface="Verdana"/>
              </a:rPr>
              <a:t>FLUJOS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5029200"/>
            <a:ext cx="4343400" cy="15238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3:12:04Z</dcterms:created>
  <dc:creator> Abel Gonzalo Salinas Columba</dc:creator>
  <dc:description/>
  <dc:language>en-US</dc:language>
  <cp:lastModifiedBy>julie lagos</cp:lastModifiedBy>
  <dcterms:modified xsi:type="dcterms:W3CDTF">2004-10-22T14:11:13Z</dcterms:modified>
  <cp:revision>137</cp:revision>
  <dc:subject/>
  <dc:title>Modelo de Programación de la Producción en Tintorerí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