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8D9-9C1E-4302-A0CB-B72B995D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8DD-AC5E-41D8-AF10-3F9A713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12D-D3DB-4A54-81C2-1D1A029C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44E-1316-4284-8BA4-22E3F476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7004-8986-496E-8B36-20196433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92F-6A54-4B24-AC12-17BDDF3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2E11-330A-4ABE-9B6F-0BCD692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9293-B1BA-4831-80AE-358CE7F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B23-1078-437C-826F-F17849A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0F2D-A84C-4EF2-9FAF-AB65A6B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594-DB9A-4B49-9D6B-01F7F10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1FE-05AB-48FB-9E38-7BA8515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93FC-55B2-4D79-AB38-AEE01D2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139F-96F5-4884-85FC-CA950DE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5814-9241-48F0-9100-09ACC6AD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5B72-B8CF-492B-BC05-C0F9DB7B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899D-5BFF-481C-8369-13B83359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511-313B-4BC9-A214-48638B6D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C29-033C-4528-917A-9C12E20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9E6-8507-4C45-8F53-DEE9919E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87E-B7FE-46AA-BF4C-F1774431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C26-22EA-4DF6-AFEA-D59E850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40F-29D3-4E2C-898B-A4EE941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C35-CB46-4507-9B85-C44E32B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1D2-4F41-4DC6-B6F5-2BE5E9D52032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A12-EA06-41D2-8353-161168888293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acultad de Cs. Físicas y Matemáticas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Magíster en Gestión de Operaciones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Taller de Preparación de T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racterización del efecto en las ventas de la aplicación de distintos actividades promociona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486400"/>
            <a:ext cx="3429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Alumno: Blas E. Duarte Alleuy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Profesor Guía: Máximo Bosch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Marcel Goic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248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Taller de Preparación de Tesi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IN79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47840" y="609480"/>
          <a:ext cx="7617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609480"/>
                    <a:ext cx="761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3048120"/>
          <a:ext cx="7772400" cy="3087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upones de Descuent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Reducciones de Prec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nus Pa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(2x1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ampl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omociones de Amar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omociones de Lealt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uest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emi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orteos y Concurs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76212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Tipos de Promocion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28195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8769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9625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962520"/>
            <a:ext cx="259056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88620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307-38BF-4E53-BAF7-490826813D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Book Antiqua"/>
              </a:rPr>
              <a:t>Para modelar los efectos de las promociones se debe determin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Objetivos de la promo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Características de los diferentes tipos de promociones y el efecto de sus significados sobre los 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Efectividad de las diferentes promo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Rango de las decisiones de la promo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F37-C7BE-468E-99F0-4B8259834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Objetivos del Estu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Gener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Clasificar los distintos tipos de promociones de acuerdo a su objetivo e impac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Elaborar un modelo descriptivo que permita cuantificar (y predecir) el impacto de los distintos tipos de promo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800600"/>
            <a:ext cx="1160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0EB-9200-44D7-9A3B-A35320DC4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09480" y="1828800"/>
            <a:ext cx="746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Búsqueda de Modelos de Respuesta de Clientes ante promocion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Categorización de los tipos de promociones                         desarrolladas en la empres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B</a:t>
            </a: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úsqueda Bibliográfica acerca de medición de impacto de las promociones en las venta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Análisis de Caso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EDC-ACBE-490B-B46F-70F7930A3D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sponder a los objetiv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Determinar los tipos de promociones que se desarrollan dentro de la empresa y sus efec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Determinar parámetros de medición de efectividad de las promociones en base a los resultados en las vent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263-2155-4182-8E83-719506F07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Bibliograf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Book Antiqua"/>
              </a:rPr>
              <a:t>A Decision Support System for Planning Manufacturers Sales Promotion Calendars”. </a:t>
            </a: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Silva</a:t>
            </a: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-Risso, J., Bucklin, R. Morrison, D. Marketing Science 200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The Category-Demand Effects of Price Promotion”. </a:t>
            </a: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Nijs, V., Dekimpe, M., Steenkamp, J. Marketing Science 200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Presentación “Teoría de Promociones”, Bosch, 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19232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127-9B45-4F6E-BD4D-024135B04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eaeaea"/>
                </a:solidFill>
                <a:latin typeface="Book Antiqua"/>
              </a:rPr>
              <a:t>PREGUNTAS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eaeaea"/>
                </a:solidFill>
                <a:latin typeface="Book Antiqua"/>
              </a:rPr>
              <a:t>¿?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276720" y="609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997-2983-40E7-8028-1BEC05E31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Motiv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Objetivos del Estud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Metodolog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Resultados Esper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Plan de Trabaj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Bibliograf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Pregu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72200" y="4800600"/>
            <a:ext cx="2749680" cy="16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BA4-BB13-43C0-AA51-4398ED9F7E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Qué tipos de promociones de ventas para el consumidor se usa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018-46EB-45E3-896D-531EF59B3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Book Antiqua"/>
              </a:rPr>
              <a:t>Valor Agregado a la marca diseñada para animar y acelerar una respuesta del comport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646280" cy="134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4876920"/>
            <a:ext cx="2057400" cy="106668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029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adena de Suministro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1055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1055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CE1-AA9D-49AA-A20C-4B289567AC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9051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de Venta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14600"/>
            <a:ext cx="205740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FABRICANT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428920"/>
            <a:ext cx="228600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ETAILE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4" name=""/>
          <p:cNvCxnSpPr>
            <a:stCxn id="162" idx="3"/>
            <a:endCxn id="163" idx="1"/>
          </p:cNvCxnSpPr>
          <p:nvPr/>
        </p:nvCxnSpPr>
        <p:spPr>
          <a:xfrm flipV="1">
            <a:off x="2757240" y="2961720"/>
            <a:ext cx="3020040" cy="1332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228600" y="4952880"/>
            <a:ext cx="243828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al Consumido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464832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al Retail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5410080"/>
            <a:ext cx="1981080" cy="993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NSUMIDO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8" name=""/>
          <p:cNvCxnSpPr>
            <a:stCxn id="162" idx="2"/>
            <a:endCxn id="167" idx="1"/>
          </p:cNvCxnSpPr>
          <p:nvPr/>
        </p:nvCxnSpPr>
        <p:spPr>
          <a:xfrm>
            <a:off x="1714680" y="3449160"/>
            <a:ext cx="1700640" cy="242172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2"/>
            <a:endCxn id="167" idx="3"/>
          </p:cNvCxnSpPr>
          <p:nvPr/>
        </p:nvCxnSpPr>
        <p:spPr>
          <a:xfrm flipH="1">
            <a:off x="5424120" y="3508200"/>
            <a:ext cx="1510560" cy="23630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graphicFrame>
        <p:nvGraphicFramePr>
          <p:cNvPr id="17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FDC-1716-48E5-BAA4-DAF247EFA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Sí, factor principal en presupuesto de Market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Permite atraer a los usuarios ajenos a la marca hacia la mar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79C-2EC6-406A-8D28-E957673167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fectos del Marketing Mix (Complement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Dinámica de Respuesta de Consumi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Compet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Comportamiento del Ret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9E3-EF01-4EED-8560-6ECB13C79A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Qué tipos de promociones de ventas se usan para el consumid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s una muy buena pregunta.....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D9E-945B-46DF-990D-1B431FA88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fectos</a:t>
            </a:r>
            <a:r>
              <a:rPr b="0" lang="es-ES" sz="2800" spc="-1" strike="noStrike">
                <a:solidFill>
                  <a:srgbClr val="eaeaea"/>
                </a:solidFill>
                <a:latin typeface="Book Antiqua"/>
              </a:rPr>
              <a:t> de las Promocion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delantar Compr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830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umentar Consum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4641120" y="53640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ambiarse de 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rc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38280"/>
            <a:ext cx="45720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COMUNICACIÓ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INCENTIVO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INVITACIÓ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7CF-E686-425F-B4C0-9A645FFE0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43:12Z</dcterms:created>
  <dc:creator>Blas</dc:creator>
  <dc:description/>
  <dc:language>en-US</dc:language>
  <cp:lastModifiedBy>julie lagos</cp:lastModifiedBy>
  <dcterms:modified xsi:type="dcterms:W3CDTF">2004-10-22T14:09:39Z</dcterms:modified>
  <cp:revision>4</cp:revision>
  <dc:subject/>
  <dc:title>Universidad de Chile Facultad de Cs. Físicas y Matemáticas Magíster en Gestión de Operaciones Taller de Preparación de Tesis</dc:title>
</cp:coreProperties>
</file>