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05F-F6C1-445A-B627-E7CDB119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755-B1EF-4B87-BFEA-7F3B36F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9BB-9C49-4F4A-BDBD-067D9EB9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8BD-0C29-4733-8DB4-0E11FA9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938-2894-4204-83AC-E536F89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7AB-2852-41C6-B317-4334A204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04B-EE6A-42E4-BCCF-0589A8D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F56-FAD7-41DB-9F94-EEE7D46D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EDB-1B69-44E3-89D6-BAB7EC1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B1E-EC74-44B4-808E-129B2C7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9E1-2EC9-44CA-8926-160613F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4C6-394E-4D63-AF75-ED9594A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9DBA-08EA-40A6-AD97-2D63D2B42571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Dist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ribución y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Supermercados BRY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ércoles 6 de Octu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olo Coth; Daniele Vigo: “The Vehicle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Martin W.P. Savelsberh: “A Decomposition Approach for the Inventory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C53-0EF9-482B-B97A-FC47FDCD1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 BRYC, es el manejo de inventari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 de las salas de los supermercado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 en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DC4-711A-472D-877B-B13995585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La tendencia usual en este tipo de supermercado es la de reducir el tamaño de 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11640" y="3809880"/>
            <a:ext cx="251928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7F2-86E1-49E2-89E6-FD4060651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combine los niveles de inventario de las salas de supermercado y del centro de distribució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F48-D63E-4E75-9B76-C0CCA617B3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en 2 sub-problemas: manejo de inventarios, tanto del centro de distribución como de las salas de supermercado, y ruteo de los camiones desde el centro de distribució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sabe que se cuenta con el servicio de transporte de camiones de la empresa, los cuales recorren las salas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periódic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080-67AD-4B64-A084-DA24AF1B8F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“Inventory Routing”, y para llegar a una solución aplicable, se usarán datos reales de la empresa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7C3-3A86-4BD9-9DF2-C9632EB886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21000" y="3786120"/>
            <a:ext cx="2484360" cy="2382840"/>
            <a:chOff x="3321000" y="3786120"/>
            <a:chExt cx="2484360" cy="2382840"/>
          </a:xfrm>
        </p:grpSpPr>
        <p:sp>
          <p:nvSpPr>
            <p:cNvPr id="58" name=""/>
            <p:cNvSpPr/>
            <p:nvPr/>
          </p:nvSpPr>
          <p:spPr>
            <a:xfrm>
              <a:off x="3321000" y="3789360"/>
              <a:ext cx="2478240" cy="2379600"/>
            </a:xfrm>
            <a:custGeom>
              <a:avLst/>
              <a:gdLst/>
              <a:ahLst/>
              <a:rect l="l" t="t" r="r" b="b"/>
              <a:pathLst>
                <a:path w="3121" h="2998">
                  <a:moveTo>
                    <a:pt x="1960" y="237"/>
                  </a:moveTo>
                  <a:lnTo>
                    <a:pt x="1960" y="236"/>
                  </a:lnTo>
                  <a:lnTo>
                    <a:pt x="1958" y="236"/>
                  </a:lnTo>
                  <a:lnTo>
                    <a:pt x="1952" y="234"/>
                  </a:lnTo>
                  <a:lnTo>
                    <a:pt x="1948" y="232"/>
                  </a:lnTo>
                  <a:lnTo>
                    <a:pt x="1941" y="226"/>
                  </a:lnTo>
                  <a:lnTo>
                    <a:pt x="1933" y="224"/>
                  </a:lnTo>
                  <a:lnTo>
                    <a:pt x="1924" y="218"/>
                  </a:lnTo>
                  <a:lnTo>
                    <a:pt x="1914" y="215"/>
                  </a:lnTo>
                  <a:lnTo>
                    <a:pt x="1901" y="209"/>
                  </a:lnTo>
                  <a:lnTo>
                    <a:pt x="1889" y="203"/>
                  </a:lnTo>
                  <a:lnTo>
                    <a:pt x="1876" y="198"/>
                  </a:lnTo>
                  <a:lnTo>
                    <a:pt x="1861" y="192"/>
                  </a:lnTo>
                  <a:lnTo>
                    <a:pt x="1844" y="184"/>
                  </a:lnTo>
                  <a:lnTo>
                    <a:pt x="1829" y="177"/>
                  </a:lnTo>
                  <a:lnTo>
                    <a:pt x="1811" y="171"/>
                  </a:lnTo>
                  <a:lnTo>
                    <a:pt x="1792" y="163"/>
                  </a:lnTo>
                  <a:lnTo>
                    <a:pt x="1773" y="156"/>
                  </a:lnTo>
                  <a:lnTo>
                    <a:pt x="1752" y="148"/>
                  </a:lnTo>
                  <a:lnTo>
                    <a:pt x="1730" y="139"/>
                  </a:lnTo>
                  <a:lnTo>
                    <a:pt x="1709" y="131"/>
                  </a:lnTo>
                  <a:lnTo>
                    <a:pt x="1684" y="123"/>
                  </a:lnTo>
                  <a:lnTo>
                    <a:pt x="1661" y="116"/>
                  </a:lnTo>
                  <a:lnTo>
                    <a:pt x="1636" y="106"/>
                  </a:lnTo>
                  <a:lnTo>
                    <a:pt x="1614" y="101"/>
                  </a:lnTo>
                  <a:lnTo>
                    <a:pt x="1587" y="91"/>
                  </a:lnTo>
                  <a:lnTo>
                    <a:pt x="1560" y="83"/>
                  </a:lnTo>
                  <a:lnTo>
                    <a:pt x="1534" y="76"/>
                  </a:lnTo>
                  <a:lnTo>
                    <a:pt x="1507" y="68"/>
                  </a:lnTo>
                  <a:lnTo>
                    <a:pt x="1481" y="61"/>
                  </a:lnTo>
                  <a:lnTo>
                    <a:pt x="1452" y="53"/>
                  </a:lnTo>
                  <a:lnTo>
                    <a:pt x="1424" y="47"/>
                  </a:lnTo>
                  <a:lnTo>
                    <a:pt x="1395" y="42"/>
                  </a:lnTo>
                  <a:lnTo>
                    <a:pt x="1367" y="36"/>
                  </a:lnTo>
                  <a:lnTo>
                    <a:pt x="1336" y="30"/>
                  </a:lnTo>
                  <a:lnTo>
                    <a:pt x="1306" y="23"/>
                  </a:lnTo>
                  <a:lnTo>
                    <a:pt x="1277" y="19"/>
                  </a:lnTo>
                  <a:lnTo>
                    <a:pt x="1247" y="15"/>
                  </a:lnTo>
                  <a:lnTo>
                    <a:pt x="1216" y="9"/>
                  </a:lnTo>
                  <a:lnTo>
                    <a:pt x="1188" y="7"/>
                  </a:lnTo>
                  <a:lnTo>
                    <a:pt x="1157" y="6"/>
                  </a:lnTo>
                  <a:lnTo>
                    <a:pt x="1127" y="4"/>
                  </a:lnTo>
                  <a:lnTo>
                    <a:pt x="1097" y="2"/>
                  </a:lnTo>
                  <a:lnTo>
                    <a:pt x="1066" y="0"/>
                  </a:lnTo>
                  <a:lnTo>
                    <a:pt x="1038" y="2"/>
                  </a:lnTo>
                  <a:lnTo>
                    <a:pt x="1007" y="2"/>
                  </a:lnTo>
                  <a:lnTo>
                    <a:pt x="977" y="6"/>
                  </a:lnTo>
                  <a:lnTo>
                    <a:pt x="948" y="7"/>
                  </a:lnTo>
                  <a:lnTo>
                    <a:pt x="920" y="11"/>
                  </a:lnTo>
                  <a:lnTo>
                    <a:pt x="889" y="15"/>
                  </a:lnTo>
                  <a:lnTo>
                    <a:pt x="861" y="19"/>
                  </a:lnTo>
                  <a:lnTo>
                    <a:pt x="834" y="25"/>
                  </a:lnTo>
                  <a:lnTo>
                    <a:pt x="806" y="34"/>
                  </a:lnTo>
                  <a:lnTo>
                    <a:pt x="779" y="42"/>
                  </a:lnTo>
                  <a:lnTo>
                    <a:pt x="752" y="51"/>
                  </a:lnTo>
                  <a:lnTo>
                    <a:pt x="726" y="61"/>
                  </a:lnTo>
                  <a:lnTo>
                    <a:pt x="701" y="74"/>
                  </a:lnTo>
                  <a:lnTo>
                    <a:pt x="674" y="85"/>
                  </a:lnTo>
                  <a:lnTo>
                    <a:pt x="650" y="101"/>
                  </a:lnTo>
                  <a:lnTo>
                    <a:pt x="625" y="116"/>
                  </a:lnTo>
                  <a:lnTo>
                    <a:pt x="604" y="133"/>
                  </a:lnTo>
                  <a:lnTo>
                    <a:pt x="581" y="150"/>
                  </a:lnTo>
                  <a:lnTo>
                    <a:pt x="560" y="171"/>
                  </a:lnTo>
                  <a:lnTo>
                    <a:pt x="539" y="192"/>
                  </a:lnTo>
                  <a:lnTo>
                    <a:pt x="520" y="215"/>
                  </a:lnTo>
                  <a:lnTo>
                    <a:pt x="500" y="236"/>
                  </a:lnTo>
                  <a:lnTo>
                    <a:pt x="482" y="258"/>
                  </a:lnTo>
                  <a:lnTo>
                    <a:pt x="465" y="279"/>
                  </a:lnTo>
                  <a:lnTo>
                    <a:pt x="452" y="300"/>
                  </a:lnTo>
                  <a:lnTo>
                    <a:pt x="435" y="319"/>
                  </a:lnTo>
                  <a:lnTo>
                    <a:pt x="422" y="338"/>
                  </a:lnTo>
                  <a:lnTo>
                    <a:pt x="410" y="357"/>
                  </a:lnTo>
                  <a:lnTo>
                    <a:pt x="399" y="376"/>
                  </a:lnTo>
                  <a:lnTo>
                    <a:pt x="387" y="393"/>
                  </a:lnTo>
                  <a:lnTo>
                    <a:pt x="378" y="412"/>
                  </a:lnTo>
                  <a:lnTo>
                    <a:pt x="368" y="429"/>
                  </a:lnTo>
                  <a:lnTo>
                    <a:pt x="361" y="447"/>
                  </a:lnTo>
                  <a:lnTo>
                    <a:pt x="351" y="464"/>
                  </a:lnTo>
                  <a:lnTo>
                    <a:pt x="346" y="481"/>
                  </a:lnTo>
                  <a:lnTo>
                    <a:pt x="340" y="498"/>
                  </a:lnTo>
                  <a:lnTo>
                    <a:pt x="336" y="515"/>
                  </a:lnTo>
                  <a:lnTo>
                    <a:pt x="328" y="530"/>
                  </a:lnTo>
                  <a:lnTo>
                    <a:pt x="325" y="547"/>
                  </a:lnTo>
                  <a:lnTo>
                    <a:pt x="321" y="563"/>
                  </a:lnTo>
                  <a:lnTo>
                    <a:pt x="319" y="578"/>
                  </a:lnTo>
                  <a:lnTo>
                    <a:pt x="315" y="595"/>
                  </a:lnTo>
                  <a:lnTo>
                    <a:pt x="311" y="610"/>
                  </a:lnTo>
                  <a:lnTo>
                    <a:pt x="309" y="627"/>
                  </a:lnTo>
                  <a:lnTo>
                    <a:pt x="309" y="644"/>
                  </a:lnTo>
                  <a:lnTo>
                    <a:pt x="306" y="661"/>
                  </a:lnTo>
                  <a:lnTo>
                    <a:pt x="306" y="677"/>
                  </a:lnTo>
                  <a:lnTo>
                    <a:pt x="304" y="694"/>
                  </a:lnTo>
                  <a:lnTo>
                    <a:pt x="304" y="713"/>
                  </a:lnTo>
                  <a:lnTo>
                    <a:pt x="302" y="732"/>
                  </a:lnTo>
                  <a:lnTo>
                    <a:pt x="302" y="749"/>
                  </a:lnTo>
                  <a:lnTo>
                    <a:pt x="302" y="768"/>
                  </a:lnTo>
                  <a:lnTo>
                    <a:pt x="302" y="789"/>
                  </a:lnTo>
                  <a:lnTo>
                    <a:pt x="302" y="808"/>
                  </a:lnTo>
                  <a:lnTo>
                    <a:pt x="300" y="829"/>
                  </a:lnTo>
                  <a:lnTo>
                    <a:pt x="300" y="848"/>
                  </a:lnTo>
                  <a:lnTo>
                    <a:pt x="298" y="871"/>
                  </a:lnTo>
                  <a:lnTo>
                    <a:pt x="296" y="893"/>
                  </a:lnTo>
                  <a:lnTo>
                    <a:pt x="294" y="916"/>
                  </a:lnTo>
                  <a:lnTo>
                    <a:pt x="294" y="939"/>
                  </a:lnTo>
                  <a:lnTo>
                    <a:pt x="292" y="964"/>
                  </a:lnTo>
                  <a:lnTo>
                    <a:pt x="290" y="988"/>
                  </a:lnTo>
                  <a:lnTo>
                    <a:pt x="287" y="1015"/>
                  </a:lnTo>
                  <a:lnTo>
                    <a:pt x="285" y="1042"/>
                  </a:lnTo>
                  <a:lnTo>
                    <a:pt x="281" y="1070"/>
                  </a:lnTo>
                  <a:lnTo>
                    <a:pt x="277" y="1101"/>
                  </a:lnTo>
                  <a:lnTo>
                    <a:pt x="273" y="1129"/>
                  </a:lnTo>
                  <a:lnTo>
                    <a:pt x="268" y="1161"/>
                  </a:lnTo>
                  <a:lnTo>
                    <a:pt x="264" y="1194"/>
                  </a:lnTo>
                  <a:lnTo>
                    <a:pt x="258" y="1226"/>
                  </a:lnTo>
                  <a:lnTo>
                    <a:pt x="250" y="1262"/>
                  </a:lnTo>
                  <a:lnTo>
                    <a:pt x="243" y="1296"/>
                  </a:lnTo>
                  <a:lnTo>
                    <a:pt x="235" y="1334"/>
                  </a:lnTo>
                  <a:lnTo>
                    <a:pt x="226" y="1372"/>
                  </a:lnTo>
                  <a:lnTo>
                    <a:pt x="216" y="1412"/>
                  </a:lnTo>
                  <a:lnTo>
                    <a:pt x="205" y="1452"/>
                  </a:lnTo>
                  <a:lnTo>
                    <a:pt x="195" y="1496"/>
                  </a:lnTo>
                  <a:lnTo>
                    <a:pt x="180" y="1540"/>
                  </a:lnTo>
                  <a:lnTo>
                    <a:pt x="169" y="1585"/>
                  </a:lnTo>
                  <a:lnTo>
                    <a:pt x="154" y="1631"/>
                  </a:lnTo>
                  <a:lnTo>
                    <a:pt x="138" y="1680"/>
                  </a:lnTo>
                  <a:lnTo>
                    <a:pt x="121" y="1732"/>
                  </a:lnTo>
                  <a:lnTo>
                    <a:pt x="104" y="1783"/>
                  </a:lnTo>
                  <a:lnTo>
                    <a:pt x="85" y="1836"/>
                  </a:lnTo>
                  <a:lnTo>
                    <a:pt x="66" y="1893"/>
                  </a:lnTo>
                  <a:lnTo>
                    <a:pt x="62" y="1905"/>
                  </a:lnTo>
                  <a:lnTo>
                    <a:pt x="57" y="1918"/>
                  </a:lnTo>
                  <a:lnTo>
                    <a:pt x="53" y="1930"/>
                  </a:lnTo>
                  <a:lnTo>
                    <a:pt x="47" y="1943"/>
                  </a:lnTo>
                  <a:lnTo>
                    <a:pt x="43" y="1956"/>
                  </a:lnTo>
                  <a:lnTo>
                    <a:pt x="39" y="1969"/>
                  </a:lnTo>
                  <a:lnTo>
                    <a:pt x="36" y="1981"/>
                  </a:lnTo>
                  <a:lnTo>
                    <a:pt x="32" y="1994"/>
                  </a:lnTo>
                  <a:lnTo>
                    <a:pt x="30" y="2006"/>
                  </a:lnTo>
                  <a:lnTo>
                    <a:pt x="26" y="2019"/>
                  </a:lnTo>
                  <a:lnTo>
                    <a:pt x="22" y="2032"/>
                  </a:lnTo>
                  <a:lnTo>
                    <a:pt x="20" y="2044"/>
                  </a:lnTo>
                  <a:lnTo>
                    <a:pt x="17" y="2057"/>
                  </a:lnTo>
                  <a:lnTo>
                    <a:pt x="15" y="2070"/>
                  </a:lnTo>
                  <a:lnTo>
                    <a:pt x="13" y="2084"/>
                  </a:lnTo>
                  <a:lnTo>
                    <a:pt x="11" y="2095"/>
                  </a:lnTo>
                  <a:lnTo>
                    <a:pt x="9" y="2106"/>
                  </a:lnTo>
                  <a:lnTo>
                    <a:pt x="7" y="2120"/>
                  </a:lnTo>
                  <a:lnTo>
                    <a:pt x="5" y="2131"/>
                  </a:lnTo>
                  <a:lnTo>
                    <a:pt x="3" y="2144"/>
                  </a:lnTo>
                  <a:lnTo>
                    <a:pt x="3" y="2156"/>
                  </a:lnTo>
                  <a:lnTo>
                    <a:pt x="1" y="2167"/>
                  </a:lnTo>
                  <a:lnTo>
                    <a:pt x="1" y="2179"/>
                  </a:lnTo>
                  <a:lnTo>
                    <a:pt x="1" y="2192"/>
                  </a:lnTo>
                  <a:lnTo>
                    <a:pt x="0" y="2201"/>
                  </a:lnTo>
                  <a:lnTo>
                    <a:pt x="0" y="2215"/>
                  </a:lnTo>
                  <a:lnTo>
                    <a:pt x="0" y="2226"/>
                  </a:lnTo>
                  <a:lnTo>
                    <a:pt x="1" y="2238"/>
                  </a:lnTo>
                  <a:lnTo>
                    <a:pt x="1" y="2249"/>
                  </a:lnTo>
                  <a:lnTo>
                    <a:pt x="1" y="2260"/>
                  </a:lnTo>
                  <a:lnTo>
                    <a:pt x="1" y="2272"/>
                  </a:lnTo>
                  <a:lnTo>
                    <a:pt x="3" y="2285"/>
                  </a:lnTo>
                  <a:lnTo>
                    <a:pt x="3" y="2295"/>
                  </a:lnTo>
                  <a:lnTo>
                    <a:pt x="5" y="2306"/>
                  </a:lnTo>
                  <a:lnTo>
                    <a:pt x="5" y="2315"/>
                  </a:lnTo>
                  <a:lnTo>
                    <a:pt x="9" y="2327"/>
                  </a:lnTo>
                  <a:lnTo>
                    <a:pt x="11" y="2336"/>
                  </a:lnTo>
                  <a:lnTo>
                    <a:pt x="13" y="2348"/>
                  </a:lnTo>
                  <a:lnTo>
                    <a:pt x="15" y="2357"/>
                  </a:lnTo>
                  <a:lnTo>
                    <a:pt x="19" y="2369"/>
                  </a:lnTo>
                  <a:lnTo>
                    <a:pt x="20" y="2378"/>
                  </a:lnTo>
                  <a:lnTo>
                    <a:pt x="22" y="2390"/>
                  </a:lnTo>
                  <a:lnTo>
                    <a:pt x="26" y="2399"/>
                  </a:lnTo>
                  <a:lnTo>
                    <a:pt x="30" y="2409"/>
                  </a:lnTo>
                  <a:lnTo>
                    <a:pt x="34" y="2418"/>
                  </a:lnTo>
                  <a:lnTo>
                    <a:pt x="38" y="2428"/>
                  </a:lnTo>
                  <a:lnTo>
                    <a:pt x="41" y="2437"/>
                  </a:lnTo>
                  <a:lnTo>
                    <a:pt x="47" y="2447"/>
                  </a:lnTo>
                  <a:lnTo>
                    <a:pt x="49" y="2456"/>
                  </a:lnTo>
                  <a:lnTo>
                    <a:pt x="55" y="2464"/>
                  </a:lnTo>
                  <a:lnTo>
                    <a:pt x="58" y="2473"/>
                  </a:lnTo>
                  <a:lnTo>
                    <a:pt x="66" y="2483"/>
                  </a:lnTo>
                  <a:lnTo>
                    <a:pt x="70" y="2490"/>
                  </a:lnTo>
                  <a:lnTo>
                    <a:pt x="76" y="2498"/>
                  </a:lnTo>
                  <a:lnTo>
                    <a:pt x="81" y="2507"/>
                  </a:lnTo>
                  <a:lnTo>
                    <a:pt x="89" y="2515"/>
                  </a:lnTo>
                  <a:lnTo>
                    <a:pt x="93" y="2523"/>
                  </a:lnTo>
                  <a:lnTo>
                    <a:pt x="100" y="2530"/>
                  </a:lnTo>
                  <a:lnTo>
                    <a:pt x="106" y="2538"/>
                  </a:lnTo>
                  <a:lnTo>
                    <a:pt x="114" y="2547"/>
                  </a:lnTo>
                  <a:lnTo>
                    <a:pt x="119" y="2553"/>
                  </a:lnTo>
                  <a:lnTo>
                    <a:pt x="127" y="2561"/>
                  </a:lnTo>
                  <a:lnTo>
                    <a:pt x="135" y="2568"/>
                  </a:lnTo>
                  <a:lnTo>
                    <a:pt x="144" y="2576"/>
                  </a:lnTo>
                  <a:lnTo>
                    <a:pt x="150" y="2580"/>
                  </a:lnTo>
                  <a:lnTo>
                    <a:pt x="155" y="2585"/>
                  </a:lnTo>
                  <a:lnTo>
                    <a:pt x="161" y="2591"/>
                  </a:lnTo>
                  <a:lnTo>
                    <a:pt x="169" y="2595"/>
                  </a:lnTo>
                  <a:lnTo>
                    <a:pt x="176" y="2601"/>
                  </a:lnTo>
                  <a:lnTo>
                    <a:pt x="182" y="2606"/>
                  </a:lnTo>
                  <a:lnTo>
                    <a:pt x="190" y="2610"/>
                  </a:lnTo>
                  <a:lnTo>
                    <a:pt x="197" y="2618"/>
                  </a:lnTo>
                  <a:lnTo>
                    <a:pt x="205" y="2622"/>
                  </a:lnTo>
                  <a:lnTo>
                    <a:pt x="212" y="2627"/>
                  </a:lnTo>
                  <a:lnTo>
                    <a:pt x="220" y="2631"/>
                  </a:lnTo>
                  <a:lnTo>
                    <a:pt x="230" y="2639"/>
                  </a:lnTo>
                  <a:lnTo>
                    <a:pt x="237" y="2644"/>
                  </a:lnTo>
                  <a:lnTo>
                    <a:pt x="247" y="2648"/>
                  </a:lnTo>
                  <a:lnTo>
                    <a:pt x="256" y="2654"/>
                  </a:lnTo>
                  <a:lnTo>
                    <a:pt x="266" y="2661"/>
                  </a:lnTo>
                  <a:lnTo>
                    <a:pt x="273" y="2665"/>
                  </a:lnTo>
                  <a:lnTo>
                    <a:pt x="283" y="2671"/>
                  </a:lnTo>
                  <a:lnTo>
                    <a:pt x="292" y="2675"/>
                  </a:lnTo>
                  <a:lnTo>
                    <a:pt x="302" y="2682"/>
                  </a:lnTo>
                  <a:lnTo>
                    <a:pt x="311" y="2686"/>
                  </a:lnTo>
                  <a:lnTo>
                    <a:pt x="321" y="2692"/>
                  </a:lnTo>
                  <a:lnTo>
                    <a:pt x="332" y="2698"/>
                  </a:lnTo>
                  <a:lnTo>
                    <a:pt x="342" y="2703"/>
                  </a:lnTo>
                  <a:lnTo>
                    <a:pt x="351" y="2707"/>
                  </a:lnTo>
                  <a:lnTo>
                    <a:pt x="363" y="2713"/>
                  </a:lnTo>
                  <a:lnTo>
                    <a:pt x="374" y="2719"/>
                  </a:lnTo>
                  <a:lnTo>
                    <a:pt x="385" y="2724"/>
                  </a:lnTo>
                  <a:lnTo>
                    <a:pt x="395" y="2728"/>
                  </a:lnTo>
                  <a:lnTo>
                    <a:pt x="408" y="2734"/>
                  </a:lnTo>
                  <a:lnTo>
                    <a:pt x="420" y="2739"/>
                  </a:lnTo>
                  <a:lnTo>
                    <a:pt x="433" y="2745"/>
                  </a:lnTo>
                  <a:lnTo>
                    <a:pt x="443" y="2751"/>
                  </a:lnTo>
                  <a:lnTo>
                    <a:pt x="454" y="2755"/>
                  </a:lnTo>
                  <a:lnTo>
                    <a:pt x="465" y="2760"/>
                  </a:lnTo>
                  <a:lnTo>
                    <a:pt x="479" y="2766"/>
                  </a:lnTo>
                  <a:lnTo>
                    <a:pt x="490" y="2770"/>
                  </a:lnTo>
                  <a:lnTo>
                    <a:pt x="503" y="2776"/>
                  </a:lnTo>
                  <a:lnTo>
                    <a:pt x="517" y="2779"/>
                  </a:lnTo>
                  <a:lnTo>
                    <a:pt x="528" y="2787"/>
                  </a:lnTo>
                  <a:lnTo>
                    <a:pt x="541" y="2791"/>
                  </a:lnTo>
                  <a:lnTo>
                    <a:pt x="555" y="2796"/>
                  </a:lnTo>
                  <a:lnTo>
                    <a:pt x="568" y="2800"/>
                  </a:lnTo>
                  <a:lnTo>
                    <a:pt x="581" y="2806"/>
                  </a:lnTo>
                  <a:lnTo>
                    <a:pt x="595" y="2810"/>
                  </a:lnTo>
                  <a:lnTo>
                    <a:pt x="608" y="2815"/>
                  </a:lnTo>
                  <a:lnTo>
                    <a:pt x="621" y="2819"/>
                  </a:lnTo>
                  <a:lnTo>
                    <a:pt x="636" y="2825"/>
                  </a:lnTo>
                  <a:lnTo>
                    <a:pt x="650" y="2829"/>
                  </a:lnTo>
                  <a:lnTo>
                    <a:pt x="665" y="2833"/>
                  </a:lnTo>
                  <a:lnTo>
                    <a:pt x="678" y="2836"/>
                  </a:lnTo>
                  <a:lnTo>
                    <a:pt x="693" y="2842"/>
                  </a:lnTo>
                  <a:lnTo>
                    <a:pt x="707" y="2846"/>
                  </a:lnTo>
                  <a:lnTo>
                    <a:pt x="722" y="2850"/>
                  </a:lnTo>
                  <a:lnTo>
                    <a:pt x="735" y="2855"/>
                  </a:lnTo>
                  <a:lnTo>
                    <a:pt x="752" y="2859"/>
                  </a:lnTo>
                  <a:lnTo>
                    <a:pt x="766" y="2863"/>
                  </a:lnTo>
                  <a:lnTo>
                    <a:pt x="781" y="2867"/>
                  </a:lnTo>
                  <a:lnTo>
                    <a:pt x="796" y="2872"/>
                  </a:lnTo>
                  <a:lnTo>
                    <a:pt x="813" y="2876"/>
                  </a:lnTo>
                  <a:lnTo>
                    <a:pt x="827" y="2878"/>
                  </a:lnTo>
                  <a:lnTo>
                    <a:pt x="844" y="2884"/>
                  </a:lnTo>
                  <a:lnTo>
                    <a:pt x="859" y="2888"/>
                  </a:lnTo>
                  <a:lnTo>
                    <a:pt x="874" y="2892"/>
                  </a:lnTo>
                  <a:lnTo>
                    <a:pt x="882" y="2893"/>
                  </a:lnTo>
                  <a:lnTo>
                    <a:pt x="891" y="2895"/>
                  </a:lnTo>
                  <a:lnTo>
                    <a:pt x="899" y="2895"/>
                  </a:lnTo>
                  <a:lnTo>
                    <a:pt x="906" y="2899"/>
                  </a:lnTo>
                  <a:lnTo>
                    <a:pt x="914" y="2899"/>
                  </a:lnTo>
                  <a:lnTo>
                    <a:pt x="924" y="2901"/>
                  </a:lnTo>
                  <a:lnTo>
                    <a:pt x="931" y="2903"/>
                  </a:lnTo>
                  <a:lnTo>
                    <a:pt x="941" y="2907"/>
                  </a:lnTo>
                  <a:lnTo>
                    <a:pt x="948" y="2907"/>
                  </a:lnTo>
                  <a:lnTo>
                    <a:pt x="958" y="2909"/>
                  </a:lnTo>
                  <a:lnTo>
                    <a:pt x="965" y="2911"/>
                  </a:lnTo>
                  <a:lnTo>
                    <a:pt x="975" y="2912"/>
                  </a:lnTo>
                  <a:lnTo>
                    <a:pt x="984" y="2914"/>
                  </a:lnTo>
                  <a:lnTo>
                    <a:pt x="992" y="2916"/>
                  </a:lnTo>
                  <a:lnTo>
                    <a:pt x="1001" y="2918"/>
                  </a:lnTo>
                  <a:lnTo>
                    <a:pt x="1011" y="2920"/>
                  </a:lnTo>
                  <a:lnTo>
                    <a:pt x="1019" y="2922"/>
                  </a:lnTo>
                  <a:lnTo>
                    <a:pt x="1028" y="2924"/>
                  </a:lnTo>
                  <a:lnTo>
                    <a:pt x="1036" y="2926"/>
                  </a:lnTo>
                  <a:lnTo>
                    <a:pt x="1045" y="2928"/>
                  </a:lnTo>
                  <a:lnTo>
                    <a:pt x="1055" y="2928"/>
                  </a:lnTo>
                  <a:lnTo>
                    <a:pt x="1064" y="2930"/>
                  </a:lnTo>
                  <a:lnTo>
                    <a:pt x="1074" y="2931"/>
                  </a:lnTo>
                  <a:lnTo>
                    <a:pt x="1083" y="2933"/>
                  </a:lnTo>
                  <a:lnTo>
                    <a:pt x="1091" y="2935"/>
                  </a:lnTo>
                  <a:lnTo>
                    <a:pt x="1100" y="2937"/>
                  </a:lnTo>
                  <a:lnTo>
                    <a:pt x="1110" y="2937"/>
                  </a:lnTo>
                  <a:lnTo>
                    <a:pt x="1119" y="2939"/>
                  </a:lnTo>
                  <a:lnTo>
                    <a:pt x="1129" y="2941"/>
                  </a:lnTo>
                  <a:lnTo>
                    <a:pt x="1138" y="2943"/>
                  </a:lnTo>
                  <a:lnTo>
                    <a:pt x="1148" y="2945"/>
                  </a:lnTo>
                  <a:lnTo>
                    <a:pt x="1159" y="2947"/>
                  </a:lnTo>
                  <a:lnTo>
                    <a:pt x="1167" y="2949"/>
                  </a:lnTo>
                  <a:lnTo>
                    <a:pt x="1176" y="2949"/>
                  </a:lnTo>
                  <a:lnTo>
                    <a:pt x="1186" y="2950"/>
                  </a:lnTo>
                  <a:lnTo>
                    <a:pt x="1195" y="2952"/>
                  </a:lnTo>
                  <a:lnTo>
                    <a:pt x="1205" y="2954"/>
                  </a:lnTo>
                  <a:lnTo>
                    <a:pt x="1214" y="2956"/>
                  </a:lnTo>
                  <a:lnTo>
                    <a:pt x="1224" y="2956"/>
                  </a:lnTo>
                  <a:lnTo>
                    <a:pt x="1235" y="2960"/>
                  </a:lnTo>
                  <a:lnTo>
                    <a:pt x="1245" y="2960"/>
                  </a:lnTo>
                  <a:lnTo>
                    <a:pt x="1254" y="2962"/>
                  </a:lnTo>
                  <a:lnTo>
                    <a:pt x="1264" y="2962"/>
                  </a:lnTo>
                  <a:lnTo>
                    <a:pt x="1273" y="2964"/>
                  </a:lnTo>
                  <a:lnTo>
                    <a:pt x="1283" y="2964"/>
                  </a:lnTo>
                  <a:lnTo>
                    <a:pt x="1294" y="2966"/>
                  </a:lnTo>
                  <a:lnTo>
                    <a:pt x="1304" y="2968"/>
                  </a:lnTo>
                  <a:lnTo>
                    <a:pt x="1315" y="2969"/>
                  </a:lnTo>
                  <a:lnTo>
                    <a:pt x="1325" y="2969"/>
                  </a:lnTo>
                  <a:lnTo>
                    <a:pt x="1334" y="2971"/>
                  </a:lnTo>
                  <a:lnTo>
                    <a:pt x="1344" y="2971"/>
                  </a:lnTo>
                  <a:lnTo>
                    <a:pt x="1355" y="2973"/>
                  </a:lnTo>
                  <a:lnTo>
                    <a:pt x="1365" y="2975"/>
                  </a:lnTo>
                  <a:lnTo>
                    <a:pt x="1374" y="2977"/>
                  </a:lnTo>
                  <a:lnTo>
                    <a:pt x="1386" y="2977"/>
                  </a:lnTo>
                  <a:lnTo>
                    <a:pt x="1395" y="2979"/>
                  </a:lnTo>
                  <a:lnTo>
                    <a:pt x="1405" y="2979"/>
                  </a:lnTo>
                  <a:lnTo>
                    <a:pt x="1416" y="2981"/>
                  </a:lnTo>
                  <a:lnTo>
                    <a:pt x="1427" y="2981"/>
                  </a:lnTo>
                  <a:lnTo>
                    <a:pt x="1437" y="2983"/>
                  </a:lnTo>
                  <a:lnTo>
                    <a:pt x="1446" y="2983"/>
                  </a:lnTo>
                  <a:lnTo>
                    <a:pt x="1458" y="2985"/>
                  </a:lnTo>
                  <a:lnTo>
                    <a:pt x="1467" y="2987"/>
                  </a:lnTo>
                  <a:lnTo>
                    <a:pt x="1479" y="2988"/>
                  </a:lnTo>
                  <a:lnTo>
                    <a:pt x="1530" y="2990"/>
                  </a:lnTo>
                  <a:lnTo>
                    <a:pt x="1581" y="2994"/>
                  </a:lnTo>
                  <a:lnTo>
                    <a:pt x="1633" y="2996"/>
                  </a:lnTo>
                  <a:lnTo>
                    <a:pt x="1684" y="2998"/>
                  </a:lnTo>
                  <a:lnTo>
                    <a:pt x="1732" y="2998"/>
                  </a:lnTo>
                  <a:lnTo>
                    <a:pt x="1781" y="2998"/>
                  </a:lnTo>
                  <a:lnTo>
                    <a:pt x="1827" y="2996"/>
                  </a:lnTo>
                  <a:lnTo>
                    <a:pt x="1874" y="2996"/>
                  </a:lnTo>
                  <a:lnTo>
                    <a:pt x="1918" y="2992"/>
                  </a:lnTo>
                  <a:lnTo>
                    <a:pt x="1964" y="2988"/>
                  </a:lnTo>
                  <a:lnTo>
                    <a:pt x="2005" y="2985"/>
                  </a:lnTo>
                  <a:lnTo>
                    <a:pt x="2049" y="2981"/>
                  </a:lnTo>
                  <a:lnTo>
                    <a:pt x="2091" y="2973"/>
                  </a:lnTo>
                  <a:lnTo>
                    <a:pt x="2131" y="2969"/>
                  </a:lnTo>
                  <a:lnTo>
                    <a:pt x="2171" y="2962"/>
                  </a:lnTo>
                  <a:lnTo>
                    <a:pt x="2211" y="2956"/>
                  </a:lnTo>
                  <a:lnTo>
                    <a:pt x="2249" y="2947"/>
                  </a:lnTo>
                  <a:lnTo>
                    <a:pt x="2287" y="2939"/>
                  </a:lnTo>
                  <a:lnTo>
                    <a:pt x="2321" y="2930"/>
                  </a:lnTo>
                  <a:lnTo>
                    <a:pt x="2357" y="2920"/>
                  </a:lnTo>
                  <a:lnTo>
                    <a:pt x="2391" y="2909"/>
                  </a:lnTo>
                  <a:lnTo>
                    <a:pt x="2424" y="2897"/>
                  </a:lnTo>
                  <a:lnTo>
                    <a:pt x="2456" y="2886"/>
                  </a:lnTo>
                  <a:lnTo>
                    <a:pt x="2490" y="2874"/>
                  </a:lnTo>
                  <a:lnTo>
                    <a:pt x="2519" y="2863"/>
                  </a:lnTo>
                  <a:lnTo>
                    <a:pt x="2551" y="2850"/>
                  </a:lnTo>
                  <a:lnTo>
                    <a:pt x="2580" y="2834"/>
                  </a:lnTo>
                  <a:lnTo>
                    <a:pt x="2608" y="2821"/>
                  </a:lnTo>
                  <a:lnTo>
                    <a:pt x="2635" y="2806"/>
                  </a:lnTo>
                  <a:lnTo>
                    <a:pt x="2661" y="2793"/>
                  </a:lnTo>
                  <a:lnTo>
                    <a:pt x="2688" y="2777"/>
                  </a:lnTo>
                  <a:lnTo>
                    <a:pt x="2715" y="2762"/>
                  </a:lnTo>
                  <a:lnTo>
                    <a:pt x="2737" y="2745"/>
                  </a:lnTo>
                  <a:lnTo>
                    <a:pt x="2760" y="2730"/>
                  </a:lnTo>
                  <a:lnTo>
                    <a:pt x="2783" y="2713"/>
                  </a:lnTo>
                  <a:lnTo>
                    <a:pt x="2806" y="2696"/>
                  </a:lnTo>
                  <a:lnTo>
                    <a:pt x="2827" y="2679"/>
                  </a:lnTo>
                  <a:lnTo>
                    <a:pt x="2848" y="2661"/>
                  </a:lnTo>
                  <a:lnTo>
                    <a:pt x="2867" y="2642"/>
                  </a:lnTo>
                  <a:lnTo>
                    <a:pt x="2886" y="2625"/>
                  </a:lnTo>
                  <a:lnTo>
                    <a:pt x="2903" y="2606"/>
                  </a:lnTo>
                  <a:lnTo>
                    <a:pt x="2920" y="2587"/>
                  </a:lnTo>
                  <a:lnTo>
                    <a:pt x="2937" y="2568"/>
                  </a:lnTo>
                  <a:lnTo>
                    <a:pt x="2952" y="2551"/>
                  </a:lnTo>
                  <a:lnTo>
                    <a:pt x="2967" y="2532"/>
                  </a:lnTo>
                  <a:lnTo>
                    <a:pt x="2983" y="2513"/>
                  </a:lnTo>
                  <a:lnTo>
                    <a:pt x="2996" y="2492"/>
                  </a:lnTo>
                  <a:lnTo>
                    <a:pt x="3009" y="2473"/>
                  </a:lnTo>
                  <a:lnTo>
                    <a:pt x="3021" y="2454"/>
                  </a:lnTo>
                  <a:lnTo>
                    <a:pt x="3032" y="2433"/>
                  </a:lnTo>
                  <a:lnTo>
                    <a:pt x="3042" y="2412"/>
                  </a:lnTo>
                  <a:lnTo>
                    <a:pt x="3051" y="2393"/>
                  </a:lnTo>
                  <a:lnTo>
                    <a:pt x="3061" y="2372"/>
                  </a:lnTo>
                  <a:lnTo>
                    <a:pt x="3068" y="2352"/>
                  </a:lnTo>
                  <a:lnTo>
                    <a:pt x="3076" y="2333"/>
                  </a:lnTo>
                  <a:lnTo>
                    <a:pt x="3085" y="2314"/>
                  </a:lnTo>
                  <a:lnTo>
                    <a:pt x="3091" y="2293"/>
                  </a:lnTo>
                  <a:lnTo>
                    <a:pt x="3097" y="2272"/>
                  </a:lnTo>
                  <a:lnTo>
                    <a:pt x="3100" y="2253"/>
                  </a:lnTo>
                  <a:lnTo>
                    <a:pt x="3106" y="2234"/>
                  </a:lnTo>
                  <a:lnTo>
                    <a:pt x="3110" y="2213"/>
                  </a:lnTo>
                  <a:lnTo>
                    <a:pt x="3112" y="2194"/>
                  </a:lnTo>
                  <a:lnTo>
                    <a:pt x="3114" y="2175"/>
                  </a:lnTo>
                  <a:lnTo>
                    <a:pt x="3118" y="2156"/>
                  </a:lnTo>
                  <a:lnTo>
                    <a:pt x="3118" y="2135"/>
                  </a:lnTo>
                  <a:lnTo>
                    <a:pt x="3119" y="2114"/>
                  </a:lnTo>
                  <a:lnTo>
                    <a:pt x="3119" y="2093"/>
                  </a:lnTo>
                  <a:lnTo>
                    <a:pt x="3121" y="2072"/>
                  </a:lnTo>
                  <a:lnTo>
                    <a:pt x="3121" y="2049"/>
                  </a:lnTo>
                  <a:lnTo>
                    <a:pt x="3121" y="2026"/>
                  </a:lnTo>
                  <a:lnTo>
                    <a:pt x="3121" y="2006"/>
                  </a:lnTo>
                  <a:lnTo>
                    <a:pt x="3121" y="1983"/>
                  </a:lnTo>
                  <a:lnTo>
                    <a:pt x="3121" y="1958"/>
                  </a:lnTo>
                  <a:lnTo>
                    <a:pt x="3121" y="1933"/>
                  </a:lnTo>
                  <a:lnTo>
                    <a:pt x="3119" y="1909"/>
                  </a:lnTo>
                  <a:lnTo>
                    <a:pt x="3119" y="1886"/>
                  </a:lnTo>
                  <a:lnTo>
                    <a:pt x="3118" y="1859"/>
                  </a:lnTo>
                  <a:lnTo>
                    <a:pt x="3116" y="1834"/>
                  </a:lnTo>
                  <a:lnTo>
                    <a:pt x="3116" y="1810"/>
                  </a:lnTo>
                  <a:lnTo>
                    <a:pt x="3114" y="1785"/>
                  </a:lnTo>
                  <a:lnTo>
                    <a:pt x="3112" y="1758"/>
                  </a:lnTo>
                  <a:lnTo>
                    <a:pt x="3110" y="1732"/>
                  </a:lnTo>
                  <a:lnTo>
                    <a:pt x="3106" y="1705"/>
                  </a:lnTo>
                  <a:lnTo>
                    <a:pt x="3104" y="1679"/>
                  </a:lnTo>
                  <a:lnTo>
                    <a:pt x="3100" y="1650"/>
                  </a:lnTo>
                  <a:lnTo>
                    <a:pt x="3097" y="1623"/>
                  </a:lnTo>
                  <a:lnTo>
                    <a:pt x="3093" y="1597"/>
                  </a:lnTo>
                  <a:lnTo>
                    <a:pt x="3091" y="1570"/>
                  </a:lnTo>
                  <a:lnTo>
                    <a:pt x="3085" y="1544"/>
                  </a:lnTo>
                  <a:lnTo>
                    <a:pt x="3080" y="1515"/>
                  </a:lnTo>
                  <a:lnTo>
                    <a:pt x="3074" y="1488"/>
                  </a:lnTo>
                  <a:lnTo>
                    <a:pt x="3070" y="1462"/>
                  </a:lnTo>
                  <a:lnTo>
                    <a:pt x="3064" y="1433"/>
                  </a:lnTo>
                  <a:lnTo>
                    <a:pt x="3059" y="1407"/>
                  </a:lnTo>
                  <a:lnTo>
                    <a:pt x="3053" y="1378"/>
                  </a:lnTo>
                  <a:lnTo>
                    <a:pt x="3047" y="1352"/>
                  </a:lnTo>
                  <a:lnTo>
                    <a:pt x="3040" y="1323"/>
                  </a:lnTo>
                  <a:lnTo>
                    <a:pt x="3032" y="1296"/>
                  </a:lnTo>
                  <a:lnTo>
                    <a:pt x="3024" y="1270"/>
                  </a:lnTo>
                  <a:lnTo>
                    <a:pt x="3017" y="1243"/>
                  </a:lnTo>
                  <a:lnTo>
                    <a:pt x="3007" y="1215"/>
                  </a:lnTo>
                  <a:lnTo>
                    <a:pt x="3000" y="1188"/>
                  </a:lnTo>
                  <a:lnTo>
                    <a:pt x="2990" y="1161"/>
                  </a:lnTo>
                  <a:lnTo>
                    <a:pt x="2981" y="1135"/>
                  </a:lnTo>
                  <a:lnTo>
                    <a:pt x="2971" y="1108"/>
                  </a:lnTo>
                  <a:lnTo>
                    <a:pt x="2960" y="1082"/>
                  </a:lnTo>
                  <a:lnTo>
                    <a:pt x="2950" y="1057"/>
                  </a:lnTo>
                  <a:lnTo>
                    <a:pt x="2939" y="1030"/>
                  </a:lnTo>
                  <a:lnTo>
                    <a:pt x="2927" y="1006"/>
                  </a:lnTo>
                  <a:lnTo>
                    <a:pt x="2916" y="979"/>
                  </a:lnTo>
                  <a:lnTo>
                    <a:pt x="2903" y="954"/>
                  </a:lnTo>
                  <a:lnTo>
                    <a:pt x="2891" y="931"/>
                  </a:lnTo>
                  <a:lnTo>
                    <a:pt x="2876" y="905"/>
                  </a:lnTo>
                  <a:lnTo>
                    <a:pt x="2863" y="882"/>
                  </a:lnTo>
                  <a:lnTo>
                    <a:pt x="2849" y="859"/>
                  </a:lnTo>
                  <a:lnTo>
                    <a:pt x="2836" y="836"/>
                  </a:lnTo>
                  <a:lnTo>
                    <a:pt x="2819" y="814"/>
                  </a:lnTo>
                  <a:lnTo>
                    <a:pt x="2804" y="791"/>
                  </a:lnTo>
                  <a:lnTo>
                    <a:pt x="2789" y="768"/>
                  </a:lnTo>
                  <a:lnTo>
                    <a:pt x="2773" y="747"/>
                  </a:lnTo>
                  <a:lnTo>
                    <a:pt x="2756" y="726"/>
                  </a:lnTo>
                  <a:lnTo>
                    <a:pt x="2739" y="705"/>
                  </a:lnTo>
                  <a:lnTo>
                    <a:pt x="2720" y="686"/>
                  </a:lnTo>
                  <a:lnTo>
                    <a:pt x="2703" y="667"/>
                  </a:lnTo>
                  <a:lnTo>
                    <a:pt x="2684" y="648"/>
                  </a:lnTo>
                  <a:lnTo>
                    <a:pt x="2663" y="629"/>
                  </a:lnTo>
                  <a:lnTo>
                    <a:pt x="2644" y="612"/>
                  </a:lnTo>
                  <a:lnTo>
                    <a:pt x="2625" y="595"/>
                  </a:lnTo>
                  <a:lnTo>
                    <a:pt x="2604" y="578"/>
                  </a:lnTo>
                  <a:lnTo>
                    <a:pt x="2583" y="563"/>
                  </a:lnTo>
                  <a:lnTo>
                    <a:pt x="2564" y="547"/>
                  </a:lnTo>
                  <a:lnTo>
                    <a:pt x="2545" y="532"/>
                  </a:lnTo>
                  <a:lnTo>
                    <a:pt x="2526" y="517"/>
                  </a:lnTo>
                  <a:lnTo>
                    <a:pt x="2507" y="504"/>
                  </a:lnTo>
                  <a:lnTo>
                    <a:pt x="2488" y="490"/>
                  </a:lnTo>
                  <a:lnTo>
                    <a:pt x="2471" y="477"/>
                  </a:lnTo>
                  <a:lnTo>
                    <a:pt x="2450" y="464"/>
                  </a:lnTo>
                  <a:lnTo>
                    <a:pt x="2433" y="450"/>
                  </a:lnTo>
                  <a:lnTo>
                    <a:pt x="2416" y="439"/>
                  </a:lnTo>
                  <a:lnTo>
                    <a:pt x="2401" y="428"/>
                  </a:lnTo>
                  <a:lnTo>
                    <a:pt x="2384" y="416"/>
                  </a:lnTo>
                  <a:lnTo>
                    <a:pt x="2367" y="407"/>
                  </a:lnTo>
                  <a:lnTo>
                    <a:pt x="2351" y="397"/>
                  </a:lnTo>
                  <a:lnTo>
                    <a:pt x="2336" y="388"/>
                  </a:lnTo>
                  <a:lnTo>
                    <a:pt x="2321" y="378"/>
                  </a:lnTo>
                  <a:lnTo>
                    <a:pt x="2304" y="369"/>
                  </a:lnTo>
                  <a:lnTo>
                    <a:pt x="2289" y="359"/>
                  </a:lnTo>
                  <a:lnTo>
                    <a:pt x="2275" y="352"/>
                  </a:lnTo>
                  <a:lnTo>
                    <a:pt x="2260" y="344"/>
                  </a:lnTo>
                  <a:lnTo>
                    <a:pt x="2247" y="336"/>
                  </a:lnTo>
                  <a:lnTo>
                    <a:pt x="2233" y="331"/>
                  </a:lnTo>
                  <a:lnTo>
                    <a:pt x="2222" y="323"/>
                  </a:lnTo>
                  <a:lnTo>
                    <a:pt x="2209" y="317"/>
                  </a:lnTo>
                  <a:lnTo>
                    <a:pt x="2195" y="312"/>
                  </a:lnTo>
                  <a:lnTo>
                    <a:pt x="2182" y="304"/>
                  </a:lnTo>
                  <a:lnTo>
                    <a:pt x="2173" y="300"/>
                  </a:lnTo>
                  <a:lnTo>
                    <a:pt x="2159" y="295"/>
                  </a:lnTo>
                  <a:lnTo>
                    <a:pt x="2148" y="289"/>
                  </a:lnTo>
                  <a:lnTo>
                    <a:pt x="2138" y="285"/>
                  </a:lnTo>
                  <a:lnTo>
                    <a:pt x="2129" y="281"/>
                  </a:lnTo>
                  <a:lnTo>
                    <a:pt x="2118" y="277"/>
                  </a:lnTo>
                  <a:lnTo>
                    <a:pt x="2108" y="272"/>
                  </a:lnTo>
                  <a:lnTo>
                    <a:pt x="2097" y="270"/>
                  </a:lnTo>
                  <a:lnTo>
                    <a:pt x="2087" y="266"/>
                  </a:lnTo>
                  <a:lnTo>
                    <a:pt x="2078" y="262"/>
                  </a:lnTo>
                  <a:lnTo>
                    <a:pt x="2070" y="260"/>
                  </a:lnTo>
                  <a:lnTo>
                    <a:pt x="2060" y="258"/>
                  </a:lnTo>
                  <a:lnTo>
                    <a:pt x="2055" y="255"/>
                  </a:lnTo>
                  <a:lnTo>
                    <a:pt x="2045" y="253"/>
                  </a:lnTo>
                  <a:lnTo>
                    <a:pt x="2038" y="251"/>
                  </a:lnTo>
                  <a:lnTo>
                    <a:pt x="2032" y="247"/>
                  </a:lnTo>
                  <a:lnTo>
                    <a:pt x="2024" y="247"/>
                  </a:lnTo>
                  <a:lnTo>
                    <a:pt x="2019" y="245"/>
                  </a:lnTo>
                  <a:lnTo>
                    <a:pt x="2013" y="243"/>
                  </a:lnTo>
                  <a:lnTo>
                    <a:pt x="2005" y="243"/>
                  </a:lnTo>
                  <a:lnTo>
                    <a:pt x="2002" y="243"/>
                  </a:lnTo>
                  <a:lnTo>
                    <a:pt x="1990" y="239"/>
                  </a:lnTo>
                  <a:lnTo>
                    <a:pt x="1983" y="237"/>
                  </a:lnTo>
                  <a:lnTo>
                    <a:pt x="1975" y="237"/>
                  </a:lnTo>
                  <a:lnTo>
                    <a:pt x="1969" y="237"/>
                  </a:lnTo>
                  <a:lnTo>
                    <a:pt x="1962" y="237"/>
                  </a:lnTo>
                  <a:lnTo>
                    <a:pt x="1960" y="237"/>
                  </a:lnTo>
                  <a:lnTo>
                    <a:pt x="196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1520" y="543708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547056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75080" y="3786120"/>
              <a:ext cx="2313000" cy="1352520"/>
            </a:xfrm>
            <a:custGeom>
              <a:avLst/>
              <a:gdLst/>
              <a:ahLst/>
              <a:rect l="l" t="t" r="r" b="b"/>
              <a:pathLst>
                <a:path w="2913" h="1703">
                  <a:moveTo>
                    <a:pt x="0" y="1511"/>
                  </a:moveTo>
                  <a:lnTo>
                    <a:pt x="2913" y="1703"/>
                  </a:lnTo>
                  <a:lnTo>
                    <a:pt x="2913" y="1702"/>
                  </a:lnTo>
                  <a:lnTo>
                    <a:pt x="2913" y="1694"/>
                  </a:lnTo>
                  <a:lnTo>
                    <a:pt x="2911" y="1686"/>
                  </a:lnTo>
                  <a:lnTo>
                    <a:pt x="2911" y="1681"/>
                  </a:lnTo>
                  <a:lnTo>
                    <a:pt x="2911" y="1673"/>
                  </a:lnTo>
                  <a:lnTo>
                    <a:pt x="2911" y="1665"/>
                  </a:lnTo>
                  <a:lnTo>
                    <a:pt x="2909" y="1654"/>
                  </a:lnTo>
                  <a:lnTo>
                    <a:pt x="2909" y="1643"/>
                  </a:lnTo>
                  <a:lnTo>
                    <a:pt x="2907" y="1631"/>
                  </a:lnTo>
                  <a:lnTo>
                    <a:pt x="2907" y="1618"/>
                  </a:lnTo>
                  <a:lnTo>
                    <a:pt x="2906" y="1605"/>
                  </a:lnTo>
                  <a:lnTo>
                    <a:pt x="2904" y="1591"/>
                  </a:lnTo>
                  <a:lnTo>
                    <a:pt x="2902" y="1574"/>
                  </a:lnTo>
                  <a:lnTo>
                    <a:pt x="2900" y="1561"/>
                  </a:lnTo>
                  <a:lnTo>
                    <a:pt x="2898" y="1542"/>
                  </a:lnTo>
                  <a:lnTo>
                    <a:pt x="2894" y="1525"/>
                  </a:lnTo>
                  <a:lnTo>
                    <a:pt x="2890" y="1506"/>
                  </a:lnTo>
                  <a:lnTo>
                    <a:pt x="2888" y="1487"/>
                  </a:lnTo>
                  <a:lnTo>
                    <a:pt x="2885" y="1466"/>
                  </a:lnTo>
                  <a:lnTo>
                    <a:pt x="2881" y="1447"/>
                  </a:lnTo>
                  <a:lnTo>
                    <a:pt x="2877" y="1424"/>
                  </a:lnTo>
                  <a:lnTo>
                    <a:pt x="2873" y="1405"/>
                  </a:lnTo>
                  <a:lnTo>
                    <a:pt x="2868" y="1380"/>
                  </a:lnTo>
                  <a:lnTo>
                    <a:pt x="2862" y="1359"/>
                  </a:lnTo>
                  <a:lnTo>
                    <a:pt x="2856" y="1335"/>
                  </a:lnTo>
                  <a:lnTo>
                    <a:pt x="2849" y="1312"/>
                  </a:lnTo>
                  <a:lnTo>
                    <a:pt x="2841" y="1289"/>
                  </a:lnTo>
                  <a:lnTo>
                    <a:pt x="2835" y="1264"/>
                  </a:lnTo>
                  <a:lnTo>
                    <a:pt x="2828" y="1240"/>
                  </a:lnTo>
                  <a:lnTo>
                    <a:pt x="2820" y="1215"/>
                  </a:lnTo>
                  <a:lnTo>
                    <a:pt x="2810" y="1188"/>
                  </a:lnTo>
                  <a:lnTo>
                    <a:pt x="2801" y="1162"/>
                  </a:lnTo>
                  <a:lnTo>
                    <a:pt x="2791" y="1135"/>
                  </a:lnTo>
                  <a:lnTo>
                    <a:pt x="2782" y="1110"/>
                  </a:lnTo>
                  <a:lnTo>
                    <a:pt x="2771" y="1082"/>
                  </a:lnTo>
                  <a:lnTo>
                    <a:pt x="2759" y="1057"/>
                  </a:lnTo>
                  <a:lnTo>
                    <a:pt x="2748" y="1029"/>
                  </a:lnTo>
                  <a:lnTo>
                    <a:pt x="2734" y="1004"/>
                  </a:lnTo>
                  <a:lnTo>
                    <a:pt x="2721" y="975"/>
                  </a:lnTo>
                  <a:lnTo>
                    <a:pt x="2708" y="949"/>
                  </a:lnTo>
                  <a:lnTo>
                    <a:pt x="2693" y="922"/>
                  </a:lnTo>
                  <a:lnTo>
                    <a:pt x="2679" y="895"/>
                  </a:lnTo>
                  <a:lnTo>
                    <a:pt x="2662" y="867"/>
                  </a:lnTo>
                  <a:lnTo>
                    <a:pt x="2647" y="840"/>
                  </a:lnTo>
                  <a:lnTo>
                    <a:pt x="2630" y="814"/>
                  </a:lnTo>
                  <a:lnTo>
                    <a:pt x="2613" y="789"/>
                  </a:lnTo>
                  <a:lnTo>
                    <a:pt x="2594" y="762"/>
                  </a:lnTo>
                  <a:lnTo>
                    <a:pt x="2575" y="736"/>
                  </a:lnTo>
                  <a:lnTo>
                    <a:pt x="2554" y="709"/>
                  </a:lnTo>
                  <a:lnTo>
                    <a:pt x="2533" y="684"/>
                  </a:lnTo>
                  <a:lnTo>
                    <a:pt x="2510" y="658"/>
                  </a:lnTo>
                  <a:lnTo>
                    <a:pt x="2487" y="633"/>
                  </a:lnTo>
                  <a:lnTo>
                    <a:pt x="2464" y="608"/>
                  </a:lnTo>
                  <a:lnTo>
                    <a:pt x="2442" y="584"/>
                  </a:lnTo>
                  <a:lnTo>
                    <a:pt x="2415" y="559"/>
                  </a:lnTo>
                  <a:lnTo>
                    <a:pt x="2388" y="536"/>
                  </a:lnTo>
                  <a:lnTo>
                    <a:pt x="2362" y="513"/>
                  </a:lnTo>
                  <a:lnTo>
                    <a:pt x="2335" y="491"/>
                  </a:lnTo>
                  <a:lnTo>
                    <a:pt x="2305" y="468"/>
                  </a:lnTo>
                  <a:lnTo>
                    <a:pt x="2276" y="447"/>
                  </a:lnTo>
                  <a:lnTo>
                    <a:pt x="2246" y="426"/>
                  </a:lnTo>
                  <a:lnTo>
                    <a:pt x="2215" y="407"/>
                  </a:lnTo>
                  <a:lnTo>
                    <a:pt x="2183" y="388"/>
                  </a:lnTo>
                  <a:lnTo>
                    <a:pt x="2151" y="369"/>
                  </a:lnTo>
                  <a:lnTo>
                    <a:pt x="2120" y="350"/>
                  </a:lnTo>
                  <a:lnTo>
                    <a:pt x="2090" y="333"/>
                  </a:lnTo>
                  <a:lnTo>
                    <a:pt x="2058" y="314"/>
                  </a:lnTo>
                  <a:lnTo>
                    <a:pt x="2029" y="299"/>
                  </a:lnTo>
                  <a:lnTo>
                    <a:pt x="1999" y="281"/>
                  </a:lnTo>
                  <a:lnTo>
                    <a:pt x="1970" y="266"/>
                  </a:lnTo>
                  <a:lnTo>
                    <a:pt x="1940" y="251"/>
                  </a:lnTo>
                  <a:lnTo>
                    <a:pt x="1909" y="238"/>
                  </a:lnTo>
                  <a:lnTo>
                    <a:pt x="1881" y="222"/>
                  </a:lnTo>
                  <a:lnTo>
                    <a:pt x="1854" y="211"/>
                  </a:lnTo>
                  <a:lnTo>
                    <a:pt x="1826" y="198"/>
                  </a:lnTo>
                  <a:lnTo>
                    <a:pt x="1797" y="184"/>
                  </a:lnTo>
                  <a:lnTo>
                    <a:pt x="1769" y="173"/>
                  </a:lnTo>
                  <a:lnTo>
                    <a:pt x="1744" y="164"/>
                  </a:lnTo>
                  <a:lnTo>
                    <a:pt x="1715" y="152"/>
                  </a:lnTo>
                  <a:lnTo>
                    <a:pt x="1689" y="141"/>
                  </a:lnTo>
                  <a:lnTo>
                    <a:pt x="1662" y="131"/>
                  </a:lnTo>
                  <a:lnTo>
                    <a:pt x="1637" y="124"/>
                  </a:lnTo>
                  <a:lnTo>
                    <a:pt x="1611" y="114"/>
                  </a:lnTo>
                  <a:lnTo>
                    <a:pt x="1586" y="105"/>
                  </a:lnTo>
                  <a:lnTo>
                    <a:pt x="1561" y="97"/>
                  </a:lnTo>
                  <a:lnTo>
                    <a:pt x="1539" y="89"/>
                  </a:lnTo>
                  <a:lnTo>
                    <a:pt x="1512" y="82"/>
                  </a:lnTo>
                  <a:lnTo>
                    <a:pt x="1489" y="76"/>
                  </a:lnTo>
                  <a:lnTo>
                    <a:pt x="1466" y="70"/>
                  </a:lnTo>
                  <a:lnTo>
                    <a:pt x="1443" y="63"/>
                  </a:lnTo>
                  <a:lnTo>
                    <a:pt x="1421" y="57"/>
                  </a:lnTo>
                  <a:lnTo>
                    <a:pt x="1398" y="53"/>
                  </a:lnTo>
                  <a:lnTo>
                    <a:pt x="1377" y="48"/>
                  </a:lnTo>
                  <a:lnTo>
                    <a:pt x="1356" y="44"/>
                  </a:lnTo>
                  <a:lnTo>
                    <a:pt x="1333" y="38"/>
                  </a:lnTo>
                  <a:lnTo>
                    <a:pt x="1312" y="34"/>
                  </a:lnTo>
                  <a:lnTo>
                    <a:pt x="1289" y="30"/>
                  </a:lnTo>
                  <a:lnTo>
                    <a:pt x="1270" y="27"/>
                  </a:lnTo>
                  <a:lnTo>
                    <a:pt x="1248" y="23"/>
                  </a:lnTo>
                  <a:lnTo>
                    <a:pt x="1229" y="21"/>
                  </a:lnTo>
                  <a:lnTo>
                    <a:pt x="1210" y="17"/>
                  </a:lnTo>
                  <a:lnTo>
                    <a:pt x="1191" y="15"/>
                  </a:lnTo>
                  <a:lnTo>
                    <a:pt x="1172" y="11"/>
                  </a:lnTo>
                  <a:lnTo>
                    <a:pt x="1153" y="10"/>
                  </a:lnTo>
                  <a:lnTo>
                    <a:pt x="1135" y="8"/>
                  </a:lnTo>
                  <a:lnTo>
                    <a:pt x="1118" y="8"/>
                  </a:lnTo>
                  <a:lnTo>
                    <a:pt x="1099" y="6"/>
                  </a:lnTo>
                  <a:lnTo>
                    <a:pt x="1082" y="4"/>
                  </a:lnTo>
                  <a:lnTo>
                    <a:pt x="1067" y="4"/>
                  </a:lnTo>
                  <a:lnTo>
                    <a:pt x="1050" y="4"/>
                  </a:lnTo>
                  <a:lnTo>
                    <a:pt x="1033" y="2"/>
                  </a:lnTo>
                  <a:lnTo>
                    <a:pt x="1018" y="2"/>
                  </a:lnTo>
                  <a:lnTo>
                    <a:pt x="1002" y="0"/>
                  </a:lnTo>
                  <a:lnTo>
                    <a:pt x="987" y="0"/>
                  </a:lnTo>
                  <a:lnTo>
                    <a:pt x="972" y="0"/>
                  </a:lnTo>
                  <a:lnTo>
                    <a:pt x="959" y="0"/>
                  </a:lnTo>
                  <a:lnTo>
                    <a:pt x="943" y="0"/>
                  </a:lnTo>
                  <a:lnTo>
                    <a:pt x="932" y="0"/>
                  </a:lnTo>
                  <a:lnTo>
                    <a:pt x="917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81" y="0"/>
                  </a:lnTo>
                  <a:lnTo>
                    <a:pt x="867" y="0"/>
                  </a:lnTo>
                  <a:lnTo>
                    <a:pt x="856" y="2"/>
                  </a:lnTo>
                  <a:lnTo>
                    <a:pt x="845" y="2"/>
                  </a:lnTo>
                  <a:lnTo>
                    <a:pt x="835" y="2"/>
                  </a:lnTo>
                  <a:lnTo>
                    <a:pt x="824" y="2"/>
                  </a:lnTo>
                  <a:lnTo>
                    <a:pt x="812" y="2"/>
                  </a:lnTo>
                  <a:lnTo>
                    <a:pt x="801" y="2"/>
                  </a:lnTo>
                  <a:lnTo>
                    <a:pt x="789" y="4"/>
                  </a:lnTo>
                  <a:lnTo>
                    <a:pt x="774" y="4"/>
                  </a:lnTo>
                  <a:lnTo>
                    <a:pt x="763" y="8"/>
                  </a:lnTo>
                  <a:lnTo>
                    <a:pt x="750" y="8"/>
                  </a:lnTo>
                  <a:lnTo>
                    <a:pt x="736" y="10"/>
                  </a:lnTo>
                  <a:lnTo>
                    <a:pt x="721" y="11"/>
                  </a:lnTo>
                  <a:lnTo>
                    <a:pt x="708" y="13"/>
                  </a:lnTo>
                  <a:lnTo>
                    <a:pt x="694" y="17"/>
                  </a:lnTo>
                  <a:lnTo>
                    <a:pt x="679" y="19"/>
                  </a:lnTo>
                  <a:lnTo>
                    <a:pt x="666" y="23"/>
                  </a:lnTo>
                  <a:lnTo>
                    <a:pt x="651" y="27"/>
                  </a:lnTo>
                  <a:lnTo>
                    <a:pt x="635" y="30"/>
                  </a:lnTo>
                  <a:lnTo>
                    <a:pt x="622" y="34"/>
                  </a:lnTo>
                  <a:lnTo>
                    <a:pt x="605" y="38"/>
                  </a:lnTo>
                  <a:lnTo>
                    <a:pt x="590" y="42"/>
                  </a:lnTo>
                  <a:lnTo>
                    <a:pt x="575" y="46"/>
                  </a:lnTo>
                  <a:lnTo>
                    <a:pt x="559" y="53"/>
                  </a:lnTo>
                  <a:lnTo>
                    <a:pt x="544" y="57"/>
                  </a:lnTo>
                  <a:lnTo>
                    <a:pt x="529" y="63"/>
                  </a:lnTo>
                  <a:lnTo>
                    <a:pt x="512" y="70"/>
                  </a:lnTo>
                  <a:lnTo>
                    <a:pt x="499" y="76"/>
                  </a:lnTo>
                  <a:lnTo>
                    <a:pt x="481" y="82"/>
                  </a:lnTo>
                  <a:lnTo>
                    <a:pt x="466" y="89"/>
                  </a:lnTo>
                  <a:lnTo>
                    <a:pt x="451" y="97"/>
                  </a:lnTo>
                  <a:lnTo>
                    <a:pt x="436" y="105"/>
                  </a:lnTo>
                  <a:lnTo>
                    <a:pt x="421" y="110"/>
                  </a:lnTo>
                  <a:lnTo>
                    <a:pt x="405" y="120"/>
                  </a:lnTo>
                  <a:lnTo>
                    <a:pt x="392" y="129"/>
                  </a:lnTo>
                  <a:lnTo>
                    <a:pt x="377" y="139"/>
                  </a:lnTo>
                  <a:lnTo>
                    <a:pt x="362" y="148"/>
                  </a:lnTo>
                  <a:lnTo>
                    <a:pt x="348" y="158"/>
                  </a:lnTo>
                  <a:lnTo>
                    <a:pt x="333" y="167"/>
                  </a:lnTo>
                  <a:lnTo>
                    <a:pt x="320" y="179"/>
                  </a:lnTo>
                  <a:lnTo>
                    <a:pt x="307" y="188"/>
                  </a:lnTo>
                  <a:lnTo>
                    <a:pt x="293" y="200"/>
                  </a:lnTo>
                  <a:lnTo>
                    <a:pt x="280" y="211"/>
                  </a:lnTo>
                  <a:lnTo>
                    <a:pt x="269" y="224"/>
                  </a:lnTo>
                  <a:lnTo>
                    <a:pt x="255" y="236"/>
                  </a:lnTo>
                  <a:lnTo>
                    <a:pt x="242" y="249"/>
                  </a:lnTo>
                  <a:lnTo>
                    <a:pt x="230" y="262"/>
                  </a:lnTo>
                  <a:lnTo>
                    <a:pt x="219" y="276"/>
                  </a:lnTo>
                  <a:lnTo>
                    <a:pt x="208" y="289"/>
                  </a:lnTo>
                  <a:lnTo>
                    <a:pt x="198" y="304"/>
                  </a:lnTo>
                  <a:lnTo>
                    <a:pt x="189" y="319"/>
                  </a:lnTo>
                  <a:lnTo>
                    <a:pt x="179" y="335"/>
                  </a:lnTo>
                  <a:lnTo>
                    <a:pt x="170" y="350"/>
                  </a:lnTo>
                  <a:lnTo>
                    <a:pt x="160" y="365"/>
                  </a:lnTo>
                  <a:lnTo>
                    <a:pt x="153" y="382"/>
                  </a:lnTo>
                  <a:lnTo>
                    <a:pt x="145" y="401"/>
                  </a:lnTo>
                  <a:lnTo>
                    <a:pt x="137" y="418"/>
                  </a:lnTo>
                  <a:lnTo>
                    <a:pt x="132" y="437"/>
                  </a:lnTo>
                  <a:lnTo>
                    <a:pt x="126" y="456"/>
                  </a:lnTo>
                  <a:lnTo>
                    <a:pt x="120" y="475"/>
                  </a:lnTo>
                  <a:lnTo>
                    <a:pt x="115" y="494"/>
                  </a:lnTo>
                  <a:lnTo>
                    <a:pt x="111" y="513"/>
                  </a:lnTo>
                  <a:lnTo>
                    <a:pt x="107" y="534"/>
                  </a:lnTo>
                  <a:lnTo>
                    <a:pt x="105" y="555"/>
                  </a:lnTo>
                  <a:lnTo>
                    <a:pt x="103" y="578"/>
                  </a:lnTo>
                  <a:lnTo>
                    <a:pt x="101" y="599"/>
                  </a:lnTo>
                  <a:lnTo>
                    <a:pt x="101" y="622"/>
                  </a:lnTo>
                  <a:lnTo>
                    <a:pt x="103" y="646"/>
                  </a:lnTo>
                  <a:lnTo>
                    <a:pt x="103" y="667"/>
                  </a:lnTo>
                  <a:lnTo>
                    <a:pt x="103" y="686"/>
                  </a:lnTo>
                  <a:lnTo>
                    <a:pt x="103" y="707"/>
                  </a:lnTo>
                  <a:lnTo>
                    <a:pt x="103" y="728"/>
                  </a:lnTo>
                  <a:lnTo>
                    <a:pt x="101" y="749"/>
                  </a:lnTo>
                  <a:lnTo>
                    <a:pt x="101" y="768"/>
                  </a:lnTo>
                  <a:lnTo>
                    <a:pt x="101" y="789"/>
                  </a:lnTo>
                  <a:lnTo>
                    <a:pt x="101" y="810"/>
                  </a:lnTo>
                  <a:lnTo>
                    <a:pt x="99" y="829"/>
                  </a:lnTo>
                  <a:lnTo>
                    <a:pt x="99" y="850"/>
                  </a:lnTo>
                  <a:lnTo>
                    <a:pt x="97" y="869"/>
                  </a:lnTo>
                  <a:lnTo>
                    <a:pt x="97" y="890"/>
                  </a:lnTo>
                  <a:lnTo>
                    <a:pt x="94" y="909"/>
                  </a:lnTo>
                  <a:lnTo>
                    <a:pt x="94" y="930"/>
                  </a:lnTo>
                  <a:lnTo>
                    <a:pt x="92" y="949"/>
                  </a:lnTo>
                  <a:lnTo>
                    <a:pt x="92" y="968"/>
                  </a:lnTo>
                  <a:lnTo>
                    <a:pt x="88" y="987"/>
                  </a:lnTo>
                  <a:lnTo>
                    <a:pt x="86" y="1004"/>
                  </a:lnTo>
                  <a:lnTo>
                    <a:pt x="84" y="1023"/>
                  </a:lnTo>
                  <a:lnTo>
                    <a:pt x="82" y="1042"/>
                  </a:lnTo>
                  <a:lnTo>
                    <a:pt x="80" y="1061"/>
                  </a:lnTo>
                  <a:lnTo>
                    <a:pt x="78" y="1078"/>
                  </a:lnTo>
                  <a:lnTo>
                    <a:pt x="75" y="1097"/>
                  </a:lnTo>
                  <a:lnTo>
                    <a:pt x="75" y="1114"/>
                  </a:lnTo>
                  <a:lnTo>
                    <a:pt x="71" y="1131"/>
                  </a:lnTo>
                  <a:lnTo>
                    <a:pt x="69" y="1148"/>
                  </a:lnTo>
                  <a:lnTo>
                    <a:pt x="67" y="1164"/>
                  </a:lnTo>
                  <a:lnTo>
                    <a:pt x="65" y="1181"/>
                  </a:lnTo>
                  <a:lnTo>
                    <a:pt x="63" y="1196"/>
                  </a:lnTo>
                  <a:lnTo>
                    <a:pt x="59" y="1213"/>
                  </a:lnTo>
                  <a:lnTo>
                    <a:pt x="57" y="1228"/>
                  </a:lnTo>
                  <a:lnTo>
                    <a:pt x="56" y="1245"/>
                  </a:lnTo>
                  <a:lnTo>
                    <a:pt x="54" y="1259"/>
                  </a:lnTo>
                  <a:lnTo>
                    <a:pt x="50" y="1272"/>
                  </a:lnTo>
                  <a:lnTo>
                    <a:pt x="48" y="1285"/>
                  </a:lnTo>
                  <a:lnTo>
                    <a:pt x="46" y="1300"/>
                  </a:lnTo>
                  <a:lnTo>
                    <a:pt x="42" y="1314"/>
                  </a:lnTo>
                  <a:lnTo>
                    <a:pt x="38" y="1327"/>
                  </a:lnTo>
                  <a:lnTo>
                    <a:pt x="37" y="1340"/>
                  </a:lnTo>
                  <a:lnTo>
                    <a:pt x="35" y="1354"/>
                  </a:lnTo>
                  <a:lnTo>
                    <a:pt x="31" y="1363"/>
                  </a:lnTo>
                  <a:lnTo>
                    <a:pt x="29" y="1376"/>
                  </a:lnTo>
                  <a:lnTo>
                    <a:pt x="27" y="1386"/>
                  </a:lnTo>
                  <a:lnTo>
                    <a:pt x="25" y="1397"/>
                  </a:lnTo>
                  <a:lnTo>
                    <a:pt x="23" y="1407"/>
                  </a:lnTo>
                  <a:lnTo>
                    <a:pt x="21" y="1418"/>
                  </a:lnTo>
                  <a:lnTo>
                    <a:pt x="19" y="1428"/>
                  </a:lnTo>
                  <a:lnTo>
                    <a:pt x="18" y="1437"/>
                  </a:lnTo>
                  <a:lnTo>
                    <a:pt x="14" y="1445"/>
                  </a:lnTo>
                  <a:lnTo>
                    <a:pt x="14" y="1453"/>
                  </a:lnTo>
                  <a:lnTo>
                    <a:pt x="12" y="1460"/>
                  </a:lnTo>
                  <a:lnTo>
                    <a:pt x="10" y="1468"/>
                  </a:lnTo>
                  <a:lnTo>
                    <a:pt x="8" y="1473"/>
                  </a:lnTo>
                  <a:lnTo>
                    <a:pt x="6" y="1481"/>
                  </a:lnTo>
                  <a:lnTo>
                    <a:pt x="4" y="1485"/>
                  </a:lnTo>
                  <a:lnTo>
                    <a:pt x="4" y="1492"/>
                  </a:lnTo>
                  <a:lnTo>
                    <a:pt x="2" y="1500"/>
                  </a:lnTo>
                  <a:lnTo>
                    <a:pt x="0" y="1506"/>
                  </a:lnTo>
                  <a:lnTo>
                    <a:pt x="0" y="1510"/>
                  </a:lnTo>
                  <a:lnTo>
                    <a:pt x="0" y="1511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3760" y="410832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1800" y="468648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5440" y="389556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4920" y="389088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7520" y="417348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7480" y="381312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6320" y="452124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3280" y="389268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48080" y="497988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97280" y="452124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3240" y="416736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78200" y="468648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2680" y="440856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32480" y="411624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2600" y="411624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76760" y="435780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9680" y="490392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0600" y="576756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2120" y="568656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73724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2720" y="480996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7720" y="462132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28012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30640" y="540540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7400" y="494820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4600" y="529740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17960" y="464184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48120" y="432432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0" y="438300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0040" y="456876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600" y="439596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1600" y="442116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4160" y="477216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57560" y="491652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76560" y="482616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81320" y="474012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464184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7320" y="470520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3240" y="467820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2280" y="47005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7800" y="471312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21280" y="474516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6240" y="478296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560" y="480852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3520" y="47750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4320" y="560088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8000" y="575928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6440" y="581328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13200" y="569592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8600" y="546588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6720" y="551808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3000" y="576756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67160" y="581328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9880" y="583560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76720" y="538308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62320" y="526428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4880" y="525456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7560" y="539100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54640" y="575136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2720" y="576432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0400" y="586728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1360" y="580392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76720" y="535788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1320" y="492768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440" y="439092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6040" y="452772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4200" y="439884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8320" y="450684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9960" y="447516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2320" y="444672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5040" y="442116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0640" y="440208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840" y="430848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90960" y="434340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0440" y="435924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5200" y="467352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73560" y="459108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4200" y="463068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6360" y="457992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7600" y="462600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18120" y="462276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7600" y="500544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46076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9480" y="440388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439272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3640" y="433872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3760" y="443088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92600" y="408780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408636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9360" y="410688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1320" y="411480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27440" y="417204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440" y="576432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0880" y="584028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6320" y="500364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572436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2920" y="576432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3160" y="574200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2520" y="578484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6800" y="577368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2800" y="512280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0840" y="512928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8520" y="512280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504360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5720" y="501336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2280" y="509580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449568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8920" y="449568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240" y="498168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9640" y="506268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2120" y="508968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3560" y="515628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68760" y="449280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451152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7320" y="441324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5720" y="451152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5040" y="459108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4280" y="458316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57880" y="466740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07120" y="454356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00640" y="414828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960" y="408456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11480" y="387180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389268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5200" y="396252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5600" y="389088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3040" y="388476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8720" y="449748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6320" y="451332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7760" y="457524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7000" y="452448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880" y="458316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1240" y="484812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98840" y="477036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95960" y="475776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760" y="467676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0920" y="465120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7400" y="468792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840" y="461340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3160" y="495612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08480" y="510840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41640" y="528624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4600" y="518328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8280" y="509904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1120" y="502452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07040" y="447660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960" y="452448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2200" y="438156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5600" y="437184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4880" y="431784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480528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7360" y="447372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9680" y="478476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2120" y="467352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0800" y="524016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1960" y="513252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7720" y="508320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3840" y="567540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67280" y="435132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8440" y="424512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33760" y="417528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8920" y="380988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67320" y="382896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 rot="1411200">
            <a:off x="3733560" y="5114880"/>
            <a:ext cx="3045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RYC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77A-5EF9-4FAE-A229-1566685BD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lan de trabaj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visión bibliográfica: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Definición del probl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básic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Nov. 04 – Ab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avanz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ay. 05 – Sep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uesta en marcha del sist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ep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nálisis de result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dacción y revisione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4 – Dic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AFD-169B-4EF3-9688-7EC654B47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Bruce L. Golden; Arjang A. Assad; Edward A. Wasil: “Routing Vehicles in the Real World: Applications in the Solid Waste, Beverage, Food, Dairy, and Newspaper Industries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Lloyd W. Clarke; Martin W.P. Savelsberh: “Inventory Routing in Practice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3CC-6665-4835-B205-C3DD5DCC2C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0-22T14:08:46Z</dcterms:modified>
  <cp:revision>4</cp:revision>
  <dc:subject/>
  <dc:title>Distribución y Manejo de Inventarios en Supermercados BRYC</dc:title>
</cp:coreProperties>
</file>