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6930-F920-422A-AE8A-F48BB5BA1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398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4073-3163-4213-98D4-9F257975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398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398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BA85-5FC2-4EA2-BCFA-6A4638FD6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916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916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398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398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398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6CD1-E4D5-4311-8081-A49936E45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C376-1001-42C1-A59F-BC8F6CD3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A096-19C8-4128-BA73-72AECAC2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D3C2-FE85-4E9A-B2F4-0249BF03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23BD-874C-44F9-AD64-31E63B4C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68000" y="764640"/>
            <a:ext cx="828036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D820-BC9E-433F-98DE-F69AED76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98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AFC1-3A16-4E7A-B452-324FE525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398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898F-1C51-4137-A12E-15396DD3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98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F5ED-894C-4057-9113-A0F1444E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92360" y="5229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3492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5CEA-1227-4F5D-B76A-EFB41FFD86D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410160"/>
            <a:ext cx="9325080" cy="4478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396360" cy="6922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34920" y="39600"/>
            <a:ext cx="619200" cy="58104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2627280" y="189000"/>
            <a:ext cx="3714840" cy="39060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2050920" y="652140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ffffff"/>
                </a:solidFill>
                <a:latin typeface="Lucida Sans"/>
              </a:rPr>
              <a:t>Magíster en Gestión de Oper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2050920" y="652140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ffffff"/>
                </a:solidFill>
                <a:latin typeface="Lucida Sans"/>
              </a:rPr>
              <a:t>Magíster en Gestión de Oper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6"/>
          <a:stretch/>
        </p:blipFill>
        <p:spPr>
          <a:xfrm>
            <a:off x="971640" y="1949400"/>
            <a:ext cx="7238880" cy="4000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84692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PRONOSTICOS A NIVEL DE SKU UTILIZANDO INFORMACION AGREGAD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uan José Jove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fesor guía: Marcel Go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ctubre de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der and Hardie (199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6562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ues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ión de ut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843280" y="2293920"/>
                <a:ext cx="295272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ref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332000" y="4059360"/>
                <a:ext cx="669600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l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p>
                          <m:e/>
                        </m:nary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l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n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TLO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s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der and Hardie (199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 pronosticar ventas para productos actuales y extensiones de lín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ámetros fáciles de interpretar y con gran cantidad de u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oría y mod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der and Hardie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Ho and Chong (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l, Bonfrer and Chintagunta (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1412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 and Chong (2003)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6778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ión de ut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erzo a nivel de atribu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erzo a nivel de produ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722680" y="2585880"/>
                <a:ext cx="4057560" cy="6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668680" y="3286080"/>
                <a:ext cx="442908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l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k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 and Chong (200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úmero de parámetros del modelo independiente del número de niveles de cada atrib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 realizar pronósticos de ventas para productos actuales y extensiones de líne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oría y mod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der and Hardie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 and Chong (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Bell, Bonfrer and Chintagunta (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980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ll, Bonfrer and Chintagunta (2004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77868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focado en participaciones de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fecto fijo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nivel de S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132000" y="3284640"/>
                <a:ext cx="316872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t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t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611280" y="3141720"/>
            <a:ext cx="61927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umien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uede mostr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059280" y="5157720"/>
                <a:ext cx="33843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t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ll, Bonfrer and Chintagunta (200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 interacción entre atributos incorporando el 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fecto fij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 obtener influencias del marketing mix y elasticidades a nivel de 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a información más “accesib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 realizar pronósticos de ventas para productos actuales y extensiones de lín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l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odología de apoyo a las decisiones de lín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Que pasa si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Que SKUs elimin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Cuales agreg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Que clase de marketing realiz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268360" y="1951200"/>
            <a:ext cx="5593320" cy="3565440"/>
            <a:chOff x="2268360" y="1951200"/>
            <a:chExt cx="5593320" cy="3565440"/>
          </a:xfrm>
        </p:grpSpPr>
        <p:sp>
          <p:nvSpPr>
            <p:cNvPr id="138" name=""/>
            <p:cNvSpPr/>
            <p:nvPr/>
          </p:nvSpPr>
          <p:spPr>
            <a:xfrm>
              <a:off x="2268360" y="4325760"/>
              <a:ext cx="4606920" cy="3985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idación e instrumentación de la solu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69800" y="1951200"/>
              <a:ext cx="4606920" cy="39816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finición del probl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69800" y="2743200"/>
              <a:ext cx="4606920" cy="3985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sarrollo del mode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68360" y="3535200"/>
              <a:ext cx="4606920" cy="3985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lución del mode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68360" y="5118120"/>
              <a:ext cx="4606920" cy="3985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álisis y discusión de result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30520" y="2349360"/>
              <a:ext cx="142560" cy="358920"/>
            </a:xfrm>
            <a:prstGeom prst="downArrow">
              <a:avLst>
                <a:gd name="adj1" fmla="val 50000"/>
                <a:gd name="adj2" fmla="val 62942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430520" y="3141720"/>
              <a:ext cx="142560" cy="358560"/>
            </a:xfrm>
            <a:prstGeom prst="downArrow">
              <a:avLst>
                <a:gd name="adj1" fmla="val 50000"/>
                <a:gd name="adj2" fmla="val 6287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30520" y="3933720"/>
              <a:ext cx="142560" cy="358920"/>
            </a:xfrm>
            <a:prstGeom prst="downArrow">
              <a:avLst>
                <a:gd name="adj1" fmla="val 50000"/>
                <a:gd name="adj2" fmla="val 62942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0520" y="4724280"/>
              <a:ext cx="142560" cy="358920"/>
            </a:xfrm>
            <a:prstGeom prst="downArrow">
              <a:avLst>
                <a:gd name="adj1" fmla="val 50000"/>
                <a:gd name="adj2" fmla="val 62942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7" name=""/>
            <p:cNvCxnSpPr>
              <a:stCxn id="141" idx="3"/>
              <a:endCxn id="140" idx="3"/>
            </p:cNvCxnSpPr>
            <p:nvPr/>
          </p:nvCxnSpPr>
          <p:spPr>
            <a:xfrm flipV="1">
              <a:off x="6875280" y="2943000"/>
              <a:ext cx="2160" cy="792720"/>
            </a:xfrm>
            <a:prstGeom prst="bentConnector3">
              <a:avLst>
                <a:gd name="adj1" fmla="val 54800000"/>
              </a:avLst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48" name=""/>
            <p:cNvCxnSpPr>
              <a:stCxn id="138" idx="3"/>
              <a:endCxn id="140" idx="3"/>
            </p:cNvCxnSpPr>
            <p:nvPr/>
          </p:nvCxnSpPr>
          <p:spPr>
            <a:xfrm flipV="1">
              <a:off x="6875280" y="2943000"/>
              <a:ext cx="2160" cy="1583280"/>
            </a:xfrm>
            <a:prstGeom prst="bentConnector3">
              <a:avLst>
                <a:gd name="adj1" fmla="val 54800000"/>
              </a:avLst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5627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ción por categor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oría y mode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lic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003640" y="3716280"/>
            <a:ext cx="2625840" cy="197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79280" y="1887480"/>
          <a:ext cx="8748720" cy="3549600"/>
        </p:xfrm>
        <a:graphic>
          <a:graphicData uri="http://schemas.openxmlformats.org/drawingml/2006/table">
            <a:tbl>
              <a:tblPr/>
              <a:tblGrid>
                <a:gridCol w="1638360"/>
                <a:gridCol w="546120"/>
                <a:gridCol w="546120"/>
                <a:gridCol w="547560"/>
                <a:gridCol w="546120"/>
                <a:gridCol w="549360"/>
                <a:gridCol w="546120"/>
                <a:gridCol w="547560"/>
                <a:gridCol w="546120"/>
                <a:gridCol w="546120"/>
                <a:gridCol w="547920"/>
                <a:gridCol w="547560"/>
                <a:gridCol w="547560"/>
                <a:gridCol w="546120"/>
              </a:tblGrid>
              <a:tr h="390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visión bibliografía bás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erimentos de prue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álisis y elección de metodologí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2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tención de da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uc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idación e Instrument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álisis y discusión de resulta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licancias y aplicaci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nalización del infor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3366ff"/>
                    </a:solidFill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835280" y="24922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16360" y="2852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95640" y="3141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67280" y="3789360"/>
            <a:ext cx="252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67280" y="4149720"/>
            <a:ext cx="252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92360" y="350028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227640" y="45813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04000" y="4941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08720" y="5300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384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9640" y="1773360"/>
            <a:ext cx="8064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trabajara bajo un nuevo enfoque que permi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nosticar ventas para productos actuales y extensiones de lí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r elasticidades a nivel de 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ibrar modelos independientes del número de SKUs en la catego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écnica nueva que no ha sido realmente prob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cia de los 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a aplicabilidad del modelo a distintas deci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185840" y="836640"/>
            <a:ext cx="6842160" cy="54324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346560" y="148428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¿Pregunta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73929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Es posible trabajar a nivel de SK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116000" y="2637000"/>
            <a:ext cx="6985080" cy="3097080"/>
            <a:chOff x="1116000" y="2637000"/>
            <a:chExt cx="6985080" cy="3097080"/>
          </a:xfrm>
        </p:grpSpPr>
        <p:sp>
          <p:nvSpPr>
            <p:cNvPr id="56" name=""/>
            <p:cNvSpPr/>
            <p:nvPr/>
          </p:nvSpPr>
          <p:spPr>
            <a:xfrm>
              <a:off x="5654880" y="5292000"/>
              <a:ext cx="244584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g John, Pro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51760" y="5292000"/>
              <a:ext cx="210276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0 - 8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16000" y="5292000"/>
              <a:ext cx="243576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endas de convenie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654880" y="4849200"/>
              <a:ext cx="244584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gas, Economax, Montecar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51760" y="4849200"/>
              <a:ext cx="2102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.000 - 10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16000" y="4849200"/>
              <a:ext cx="2435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ermercados económic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654880" y="4407120"/>
              <a:ext cx="244584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mac, Unimarc, Sta. Isab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51760" y="4407120"/>
              <a:ext cx="210276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16000" y="4407120"/>
              <a:ext cx="243576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ermercados tradicion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654880" y="3963960"/>
              <a:ext cx="244584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ko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551760" y="3963960"/>
              <a:ext cx="210276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16000" y="3963960"/>
              <a:ext cx="243576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permercados económic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654880" y="3521880"/>
              <a:ext cx="244584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Jumb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51760" y="3521880"/>
              <a:ext cx="210276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116000" y="3521880"/>
              <a:ext cx="243576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permerca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654880" y="3079080"/>
              <a:ext cx="244584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der, Carrefo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51760" y="3079080"/>
              <a:ext cx="2102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16000" y="3079080"/>
              <a:ext cx="2435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gamerca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654880" y="2637000"/>
              <a:ext cx="24458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Ejemp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551760" y="2637000"/>
              <a:ext cx="2102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Variedad de produc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57400" y="2637000"/>
              <a:ext cx="2435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Form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16000" y="2637000"/>
              <a:ext cx="698508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116000" y="5734080"/>
              <a:ext cx="698508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16000" y="2637000"/>
              <a:ext cx="0" cy="3097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101080" y="2637000"/>
              <a:ext cx="0" cy="3097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116000" y="3079080"/>
              <a:ext cx="698508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116000" y="3521880"/>
              <a:ext cx="698508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16000" y="3963960"/>
              <a:ext cx="698508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16000" y="4407120"/>
              <a:ext cx="698508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16000" y="4849200"/>
              <a:ext cx="698508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00" y="5292000"/>
              <a:ext cx="698508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-30600" y="6093000"/>
            <a:ext cx="773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nte: Máximo Bosch, apuntes del curso gestión de operaciones para la industria de servi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dministración por categorí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tegory Management implica definir a las categorías como unidades estratégicas de negocios y que es necesario involucrar al proveedor para asegurar un expertise suficiente sobre la categoría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dministración por categorí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iona bien a nivel táctico – estraté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ómo tomar decisiones para miles de productos distintos respecto a las variables precio, espacio, surtido y promo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90936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¿Como resolver problemas a nivel de SK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384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39640" y="2852640"/>
            <a:ext cx="3240360" cy="2552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flipV="1">
            <a:off x="3995640" y="2492280"/>
            <a:ext cx="150984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995640" y="3284280"/>
            <a:ext cx="15098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95640" y="3645000"/>
            <a:ext cx="15098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95640" y="3645000"/>
            <a:ext cx="150984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80000" y="3068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bor: Mento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80000" y="39337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maño: 100 g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80000" y="2276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rca: Aquafr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80000" y="4724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po: Ni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19640" y="3645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90936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¿Como resolver problemas a nivel de SK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8002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os como conjuntos de 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dad como función aditiva de los niveles de 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492360" y="4076640"/>
            <a:ext cx="237672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oría y mod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der and Hardie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 and Chong (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l, Bonfrer and Chintagunta (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oría y mod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Fader and Hardie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 and Chong (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l, Bonfrer and Chintagunta (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5T18:12:37Z</dcterms:created>
  <dc:creator>Juan José Jove A.</dc:creator>
  <dc:description/>
  <dc:language>en-US</dc:language>
  <cp:lastModifiedBy>julie lagos</cp:lastModifiedBy>
  <dcterms:modified xsi:type="dcterms:W3CDTF">2004-10-22T14:11:45Z</dcterms:modified>
  <cp:revision>56</cp:revision>
  <dc:subject/>
  <dc:title>PRONOSTICOS A NIVEL DE SKU UTILIZANDO INFORMACION AGREGADA</dc:title>
</cp:coreProperties>
</file>