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2E4-F443-46B4-A48E-6F3C4FBF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98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397-5858-4CD6-B7E8-C1CBEA61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DEC-3A64-476D-9E4A-CB592334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98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98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98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46D-0259-4C8B-B891-86FAB736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3BE-1DBD-472F-9476-D4C5A48F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C1D-7406-4483-9FCC-80285945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A42-C6DF-45FB-A632-C455F17B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955-828D-4B5E-9474-309DBE83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8000" y="764640"/>
            <a:ext cx="82803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FD4-99B5-4396-A48E-A8534C67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2F8-6328-45F9-8552-A528E0E5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F7F-2518-45B3-B87B-D4E71698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98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17B-8998-48E6-9362-05C44DC6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92360" y="5229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4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858B-F898-4DAE-8DCD-8E3BA53406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410160"/>
            <a:ext cx="9325080" cy="447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96360" cy="692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4920" y="39600"/>
            <a:ext cx="619200" cy="5810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2627280" y="189000"/>
            <a:ext cx="3714840" cy="3906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050920" y="65214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Lucida Sans"/>
              </a:rPr>
              <a:t>Magíster en Gestión de Op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050920" y="65214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Lucida Sans"/>
              </a:rPr>
              <a:t>Magíster en Gestión de Op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6"/>
          <a:stretch/>
        </p:blipFill>
        <p:spPr>
          <a:xfrm>
            <a:off x="971640" y="1949400"/>
            <a:ext cx="7238880" cy="400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84692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PRONOSTICOS A NIVEL DE SKU UTILIZANDO INFORMACION AGREGAD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uan José Jove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fesor guía: Marcel G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ctubre de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6562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de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843280" y="2293920"/>
                <a:ext cx="2952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32000" y="4059360"/>
                <a:ext cx="66960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  <m:e/>
                        </m:nary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l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n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LO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pronosticar ventas para productos actuales y extensiones de lí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ámetros fáciles de interpretar y con gran cantidad de u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6778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de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erzo a nivel de atribu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erzo a nivel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22680" y="2585880"/>
                <a:ext cx="4057560" cy="6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668680" y="3286080"/>
                <a:ext cx="4429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úmero de parámetros del modelo independiente del número de niveles de cada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realizar pronósticos de ventas para productos actuales y extensiones de lín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7786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cado en participaciones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fecto fijo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nivel de 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132000" y="3284640"/>
                <a:ext cx="31687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11280" y="3141720"/>
            <a:ext cx="6192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umi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uede most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059280" y="5157720"/>
                <a:ext cx="3384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t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 interacción entre atributos incorporando el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ecto fij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obtener influencias del marketing mix y elasticidades a nivel de 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 información más “accesi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realizar pronósticos de ventas para productos actuales y extensiones de lí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odología de apoyo a las decisiones de lín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pasa s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SKUs elimin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ales agreg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clase de marketing realiz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268360" y="1951200"/>
            <a:ext cx="5593320" cy="3565440"/>
            <a:chOff x="2268360" y="1951200"/>
            <a:chExt cx="5593320" cy="3565440"/>
          </a:xfrm>
        </p:grpSpPr>
        <p:sp>
          <p:nvSpPr>
            <p:cNvPr id="138" name=""/>
            <p:cNvSpPr/>
            <p:nvPr/>
          </p:nvSpPr>
          <p:spPr>
            <a:xfrm>
              <a:off x="2268360" y="432576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ción e instrumentación de la so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69800" y="1951200"/>
              <a:ext cx="4606920" cy="3981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finición del 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69800" y="274320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arrollo del 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8360" y="353520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lución del 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68360" y="511812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álisis y discusión de 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30520" y="2349360"/>
              <a:ext cx="142560" cy="358920"/>
            </a:xfrm>
            <a:prstGeom prst="downArrow">
              <a:avLst>
                <a:gd name="adj1" fmla="val 50000"/>
                <a:gd name="adj2" fmla="val 629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30520" y="3141720"/>
              <a:ext cx="142560" cy="358560"/>
            </a:xfrm>
            <a:prstGeom prst="downArrow">
              <a:avLst>
                <a:gd name="adj1" fmla="val 50000"/>
                <a:gd name="adj2" fmla="val 6287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30520" y="3933720"/>
              <a:ext cx="142560" cy="358920"/>
            </a:xfrm>
            <a:prstGeom prst="downArrow">
              <a:avLst>
                <a:gd name="adj1" fmla="val 50000"/>
                <a:gd name="adj2" fmla="val 629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0520" y="4724280"/>
              <a:ext cx="142560" cy="358920"/>
            </a:xfrm>
            <a:prstGeom prst="downArrow">
              <a:avLst>
                <a:gd name="adj1" fmla="val 50000"/>
                <a:gd name="adj2" fmla="val 629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41" idx="3"/>
              <a:endCxn id="140" idx="3"/>
            </p:cNvCxnSpPr>
            <p:nvPr/>
          </p:nvCxnSpPr>
          <p:spPr>
            <a:xfrm flipV="1">
              <a:off x="6875280" y="2943000"/>
              <a:ext cx="2160" cy="792720"/>
            </a:xfrm>
            <a:prstGeom prst="bentConnector3">
              <a:avLst>
                <a:gd name="adj1" fmla="val 5480000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8" name=""/>
            <p:cNvCxnSpPr>
              <a:stCxn id="138" idx="3"/>
              <a:endCxn id="140" idx="3"/>
            </p:cNvCxnSpPr>
            <p:nvPr/>
          </p:nvCxnSpPr>
          <p:spPr>
            <a:xfrm flipV="1">
              <a:off x="6875280" y="2943000"/>
              <a:ext cx="2160" cy="1583280"/>
            </a:xfrm>
            <a:prstGeom prst="bentConnector3">
              <a:avLst>
                <a:gd name="adj1" fmla="val 5480000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5627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ción por categ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03640" y="3716280"/>
            <a:ext cx="2625840" cy="19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887480"/>
          <a:ext cx="8748720" cy="3549600"/>
        </p:xfrm>
        <a:graphic>
          <a:graphicData uri="http://schemas.openxmlformats.org/drawingml/2006/table">
            <a:tbl>
              <a:tblPr/>
              <a:tblGrid>
                <a:gridCol w="1638360"/>
                <a:gridCol w="546120"/>
                <a:gridCol w="546120"/>
                <a:gridCol w="547560"/>
                <a:gridCol w="546120"/>
                <a:gridCol w="549360"/>
                <a:gridCol w="546120"/>
                <a:gridCol w="547560"/>
                <a:gridCol w="546120"/>
                <a:gridCol w="546120"/>
                <a:gridCol w="547920"/>
                <a:gridCol w="547560"/>
                <a:gridCol w="547560"/>
                <a:gridCol w="546120"/>
              </a:tblGrid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sión bibliografía bá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rimentos de prue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álisis y elección de metodolog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tención de da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u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idación e Instrument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álisis y discusión de result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icancias y aplica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lización del info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83528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2852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3141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67280" y="378936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14972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3500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4581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04000" y="4941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08720" y="530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9640" y="1773360"/>
            <a:ext cx="80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trabajara bajo un nuevo enfoque que perm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nosticar ventas para productos actuales y extensiones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elasticidades a nivel de 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r modelos independientes del número de SKUs en la categ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écnica nueva que no ha sido realmente prob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ia de los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a aplicabilidad del modelo a distintas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85840" y="836640"/>
            <a:ext cx="6842160" cy="5432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346560" y="1484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¿Pregunt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73929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Es posible trabajar a nivel de SK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116000" y="2637000"/>
            <a:ext cx="6985080" cy="3097080"/>
            <a:chOff x="1116000" y="2637000"/>
            <a:chExt cx="6985080" cy="3097080"/>
          </a:xfrm>
        </p:grpSpPr>
        <p:sp>
          <p:nvSpPr>
            <p:cNvPr id="56" name=""/>
            <p:cNvSpPr/>
            <p:nvPr/>
          </p:nvSpPr>
          <p:spPr>
            <a:xfrm>
              <a:off x="5654880" y="5292000"/>
              <a:ext cx="24458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g John, Pro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51760" y="5292000"/>
              <a:ext cx="2102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 - 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16000" y="5292000"/>
              <a:ext cx="2435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endas de conveni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54880" y="4849200"/>
              <a:ext cx="24458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as, Economax, Montecar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51760" y="4849200"/>
              <a:ext cx="210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000 - 1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16000" y="4849200"/>
              <a:ext cx="2435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mercados económ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54880" y="4407120"/>
              <a:ext cx="24458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mac, Unimarc, Sta. Isab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51760" y="4407120"/>
              <a:ext cx="2102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16000" y="4407120"/>
              <a:ext cx="2435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mercados tradi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54880" y="3963960"/>
              <a:ext cx="244584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ko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51760" y="3963960"/>
              <a:ext cx="21027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16000" y="3963960"/>
              <a:ext cx="24357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permercados económ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54880" y="3521880"/>
              <a:ext cx="24458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mb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51760" y="3521880"/>
              <a:ext cx="2102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16000" y="3521880"/>
              <a:ext cx="2435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permerc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54880" y="3079080"/>
              <a:ext cx="24458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der, Carrefo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51760" y="3079080"/>
              <a:ext cx="210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6000" y="3079080"/>
              <a:ext cx="2435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gamerc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54880" y="2637000"/>
              <a:ext cx="2445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Ejemp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51760" y="2637000"/>
              <a:ext cx="210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Variedad de produc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7400" y="2637000"/>
              <a:ext cx="2435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For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16000" y="263700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16000" y="573408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16000" y="2637000"/>
              <a:ext cx="0" cy="3097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01080" y="2637000"/>
              <a:ext cx="0" cy="3097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16000" y="307908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16000" y="352188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16000" y="396396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00" y="440712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00" y="484920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00" y="529200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-30600" y="6093000"/>
            <a:ext cx="77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nte: Máximo Bosch, apuntes del curso gestión de operaciones para la industria de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dministración por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egory Management implica definir a las categorías como unidades estratégicas de negocios y que es necesario involucrar al proveedor para asegurar un expertise suficiente sobre la categoría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dministración por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a bien a nivel táctico –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tomar decisiones para miles de productos distintos respecto a las variables precio, espacio, surtido y promo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90936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¿Como resolver problemas a nivel de SK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240360" cy="255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V="1">
            <a:off x="3995640" y="2492280"/>
            <a:ext cx="15098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95640" y="3284280"/>
            <a:ext cx="1509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3645000"/>
            <a:ext cx="15098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5640" y="3645000"/>
            <a:ext cx="15098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8000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or: Mento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393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año: 100 g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227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: Aquaf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472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o: 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90936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¿Como resolver problemas a nivel de SK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002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os como conjuntos de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 como función aditiva de los niveles de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360" y="4076640"/>
            <a:ext cx="23767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8:12:37Z</dcterms:created>
  <dc:creator>Juan José Jove A.</dc:creator>
  <dc:description/>
  <dc:language>en-US</dc:language>
  <cp:lastModifiedBy>julie lagos</cp:lastModifiedBy>
  <dcterms:modified xsi:type="dcterms:W3CDTF">2004-10-22T14:11:45Z</dcterms:modified>
  <cp:revision>56</cp:revision>
  <dc:subject/>
  <dc:title>PRONOSTICOS A NIVEL DE SKU UTILIZANDO INFORMACION AGREGADA</dc:title>
</cp:coreProperties>
</file>