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68A5-A0E2-4A07-B31F-9D88BB3A0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E992-5708-44C0-8135-E3302997D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EB8D-9B98-4F30-93A6-CF849054F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52C8-74DB-4202-B757-055AFD7489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9F0B-86E2-4E1B-B862-2BD109F69A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46F6-7B02-4C65-9695-B6B6FF36C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9A38-EED5-489A-A86D-6282BB118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A069-3202-432F-8A48-1473E128E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0DF6-5878-4BB0-ADDE-7FDF7E716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71CA-547C-45A3-B39D-5C230643D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4F99-9106-4347-877A-118E737FA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9AD3-6CB0-4427-B00E-8271510A9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01D0-331D-4FCA-85E8-F59B675A2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60093"/>
                </a:solidFill>
                <a:latin typeface="Verdana"/>
              </a:rPr>
              <a:t>PRECIO 2</a:t>
            </a:r>
            <a:r>
              <a:rPr b="0" lang="es-MX" sz="4400" spc="-1" strike="noStrike">
                <a:solidFill>
                  <a:srgbClr val="dcf5b7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ANÁLISIS CONJUNTO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746280"/>
            <a:ext cx="86868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  Modelo infiere las preferencias (“utilidades”) para varios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01064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ANÁLISIS CONJUNTO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343080" y="609480"/>
            <a:ext cx="845820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: Hotel para cli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arrolle una escala para cada cliente en función de sus preferencias y relativicelas respecto al 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ferencia en Precio/Diferencia en Utilidad = Precio/Indice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733920"/>
            <a:ext cx="1905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a diferencia en Precio es 500 UF y en Utilidad es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500/1=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38080" y="2895480"/>
          <a:ext cx="5867640" cy="316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586764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8120" y="75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440" bIns="46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ANÁLISIS CONJU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1905120"/>
          <a:ext cx="800100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0100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A3A5-192B-4E46-8117-BAC4CEFA07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2209680"/>
            <a:ext cx="812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90000"/>
              </a:lnSpc>
              <a:spcAft>
                <a:spcPts val="1749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no sólo podemos actuar sobre 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Aft>
                <a:spcPts val="1749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ambién debemos buscar formas que aumenten la percepción de valor  que nuestro producto/servicio le da al compr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Aft>
                <a:spcPts val="1749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algunos elementos en que fijarse para lograr compradores menos sensibles al precio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EL VALOR PARA EL CONSUMIDOR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LA SENSIBILIDAD AL PRECIO DEPENDE DE…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Efecto de Percepción de Sustitut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Efecto de Valor Unic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Efecto del Costo de Cambi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Efecto de la Dificultad de Comparación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Efecto Precio-Calidad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892160" y="407196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7480" y="2857680"/>
            <a:ext cx="318276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28960" y="1828800"/>
            <a:ext cx="3514680" cy="41148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Efecto Gast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Efecto de Beneficios Finale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Efecto de Costo Compartid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Efecto de Equidad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Efecto Inventario.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562720"/>
            <a:ext cx="6553080" cy="72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s-CL" sz="2300" spc="-1" strike="noStrike">
                <a:solidFill>
                  <a:srgbClr val="d60093"/>
                </a:solidFill>
                <a:latin typeface="Verdana"/>
              </a:rPr>
              <a:t>“</a:t>
            </a:r>
            <a:r>
              <a:rPr b="0" lang="es-CL" sz="1900" spc="-1" strike="noStrike">
                <a:solidFill>
                  <a:srgbClr val="d60093"/>
                </a:solidFill>
                <a:latin typeface="Verdana"/>
              </a:rPr>
              <a:t>The Strategy and tactics of Pricing”, Nagle y Holden, 199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2217600"/>
            <a:ext cx="8458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3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Soy más sensible al precio de un producto mientras mayor es el precio de éste producto en relación a otros sustituto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a percepción de sustituto depende del clien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Ejemplo: Casinos Escuela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(Trampas Turíst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EFECTO DE SUSTITUCIÓN PERCIBIDA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EFECTO DE VALOR ÚNICO</a:t>
            </a: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371600"/>
            <a:ext cx="8458200" cy="51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5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os compradores son menos sensibles cuando perciben que la marca comprada tiene un </a:t>
            </a:r>
            <a:r>
              <a:rPr b="1" lang="en-US" sz="2400" spc="-1" strike="noStrike" u="sng">
                <a:solidFill>
                  <a:srgbClr val="4d4d4d"/>
                </a:solidFill>
                <a:uFillTx/>
                <a:latin typeface="Verdana"/>
              </a:rPr>
              <a:t>atributo único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 que le entrega un valor que no se lo dá ninguna otr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5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Diferenciarse por sí sólo no produce ef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5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Es necesario que el cliente perciba e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Ejemplo: VOL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5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Defensa: desmerecer la 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2057400"/>
            <a:ext cx="838188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3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a sensibilidad al precio de los compradores  dsiminuye cuando aumenta el costo de cambiarse de un proveedor a o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Costo no sólo es mone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Ejemplo: Lotus 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Cuando gestionamos este costo de cambio decimos que creamo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d60093"/>
                </a:solidFill>
                <a:latin typeface="Verdana"/>
              </a:rPr>
              <a:t>LOCK I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EFECTO DEL COSTO DE CAMBIAR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EFECTO DE DIFICULTAD DE COMPARACIÓN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057400"/>
            <a:ext cx="830592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6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532764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a dificultad de comparar los precios entre competidores disminuye la sensibilidad a los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6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532764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Ejemplo: Yog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6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532764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Tamaños tarros de Nescaf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6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532764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Fijación de precios unitarios (gramos, li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EFECTO </a:t>
            </a:r>
            <a:br>
              <a:rPr sz="3600"/>
            </a:b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PRECIO-CALIDAD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09520" y="1981080"/>
            <a:ext cx="872496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8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os compradores son menos sensibles al precio si éste se asocia a una mejor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8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Categorías (según lo que busca el comprad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324000">
              <a:lnSpc>
                <a:spcPct val="10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Productos imagen (Ej: ROLLS ROY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324000">
              <a:lnSpc>
                <a:spcPct val="10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Productos exclusivos (Ej: Diseñad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324000">
              <a:lnSpc>
                <a:spcPct val="10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Calidad (Ej: ceras sintéticas para a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8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d60093"/>
                </a:solidFill>
                <a:latin typeface="Verdana"/>
              </a:rPr>
              <a:t>COMPETENCIA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98108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n competencia, se puede anticipar con exactitud el efecto de una modificación de precio, analizando la sensibilidad de los compr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 corto plazo puede obtenerse buenos resultados pero, ojo con el largo plazo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ducción preci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cambio en la indust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abricante de productos para la construcció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9254-3F09-46FC-9871-736A8746E8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EFECTO </a:t>
            </a:r>
            <a:br>
              <a:rPr sz="3600"/>
            </a:b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PRECIO-CALIDAD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209520" y="1905120"/>
            <a:ext cx="87249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457200" indent="-457200">
              <a:lnSpc>
                <a:spcPct val="18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os compradores usan el precio como una clave de calidad cu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spcAft>
                <a:spcPts val="1250"/>
              </a:spcAft>
              <a:buClr>
                <a:srgbClr val="d60093"/>
              </a:buClr>
              <a:buFont typeface="Verdana"/>
              <a:buAutoNum type="arabicParenR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Creen que las calidades difieren ent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spcAft>
                <a:spcPts val="1250"/>
              </a:spcAft>
              <a:buClr>
                <a:srgbClr val="d60093"/>
              </a:buClr>
              <a:buFont typeface="Verdana"/>
              <a:buAutoNum type="arabicParenR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Perciben que baja calidad =&gt; riesgo de gran pér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spcAft>
                <a:spcPts val="1500"/>
              </a:spcAft>
              <a:buClr>
                <a:srgbClr val="d60093"/>
              </a:buClr>
              <a:buFont typeface="Verdana"/>
              <a:buAutoNum type="arabicParenR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Carecen de otra información (primeras compras)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EFECTO GASTO </a:t>
            </a:r>
            <a:br>
              <a:rPr sz="3600"/>
            </a:b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(O PRESUPUESTO)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133720"/>
            <a:ext cx="8458200" cy="27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4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os compradores son menos sensibles al precio cuando su gasto en ese producto durante un cierto período de tiempo es una fracción menor de su gasto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4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Ejemplo: Compras por mayor y deta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EFECTO DEL BENEFICIO FINAL (DEMANDA DERIVADA)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90440" y="1711440"/>
            <a:ext cx="876312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457200" indent="-457200">
              <a:lnSpc>
                <a:spcPct val="12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os compradores son más Sensi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Aft>
                <a:spcPts val="1500"/>
              </a:spcAft>
              <a:buClr>
                <a:srgbClr val="d60093"/>
              </a:buClr>
              <a:buFont typeface="Verdana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Cuando más sensibles sean los compradores al costo del beneficio final más sensibles se mostrarán al precio de los productos que contribuyen a dicho 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Aft>
                <a:spcPts val="1500"/>
              </a:spcAft>
              <a:buClr>
                <a:srgbClr val="d60093"/>
              </a:buClr>
              <a:buFont typeface="Verdana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Cuando el Precio del producto representa una fracción importante del Benefic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a segunda opaca a la pri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Ejemplo:  El limón para comerse los mariscos, productor de muebles con demanda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EFECTO DEL BENEFICIO FINAL (DEMANDA DERIVADA)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44520" y="1981080"/>
            <a:ext cx="8453520" cy="39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20000"/>
              </a:lnSpc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El Beneficio Final no necesita ser un producto, puede ser un estado p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 indent="-324000">
              <a:lnSpc>
                <a:spcPct val="120000"/>
              </a:lnSpc>
              <a:buClr>
                <a:srgbClr val="d60093"/>
              </a:buClr>
              <a:buFont typeface="Verdana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Seguridad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 indent="-324000">
              <a:lnSpc>
                <a:spcPct val="120000"/>
              </a:lnSpc>
              <a:buClr>
                <a:srgbClr val="d60093"/>
              </a:buClr>
              <a:buFont typeface="Verdana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Regalo Simbólico (ani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 indent="-324000">
              <a:lnSpc>
                <a:spcPct val="120000"/>
              </a:lnSpc>
              <a:buClr>
                <a:srgbClr val="d60093"/>
              </a:buClr>
              <a:buFont typeface="Verdana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a publicidad trata de ligar la compra de un producto a un Beneficio Final psicológico de modo de disminuir la Sensibilidad a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EFECTO DE </a:t>
            </a:r>
            <a:br>
              <a:rPr sz="3600"/>
            </a:b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COSTO COMPARTIDO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133720"/>
            <a:ext cx="83818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3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os compradores son menos sensibles al precio de bienes en los que pagan sólo una frac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Ej:  Salud (médicos, exámenes médic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30000"/>
              </a:lnSpc>
              <a:spcAft>
                <a:spcPts val="1500"/>
              </a:spcAft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Rematemos eso a medias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752480"/>
            <a:ext cx="91440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30000"/>
              </a:lnSpc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Precio JUSTO es el que el Cliente percibe como 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Precios fuera de lo que el comprador considera “justo”, generan gran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Elementos que determinan la percepción de equ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>
              <a:lnSpc>
                <a:spcPct val="130000"/>
              </a:lnSpc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comparar precio corriente con percibidos previamente (Ej: precio gasol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>
              <a:lnSpc>
                <a:spcPct val="130000"/>
              </a:lnSpc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precios pagados en situaciones similares (Ej: medicam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>
              <a:lnSpc>
                <a:spcPct val="130000"/>
              </a:lnSpc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precios pagados en lugares o situaciones distintas (Ej: helados en la play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d60093"/>
                </a:solidFill>
                <a:latin typeface="Verdana"/>
              </a:rPr>
              <a:t>EFECTO EQUIDAD </a:t>
            </a:r>
            <a:br>
              <a:rPr sz="3600"/>
            </a:br>
            <a:r>
              <a:rPr b="1" lang="es-MX" sz="3600" spc="-1" strike="noStrike">
                <a:solidFill>
                  <a:srgbClr val="d60093"/>
                </a:solidFill>
                <a:latin typeface="Verdana"/>
              </a:rPr>
              <a:t>O PRECIO JUSTO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752480"/>
            <a:ext cx="80773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30000"/>
              </a:lnSpc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Compras por necesidad vs. Compras para obtener algo más de la vida (gana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d60093"/>
                </a:solidFill>
                <a:latin typeface="Verdana"/>
              </a:rPr>
              <a:t>EFECTO EQUIDAD </a:t>
            </a:r>
            <a:br>
              <a:rPr sz="3600"/>
            </a:br>
            <a:r>
              <a:rPr b="1" lang="es-MX" sz="3600" spc="-1" strike="noStrike">
                <a:solidFill>
                  <a:srgbClr val="d60093"/>
                </a:solidFill>
                <a:latin typeface="Verdana"/>
              </a:rPr>
              <a:t>O PRECIO JUSTO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EFECTO </a:t>
            </a:r>
            <a:br>
              <a:rPr sz="3600"/>
            </a:b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INVENTARIO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05120"/>
            <a:ext cx="83059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marL="270000" indent="-270000">
              <a:lnSpc>
                <a:spcPct val="15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os compradores son más sensibles en el corto plazo cuando disponen de “INVENTARIO” del producto para su consumo pos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5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5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Ejemplo: oferta – compro mucho – me stock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d60093"/>
                </a:solidFill>
                <a:latin typeface="Verdana"/>
              </a:rPr>
              <a:t>...COMPETENCIA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decisión en materia de precio nunca debería tomarse en función de la próxima v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Jugada de ajedr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render el juego de la fijación de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uego de suma positiva (deportes, ven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uego de suma negativa (guerra, etc.)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CBFA-71C3-46EC-870D-3FAAB2664B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d60093"/>
                </a:solidFill>
                <a:latin typeface="Verdana"/>
              </a:rPr>
              <a:t>... </a:t>
            </a:r>
            <a:r>
              <a:rPr b="1" lang="es-CL" sz="3600" spc="-1" strike="noStrike">
                <a:solidFill>
                  <a:srgbClr val="d60093"/>
                </a:solidFill>
                <a:latin typeface="Verdana"/>
              </a:rPr>
              <a:t>Requisitos de un plan de fijación de preci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1" lang="en-US" sz="2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981080"/>
            <a:ext cx="83059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ticipar y controlar la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 ignorar los planes y aspiraciones de la compet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 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j. Empresa europea de prod. industr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olítica de fij. de  $ compatible con los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ecio fijo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vender va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uento según la nece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uento con requisito (camb.product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atos L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1934-2621-4F73-B492-0706B0158B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d60093"/>
                </a:solidFill>
                <a:latin typeface="Verdana"/>
              </a:rPr>
              <a:t>... COMPETENCIA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981080"/>
            <a:ext cx="83059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copilar y evaluar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municar la inf. en forma sel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eanunciar los aumentos de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strar capacidad y disposición de defen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spaldar el oportunismo con la información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FB7EA-0DA8-44D8-92C0-4C4DD6A48B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d60093"/>
                </a:solidFill>
                <a:latin typeface="Verdana"/>
              </a:rPr>
              <a:t>Concepto de</a:t>
            </a:r>
            <a:br>
              <a:rPr sz="4800"/>
            </a:br>
            <a:r>
              <a:rPr b="1" lang="es-ES_tradnl" sz="4800" spc="-1" strike="noStrike">
                <a:solidFill>
                  <a:srgbClr val="d60093"/>
                </a:solidFill>
                <a:latin typeface="Verdana"/>
              </a:rPr>
              <a:t>Valor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58E5-9FB7-4FEC-9891-FAAE134F06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DETERMINACIÓN DEL VALOR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¿Qué es Sensibilidad al precio?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Valor de uso”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Valor de intercambio” o “económico”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Ej: Precio de un helado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D245-CAA3-4239-92AC-37968B59D2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Verdana"/>
              </a:rPr>
              <a:t>ANÁLISIS DEL VALOR ECONÓMICO</a:t>
            </a:r>
            <a:endParaRPr b="1" lang="en-US" sz="36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1393920" y="3720960"/>
            <a:ext cx="1868400" cy="205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89160" y="2077920"/>
            <a:ext cx="2232000" cy="63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268800" y="2714760"/>
            <a:ext cx="1440" cy="10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387440" y="2071800"/>
            <a:ext cx="18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387440" y="2071800"/>
            <a:ext cx="797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10200" y="2139840"/>
            <a:ext cx="2688120" cy="31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Val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iferencial  Negati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Val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ifer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ositi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Val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Valor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ferenc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74960" y="2714760"/>
            <a:ext cx="1800" cy="100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572000"/>
            <a:ext cx="1800" cy="121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752480"/>
            <a:ext cx="41911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alores Diferenci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ributos adicionales (reduc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or(mayor)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abilidad Superior (inferi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horros de Partida (cos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stos de cambiar (ahor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alor Ref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costo para el consumiudor de las alternativas ajustadas por las diferencias en un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ANÁLISIS CONJUNT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Los compradores deben manifestar su preferencia por “productos hipotéticos”, en alguna escala establecida por el investigador.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4-07-30T00:51:52Z</dcterms:modified>
  <cp:revision>365</cp:revision>
  <dc:subject/>
  <dc:title>IN58B Ingeniería de Marketing</dc:title>
</cp:coreProperties>
</file>