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6C97-DCED-449E-942D-600088E0A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428C-D8E7-4B98-A86F-6311FE703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1779-933E-471B-AF45-5078DC385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FE0E-BA37-425E-B672-DA49B5E47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AB9B-7F16-4461-9C24-3BC1F7DBE1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4EFA-DF75-441D-8E9B-76B70FED5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52C4-AEA0-4F5C-9A22-BADD223B0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6889-F874-47EE-8D57-8725AD682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36C9-49EF-4F6D-B131-3B826FCDD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7E71-853B-467A-886F-7D21558B6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CAD8-0360-465F-8939-20829D0F7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D1D9-AC47-4AEF-984F-DC6DD3096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F2DB-933D-43BE-B088-AAEA5C0A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5f5f5f"/>
                </a:solidFill>
                <a:latin typeface="Verdana"/>
              </a:rPr>
              <a:t>IN58B - Ingeniería d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66"/>
                </a:solidFill>
                <a:latin typeface="Verdana"/>
              </a:rPr>
              <a:t>Modelos de Participación de Mercad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d1f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d1f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articip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40" y="18284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05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M: parte de las ventas totales del mercado (en cantidad vendida) de un producto para un período dado de tiempo en un área geográfica d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5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8080" y="3657600"/>
            <a:ext cx="7772400" cy="2499120"/>
            <a:chOff x="838080" y="3657600"/>
            <a:chExt cx="7772400" cy="249912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838080" y="4419720"/>
                  <a:ext cx="137160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743200" y="3657600"/>
              <a:ext cx="5410080" cy="24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M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Q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ventas del producto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Q = ventas totales del mercado (demanda primaria, ventas de la industria, o “mercado”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 = número de marcas en el 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620120" y="4952880"/>
                  <a:ext cx="9903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E6A2-EEAF-4F20-AEBE-ECE684AE3F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sfuerzo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440" y="2057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3841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otler (1984): la PM de una marca es proporcional al esfuerzo de marketing de ell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09480" y="3657600"/>
            <a:ext cx="7543800" cy="1608840"/>
            <a:chOff x="609480" y="3657600"/>
            <a:chExt cx="7543800" cy="1608840"/>
          </a:xfrm>
        </p:grpSpPr>
        <p:sp>
          <p:nvSpPr>
            <p:cNvPr id="69" name=""/>
            <p:cNvSpPr/>
            <p:nvPr/>
          </p:nvSpPr>
          <p:spPr>
            <a:xfrm>
              <a:off x="2743200" y="3657600"/>
              <a:ext cx="5410080" cy="16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M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esfuerzo de marketing de la marc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k = constante de proporciona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609480" y="4114800"/>
                  <a:ext cx="16002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BC2F-7D72-4131-A871-D40A32DD70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M y 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Valor de k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2096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PM deben sum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715000" y="2057400"/>
                <a:ext cx="12193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981080" y="3276720"/>
                <a:ext cx="4800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657600" y="4800600"/>
                <a:ext cx="175248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1A2D-B19F-4462-BB08-64C3F427DA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M y 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emplazando en la ecuación de 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66680" y="2354400"/>
            <a:ext cx="7048440" cy="2293560"/>
            <a:chOff x="1066680" y="2354400"/>
            <a:chExt cx="7048440" cy="2293560"/>
          </a:xfrm>
        </p:grpSpPr>
        <p:sp>
          <p:nvSpPr>
            <p:cNvPr id="80" name=""/>
            <p:cNvSpPr/>
            <p:nvPr/>
          </p:nvSpPr>
          <p:spPr>
            <a:xfrm>
              <a:off x="1066680" y="3916440"/>
              <a:ext cx="70484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Teorema Fundamental de la 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3583800" y="2354400"/>
                  <a:ext cx="2013840" cy="149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" name=""/>
          <p:cNvSpPr/>
          <p:nvPr/>
        </p:nvSpPr>
        <p:spPr>
          <a:xfrm>
            <a:off x="685800" y="4648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la marca i es igual a su porción del total del esfuerzo de mk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B5AA-941E-491B-BC7F-E92D7EEC03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M y 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, son todos los esfuerzos igual de efectivo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s empresas no tienen la misma efectividad en su esfuerzo de mkt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" y="4038480"/>
            <a:ext cx="5334120" cy="1905120"/>
            <a:chOff x="457200" y="4038480"/>
            <a:chExt cx="5334120" cy="1905120"/>
          </a:xfrm>
        </p:grpSpPr>
        <p:sp>
          <p:nvSpPr>
            <p:cNvPr id="86" name=""/>
            <p:cNvSpPr/>
            <p:nvPr/>
          </p:nvSpPr>
          <p:spPr>
            <a:xfrm>
              <a:off x="2666880" y="4038480"/>
              <a:ext cx="31244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r>
                <a:rPr b="0" i="1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s-CL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CL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coeficiente de efectividad del esfuerzo de mktg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57200" y="4267080"/>
                  <a:ext cx="220968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" name=""/>
          <p:cNvSpPr/>
          <p:nvPr/>
        </p:nvSpPr>
        <p:spPr>
          <a:xfrm>
            <a:off x="5410080" y="3962520"/>
            <a:ext cx="335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Aunque dos empresas hagan el mismo esfuerzo, pueden no tener la misma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D78F-4FA3-40EA-A86B-67D8544ACC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....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ómo medir y especificar el esfuerzo?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otler asume que es función del marketing mix, pasado y actual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4920" y="3629160"/>
            <a:ext cx="8534160" cy="2633760"/>
            <a:chOff x="304920" y="3629160"/>
            <a:chExt cx="8534160" cy="263376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124080" y="3629160"/>
                  <a:ext cx="2895840" cy="51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304920" y="4238280"/>
              <a:ext cx="8534160" cy="20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el precio del producto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los gastos en publicidad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los esfuerzos de distribución (ejemplo: el número de tiendas que tienen la marca 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EE56-38C7-4FCF-8038-6CA4B71399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....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229320" indent="-2293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cree que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interacción entre los  elemento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unción multiplicativ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400800" y="2909880"/>
                <a:ext cx="1981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33520" y="1447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uchas formas funcional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3520" y="4495680"/>
            <a:ext cx="8076960" cy="1268280"/>
            <a:chOff x="533520" y="4495680"/>
            <a:chExt cx="8076960" cy="126828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043080" y="5333760"/>
                  <a:ext cx="30578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533520" y="4495680"/>
              <a:ext cx="8076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lnSpc>
                  <a:spcPct val="140000"/>
                </a:lnSpc>
                <a:spcBef>
                  <a:spcPts val="601"/>
                </a:spcBef>
                <a:buClr>
                  <a:srgbClr val="ff0066"/>
                </a:buClr>
                <a:buFont typeface="Verdana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CL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i se escoge función exponencial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86400" y="3429000"/>
            <a:ext cx="3657600" cy="2722320"/>
            <a:chOff x="5486400" y="3429000"/>
            <a:chExt cx="3657600" cy="2722320"/>
          </a:xfrm>
        </p:grpSpPr>
        <p:sp>
          <p:nvSpPr>
            <p:cNvPr id="102" name=""/>
            <p:cNvSpPr/>
            <p:nvPr/>
          </p:nvSpPr>
          <p:spPr>
            <a:xfrm>
              <a:off x="5486400" y="3429000"/>
              <a:ext cx="365760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reemplazando... Versión simple de MCI (modelo multiplicativo de interacción competitiv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4480" y="5181480"/>
              <a:ext cx="281952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reemplazando... Versión simple de MNL (modelo multinomial Log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6A83-E3DB-40B8-821A-6671D4E4BB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Teorema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3809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229320" indent="-2293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los señalan que </a:t>
            </a:r>
            <a:r>
              <a:rPr b="1" lang="es-CL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el único determinante de la PM es la ATRACCIÓN que sienten los consumidores hacia cada marc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-2293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acen varios supuestos al respecto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5238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ll, Keeney &amp; Little (BK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l comprar un producto, un consumidor debe escoger entre un marca de un set disponible en el merc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C1BA-9E63-40C5-8C35-A7A3B2C7B8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Axiomas (BK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1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0 para todo i y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&gt;0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2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0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0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3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j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 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j  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i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4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j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ambia e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cambio en 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i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) será independiente de j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523880"/>
            <a:ext cx="8077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tracción de la marca i (i=1,2,3,...,m) y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su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3F33-E1A7-4D96-8519-29F00C5EF9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Teorema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154440" indent="-15444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partir de los 4 axiomas, deriva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-154440">
              <a:lnSpc>
                <a:spcPct val="16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relacionarla con el esfuerzo de mktg, faltaría asumir que la atracción de una marca es proporcional al esfuerzo de mktg..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67120" y="2762280"/>
                <a:ext cx="140976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75FC-EABB-4F73-BADD-A36D4C0804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ARKET SHAR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PM están relacionados con casi todo..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Decis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Marketing M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conométric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Promoción de Venta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379C-C64F-4118-AD9D-762724E0CF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5105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C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N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plicativ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xponenci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2D2E-1CAE-4F6F-8BC8-3A09C7F7D3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MCI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81360" y="1828800"/>
                <a:ext cx="35812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bSup>
                      </m:e>
                    </m:nary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24200" y="3429000"/>
                <a:ext cx="1695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B606-1B3B-4875-A602-641001D52F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MNL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09680" y="1828800"/>
                <a:ext cx="472464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724200" y="3429000"/>
                <a:ext cx="1695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15000" y="5562720"/>
            <a:ext cx="2743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66"/>
                </a:solidFill>
                <a:latin typeface="Verdana"/>
                <a:ea typeface="Times New Roman"/>
              </a:rPr>
              <a:t>LOG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8589-54E1-4E18-A9DD-B34FC0F03A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04920"/>
            <a:ext cx="84582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PM marc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 atracción marc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 = número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K = número de variables explic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i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 valor de la késima variable explicativa 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para la marca i 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(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parámetro a esti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parámetro, asociado a la influencia constante de la marc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5638680"/>
            <a:ext cx="84582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*) precios, atributos del product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astos en publicidad, distribución, fuerza de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114800"/>
            <a:ext cx="845820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aquí en adelante usaremos atracción en vez de esfuerz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ajo el supuesto de que son propor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E0A1-D5E6-4AB3-911B-AD990C18E9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Lineal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040" y="34286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una marca es una función lineal de las variables del marketing mix y otras variables relevant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00480" y="1828800"/>
                <a:ext cx="434340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028C-581C-4060-A40E-4131BBE052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Multiplicativo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00480" y="1828800"/>
                <a:ext cx="43434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bSup>
                      </m:e>
                    </m:nary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9040" y="34286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una marca es producto de variables ponderadas y ajustadas por ciertos parámetro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6CA0-1497-4DD1-A277-027E5D96B2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Exponencial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93920" y="1981080"/>
                <a:ext cx="45547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19040" y="34290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una marca es producto de variables ponderadas y ajustadas por ciertos parámet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00C9-2324-4A93-A2B1-5E93E90031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040" y="17524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ceptualmente muy di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temáticamente no tanto... transformaciones logarít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240B-99F2-4D6F-A60A-F3EA1C1C38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7652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aert &amp; Bultez proponen las siguientes condiciones para un modelo de P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PM son no neg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PM deben suma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Requerimientos de consistencia 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897C-17E9-4CF0-9A1E-5AD6EB5435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5238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 lo cump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plic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xpon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114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o cump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CI (Normalización de Multiplic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NL (Normalización de Expone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C1D1-347D-4661-A815-136313CF9D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ARKET SHAR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miten estudio sistemático del mercado y las estructuras competitiva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e, del complejo patrón de la interacción competitiva de un mercad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8131-D3BD-4930-844E-809B2F3C4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ización de M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3080" y="2057400"/>
            <a:ext cx="8458200" cy="4029840"/>
            <a:chOff x="343080" y="2057400"/>
            <a:chExt cx="8458200" cy="4029840"/>
          </a:xfrm>
        </p:grpSpPr>
        <p:grpSp>
          <p:nvGrpSpPr>
            <p:cNvPr id="144" name=""/>
            <p:cNvGrpSpPr/>
            <p:nvPr/>
          </p:nvGrpSpPr>
          <p:grpSpPr>
            <a:xfrm>
              <a:off x="914400" y="2057400"/>
              <a:ext cx="7086600" cy="1560600"/>
              <a:chOff x="914400" y="2057400"/>
              <a:chExt cx="7086600" cy="1560600"/>
            </a:xfrm>
          </p:grpSpPr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914400" y="2327400"/>
                    <a:ext cx="4876920" cy="110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6172200" y="2057400"/>
                    <a:ext cx="1828800" cy="156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ε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7" name=""/>
            <p:cNvSpPr/>
            <p:nvPr/>
          </p:nvSpPr>
          <p:spPr>
            <a:xfrm>
              <a:off x="343080" y="3657600"/>
              <a:ext cx="8458200" cy="24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~ = medias geométricas respectiv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arámetros i=1...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arámetros j=1...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demás se debe estimar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es-MX" sz="2000" spc="-1" strike="noStrike" baseline="30000">
                  <a:solidFill>
                    <a:srgbClr val="000000"/>
                  </a:solidFill>
                  <a:latin typeface="Verdana"/>
                  <a:ea typeface="Times New Roman"/>
                </a:rPr>
                <a:t>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(varianza de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Transformación “log-centering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E861-BA7D-4AFC-B778-B97628AD6D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ización de M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3080" y="2590920"/>
            <a:ext cx="8458200" cy="2707560"/>
            <a:chOff x="343080" y="2590920"/>
            <a:chExt cx="8458200" cy="2707560"/>
          </a:xfrm>
        </p:grpSpPr>
        <p:sp>
          <p:nvSpPr>
            <p:cNvPr id="151" name=""/>
            <p:cNvSpPr/>
            <p:nvPr/>
          </p:nvSpPr>
          <p:spPr>
            <a:xfrm>
              <a:off x="343080" y="4343400"/>
              <a:ext cx="845820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= medias aritméticas respectiv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Modelos log-linea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762120" y="2590920"/>
              <a:ext cx="7009920" cy="990000"/>
              <a:chOff x="762120" y="2590920"/>
              <a:chExt cx="7009920" cy="990000"/>
            </a:xfrm>
          </p:grpSpPr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762120" y="2590920"/>
                    <a:ext cx="4883400" cy="94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6197040" y="2590920"/>
                    <a:ext cx="1575000" cy="99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8503-C00B-4128-AFC5-0D164C0A0D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s la proporción del cambio  en la participación de mercado correspondiente a un cambio en una variable del marketing mix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62320" y="4114800"/>
                <a:ext cx="43434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7D89-6415-4F0C-8B7D-BA0C322948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1680" y="17524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 se puede calcular la elasticidad sin adoptar un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l parecer la ecuación incluye sólo variables observab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...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rresponde a un cambio en una variable específica: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1C09-DE6B-434F-A301-6AFC438822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observamos un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de la PM de 3% en un perí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¿cómo sabemos cuánto de esto se debe a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ver los </a:t>
            </a:r>
            <a:r>
              <a:rPr b="1" lang="es-CL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efectos parciales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necesita un modelo de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FD0E-2245-40E4-B63E-5C5A9AEB21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tra formula de la elastic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lasticidad pu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352680" y="3429000"/>
                <a:ext cx="22860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01A2-684D-4917-A764-DD2EA5D826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 de cada Modelo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ultiplica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Exponenc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0" y="1676520"/>
                <a:ext cx="16765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172200" y="3187800"/>
                <a:ext cx="1371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791320" y="4572000"/>
                <a:ext cx="17524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E35B-7462-4FAD-9863-EC569BD889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 de cada Modelo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N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08320" y="2362320"/>
                <a:ext cx="27496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089240" y="4572000"/>
                <a:ext cx="3302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B245-62A8-41BE-8EB8-590CE3913A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680" y="16002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piedades deseables de la 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= Q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Qi,x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= 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Q,x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+ 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,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una función creciente en X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x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0 si 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 (porque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estrcitamente creciente en X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x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0 si X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96CB-208D-4EBB-A6A5-13D1660C04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680" y="16002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ómo se comporta la e en cada mod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uede ser criterio para escoger el model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ezclar MCI y MN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1258-41F1-4BE9-833D-7EEE1230FE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jemplo: Cer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ISCUTIDO EN CLASES.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F1FE-5485-47F9-813C-FEC7C37DE4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Gral de Atr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4240" y="1523880"/>
            <a:ext cx="7715160" cy="1601640"/>
            <a:chOff x="714240" y="1523880"/>
            <a:chExt cx="7715160" cy="160164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14240" y="1676160"/>
                  <a:ext cx="541008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nary>
                        <m:naryPr>
                          <m:chr m:val="∏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p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733800" y="1523880"/>
                  <a:ext cx="1695600" cy="16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343080" y="3429000"/>
            <a:ext cx="845820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transformación monótona de 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Si f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(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)= 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 </a:t>
            </a:r>
            <a:r>
              <a:rPr b="0" lang="es-MX" sz="2400" spc="-1" strike="noStrike">
                <a:solidFill>
                  <a:srgbClr val="ff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Modelo M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Si f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(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)= exp (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 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)</a:t>
            </a:r>
            <a:r>
              <a:rPr b="0" lang="es-MX" sz="2400" spc="-1" strike="noStrike">
                <a:solidFill>
                  <a:srgbClr val="ff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Modelo M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 no es necesario escoger (subíndice k), entonces puede depender de la naturaleza de la variable 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1024-D391-489B-B516-7206B74EE1F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Cru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37160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necesitan si queremos saber los efectos de las acciones de una sobre la PM de otr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marca j cambia la variable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j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un pequeño monto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j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... La elasticidad cruzada 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oporción de cambio de la PM de la marca i provocada por un cambio en la variable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arca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2239-866B-4BAA-81EB-680E5AD1ADF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Cru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37160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oporción de cambio de la PM de la marca i provocada por un cambio en la variable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arca j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j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.. la primera (i) es la influenciada por la segunda (j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71880" y="3276720"/>
                <a:ext cx="480060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4261-E148-4075-B94F-044EA049CE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Cru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60020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valente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86000" y="2795760"/>
                <a:ext cx="46483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655DA-354C-4203-91BF-2BD07315EF9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 cruzada de cada 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N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876920" y="1905120"/>
                <a:ext cx="20574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3809880"/>
                <a:ext cx="2743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7429-A299-4F16-93E0-EDB35A3E339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rincipios Básicos de Modelos de Part. Mc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Modelos de Participación de Mercado, deben ser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tivos y predictiv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rientado a utilidad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5574-9CC7-4244-9EB8-C43A6F583A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(1) Competi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se puede saber la efectividad de una acción de mktg sin considerar las acciones de la competenc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una marca, pueden incluirla... pero en los modelos de PM es componente princip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0" algn="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Los modelos de PM buscan entender cómo los esfuerzos de mktg de cada marca influyen en los resultados de un mercado competitiv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008F-3BB5-4090-9127-7C61259184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(2) Descriptivos y Predictivos</a:t>
            </a: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ólo la descripción de la influenca de cada instrumento de mtkg entrega una base para la planificación de mktg... No basta la predic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escripción permite entender el mercado..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esfuerzos tienen potenciales efectos en la competencia y potenciales edfectos en la expansión del mercad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1CD1-BB7D-4309-81C7-6AF1590DC8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(3) Orientación a </a:t>
            </a:r>
            <a:r>
              <a:rPr b="1" lang="es-MX" sz="7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5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x PM ‡ Max </a:t>
            </a:r>
            <a:r>
              <a:rPr b="1" lang="es-CL" sz="6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i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Recordar que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las acciones de uno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pueden afectar a tod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631C-92AC-4402-B1E0-02BD08566F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A continuació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ciones entre esfuerzo de Marketing y PM (teorema básico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5 modelos alternativos de 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valuación de Modelo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ciones entre PM y probabilidad de elec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simetrías en mercados y competenc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8D13-0EE4-4DBF-8033-005D193A52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3-08-25T21:41:37Z</dcterms:modified>
  <cp:revision>272</cp:revision>
  <dc:subject/>
  <dc:title>IN58B Ingeniería de Marketing</dc:title>
</cp:coreProperties>
</file>