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EEBA-6033-4FDB-B987-DC59A8BC8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EFC8-364C-4568-8DAE-E9B06A490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8B18-8129-4E37-BC49-7D3ED451E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8B02-1798-4044-BB8A-099EAC9B2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DF08-F21A-454D-8D71-DA75F8B71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6274-8654-4018-BE46-6673F2FA4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14E0-723F-41AD-BD14-EFA86F70F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D1BF-F5F1-42C3-9C95-B8AD7902F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61E4-9BF0-4129-8D4A-07ED2D093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2285-99C0-4D18-90B1-6A26B1A7D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D92F-9FEF-4FBE-9987-549356CC1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CFDB-AD03-42C5-8B39-E8D594E18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8ADC-5ABD-4EB1-8623-5933DC1D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f5f5f"/>
                </a:solidFill>
                <a:latin typeface="Verdana"/>
              </a:rPr>
              <a:t>IN58B - Ingeniería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Verdana"/>
              </a:rPr>
              <a:t>Modelos de Participación de Mercad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articip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M: parte de las ventas totales del mercado (en cantidad vendida) de un producto para un período dado de tiempo en un área geográfica d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3657600"/>
            <a:ext cx="7772400" cy="2499120"/>
            <a:chOff x="838080" y="3657600"/>
            <a:chExt cx="7772400" cy="249912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38080" y="4419720"/>
                  <a:ext cx="137160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743200" y="3657600"/>
              <a:ext cx="5410080" cy="24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ventas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 = ventas totales del mercado (demanda primaria, ventas de la industria, o “mercado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 = número de marcas en el 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620120" y="4952880"/>
                  <a:ext cx="990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5EC4-9BC6-44A2-9966-46E300D82F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sfuerzo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40" y="2057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84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(1984): la PM de una marca es proporcional al esfuerzo de marketing de el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3657600"/>
            <a:ext cx="7543800" cy="1608840"/>
            <a:chOff x="609480" y="3657600"/>
            <a:chExt cx="7543800" cy="1608840"/>
          </a:xfrm>
        </p:grpSpPr>
        <p:sp>
          <p:nvSpPr>
            <p:cNvPr id="69" name=""/>
            <p:cNvSpPr/>
            <p:nvPr/>
          </p:nvSpPr>
          <p:spPr>
            <a:xfrm>
              <a:off x="2743200" y="3657600"/>
              <a:ext cx="5410080" cy="16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sfuerzo de marketing de la marc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k = constante de proporciona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09480" y="4114800"/>
                  <a:ext cx="16002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3B55-4942-4B13-AB09-0EE191C6D6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alor de k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096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15000" y="2057400"/>
                <a:ext cx="1219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81080" y="3276720"/>
                <a:ext cx="4800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57600" y="4800600"/>
                <a:ext cx="17524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5882-F675-471C-B67C-1E34BDFA9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emplazando en la ecuación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66680" y="2354400"/>
            <a:ext cx="7048440" cy="2293560"/>
            <a:chOff x="1066680" y="2354400"/>
            <a:chExt cx="7048440" cy="2293560"/>
          </a:xfrm>
        </p:grpSpPr>
        <p:sp>
          <p:nvSpPr>
            <p:cNvPr id="80" name=""/>
            <p:cNvSpPr/>
            <p:nvPr/>
          </p:nvSpPr>
          <p:spPr>
            <a:xfrm>
              <a:off x="1066680" y="3916440"/>
              <a:ext cx="70484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eorema Fundamental de la 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83800" y="2354400"/>
                  <a:ext cx="2013840" cy="149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/>
          <p:cNvSpPr/>
          <p:nvPr/>
        </p:nvSpPr>
        <p:spPr>
          <a:xfrm>
            <a:off x="685800" y="4648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la marca i es igual a su porción del total del esfuerzo de mk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8A2C-F07B-4F72-90D9-B407A7923A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, son todos los esfuerzos igual de efectivo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s empresas no tienen la misma efectividad en su esfuerzo de mkt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4038480"/>
            <a:ext cx="5334120" cy="1905120"/>
            <a:chOff x="457200" y="4038480"/>
            <a:chExt cx="5334120" cy="1905120"/>
          </a:xfrm>
        </p:grpSpPr>
        <p:sp>
          <p:nvSpPr>
            <p:cNvPr id="86" name=""/>
            <p:cNvSpPr/>
            <p:nvPr/>
          </p:nvSpPr>
          <p:spPr>
            <a:xfrm>
              <a:off x="2666880" y="4038480"/>
              <a:ext cx="31244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CL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coeficiente de efectividad del esfuerzo de mktg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7200" y="4267080"/>
                  <a:ext cx="220968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>
            <a:off x="5410080" y="396252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Aunque dos empresas hagan el mismo esfuerzo, pueden no tener la misma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042C-9CB6-491C-BBD3-396BD814A3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medir y especificar el esfuerzo?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asume que es función del marketing mix, pasado y actual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3629160"/>
            <a:ext cx="8534160" cy="2633760"/>
            <a:chOff x="304920" y="3629160"/>
            <a:chExt cx="8534160" cy="263376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124080" y="3629160"/>
                  <a:ext cx="289584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304920" y="4238280"/>
              <a:ext cx="8534160" cy="20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l precio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gastos en publicidad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esfuerzos de distribución (ejemplo: el número de tiendas que tienen la marca 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4709-D191-41DA-B32F-F8CBA6353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ree que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interacción entre los  element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ón multiplicativ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2909880"/>
                <a:ext cx="1981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3520" y="1447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as formas funcional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4495680"/>
            <a:ext cx="8076960" cy="1268280"/>
            <a:chOff x="533520" y="4495680"/>
            <a:chExt cx="8076960" cy="126828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043080" y="5333760"/>
                  <a:ext cx="3057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33520" y="4495680"/>
              <a:ext cx="8076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40000"/>
                </a:lnSpc>
                <a:spcBef>
                  <a:spcPts val="601"/>
                </a:spcBef>
                <a:buClr>
                  <a:srgbClr val="ff0066"/>
                </a:buClr>
                <a:buFont typeface="Verdana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i se escoge función exponencial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400" y="3429000"/>
            <a:ext cx="3657600" cy="2722320"/>
            <a:chOff x="5486400" y="3429000"/>
            <a:chExt cx="3657600" cy="2722320"/>
          </a:xfrm>
        </p:grpSpPr>
        <p:sp>
          <p:nvSpPr>
            <p:cNvPr id="102" name=""/>
            <p:cNvSpPr/>
            <p:nvPr/>
          </p:nvSpPr>
          <p:spPr>
            <a:xfrm>
              <a:off x="5486400" y="3429000"/>
              <a:ext cx="365760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CI (modelo multiplicativo de interacción competitiv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5181480"/>
              <a:ext cx="281952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NL (modelo multinomial Log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5572-915E-40E9-930C-9CA74E073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los señalan que </a:t>
            </a:r>
            <a:r>
              <a:rPr b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el único determinante de la PM es la ATRACCIÓN que sienten los consumidores hacia cada mar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acen varios supuestos al respecto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ll, Keeney &amp; Little (B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comprar un producto, un consumidor debe escoger entre un marca de un set disponible en el merc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6376-7F78-4137-A2B0-024F6E603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xiomas (BK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1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0 para todo i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&gt;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2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3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4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mbi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ambio en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será independiente de j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5238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cción de la marca i (i=1,2,3,...,m) 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su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F902-F3FA-49A0-807C-F456F92E4C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154440" indent="-15444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artir de los 4 axiomas, deriv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-154440">
              <a:lnSpc>
                <a:spcPct val="16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lacionarla con el esfuerzo de mktg, faltaría asumir que la atracción de una marca es proporcional al esfuerzo de mktg..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67120" y="2762280"/>
                <a:ext cx="14097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3F49-64A8-4E1B-BC72-E204E413F0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M están relacionados con casi todo.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Decis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Marketing M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conométr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romoción de Vent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7101-3559-466B-915C-C16C554AA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5105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16D4-B144-426F-A12A-957C061D2E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CI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81360" y="1828800"/>
                <a:ext cx="35812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527A-A76A-473F-8F9D-4FC3DAE87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N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09680" y="1828800"/>
                <a:ext cx="47246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15000" y="5562720"/>
            <a:ext cx="274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66"/>
                </a:solidFill>
                <a:latin typeface="Verdana"/>
                <a:ea typeface="Times New Roman"/>
              </a:rPr>
              <a:t>LOG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8502-31AE-47DF-8FE1-48BB29E8D5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4582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M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atracción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 = núme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 = número de variables expl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valor de la késima variable explicativa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para la marca i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 a esti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, asociado a la influencia constante de la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5638680"/>
            <a:ext cx="8458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*) precios, atributos del produc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astos en publicidad, distribución, fuerza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14800"/>
            <a:ext cx="84582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quí en adelante usaremos atracción en vez de esfuerz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ajo el supuesto de que son propor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1663-B605-4DF4-B98A-E0717D96BE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Line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una función lineal de las variables del marketing mix y otras variables relevant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00480" y="1828800"/>
                <a:ext cx="43434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BD65-33AA-41A9-A250-611001D36E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ultiplicativ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00480" y="1828800"/>
                <a:ext cx="4343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AAE1-34EC-4AB6-8EC5-27C3515A8D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Exponenci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93920" y="1981080"/>
                <a:ext cx="45547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19040" y="34290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5783-D58E-4509-A8B1-4DBE6810FF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17524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ceptualmente muy di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temáticamente no tanto... transformaciones logarít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F921-7599-4C44-A84A-E9EB4FABD5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765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aert &amp; Bultez proponen las siguientes condiciones para un modelo de P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son no neg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querimientos de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1863-25A2-4FD9-9947-0C7144CBC0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38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114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CI (Normalización de Multiplic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NL (Normalización de Expon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7324-FC5F-4E08-B209-2E163CD6F6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miten estudio sistemático del mercado y las estructuras competitiv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e, del complejo patrón de la interacción competitiva de un mercad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9B63-3F1C-4B18-BD53-504AD3794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3080" y="2057400"/>
            <a:ext cx="8458200" cy="4029840"/>
            <a:chOff x="343080" y="2057400"/>
            <a:chExt cx="8458200" cy="4029840"/>
          </a:xfrm>
        </p:grpSpPr>
        <p:grpSp>
          <p:nvGrpSpPr>
            <p:cNvPr id="144" name=""/>
            <p:cNvGrpSpPr/>
            <p:nvPr/>
          </p:nvGrpSpPr>
          <p:grpSpPr>
            <a:xfrm>
              <a:off x="914400" y="2057400"/>
              <a:ext cx="7086600" cy="1560600"/>
              <a:chOff x="914400" y="2057400"/>
              <a:chExt cx="7086600" cy="1560600"/>
            </a:xfrm>
          </p:grpSpPr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914400" y="2327400"/>
                    <a:ext cx="4876920" cy="11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6172200" y="2057400"/>
                    <a:ext cx="1828800" cy="156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"/>
            <p:cNvSpPr/>
            <p:nvPr/>
          </p:nvSpPr>
          <p:spPr>
            <a:xfrm>
              <a:off x="343080" y="3657600"/>
              <a:ext cx="8458200" cy="24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~ = medias geométr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i=1...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j=1...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demás se debe estimar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s-MX" sz="2000" spc="-1" strike="noStrike" baseline="30000">
                  <a:solidFill>
                    <a:srgbClr val="000000"/>
                  </a:solidFill>
                  <a:latin typeface="Verdana"/>
                  <a:ea typeface="Times New Roman"/>
                </a:rPr>
                <a:t>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(varianza de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ransformación “log-centering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C9CB-692E-4548-9D4D-1A4F1E96CE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590920"/>
            <a:ext cx="8458200" cy="2707560"/>
            <a:chOff x="343080" y="2590920"/>
            <a:chExt cx="8458200" cy="2707560"/>
          </a:xfrm>
        </p:grpSpPr>
        <p:sp>
          <p:nvSpPr>
            <p:cNvPr id="151" name=""/>
            <p:cNvSpPr/>
            <p:nvPr/>
          </p:nvSpPr>
          <p:spPr>
            <a:xfrm>
              <a:off x="343080" y="4343400"/>
              <a:ext cx="845820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 medias aritmét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Modelos log-line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62120" y="2590920"/>
              <a:ext cx="7009920" cy="990000"/>
              <a:chOff x="762120" y="2590920"/>
              <a:chExt cx="7009920" cy="990000"/>
            </a:xfrm>
          </p:grpSpPr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762120" y="2590920"/>
                    <a:ext cx="4883400" cy="94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6197040" y="2590920"/>
                    <a:ext cx="1575000" cy="99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5D7C-632F-4B4F-B2E6-F01238E49F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s la proporción del cambio  en la participación de mercado correspondiente a un cambio en una variable del marketing mi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4114800"/>
                <a:ext cx="43434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D1E1-C5C0-40B8-85CA-BCB6416FD4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1680" y="17524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calcular la elasticidad sin adoptar un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arecer la ecuación incluye sólo variables observ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...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rresponde a un cambio en una variable específica: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67D8-0B19-4579-87F6-046C218892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observamos un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la PM de 3% en un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sabemos cuánto de esto se debe a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ver los </a:t>
            </a: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efectos parciales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necesita un modelo de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6DE8-BDD7-45B9-B98E-96790848A3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tra formula de la elastic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lasticidad pu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352680" y="3429000"/>
                <a:ext cx="2286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3D3B-2BAA-4AD9-906B-1114183134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ultiplic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Exponen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0" y="1676520"/>
                <a:ext cx="16765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172200" y="3187800"/>
                <a:ext cx="1371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791320" y="4572000"/>
                <a:ext cx="175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2D30-7798-4D8D-BEEB-76B42BD399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08320" y="2362320"/>
                <a:ext cx="27496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89240" y="4572000"/>
                <a:ext cx="3302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4EA5-BB3F-4926-ADFB-90F8770E92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iedades deseables de la 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Q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i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+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,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una función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 (porque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estrcitamente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X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DDA6-3256-4FE5-B317-F6011643B5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se comporta la e en cada mod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ser criterio para escoger el mode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ar MCI y MN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241D-EBBC-4EC1-84DD-790667DB30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jemplo: Cer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ISCUTIDO EN CLASES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7283-E5C1-49D2-9874-6F85D36DB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Gral de A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4240" y="1523880"/>
            <a:ext cx="7715160" cy="1601640"/>
            <a:chOff x="714240" y="1523880"/>
            <a:chExt cx="7715160" cy="160164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14240" y="1676160"/>
                  <a:ext cx="54100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733800" y="1523880"/>
                  <a:ext cx="1695600" cy="16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343080" y="3429000"/>
            <a:ext cx="84582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transformación monótona d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exp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)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no es necesario escoger (subíndice k), entonces puede depender de la naturaleza de la variabl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3A7F-3157-4784-A7AA-20102BE2D4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necesitan si queremos saber los efectos de las acciones de una sobre la PM de otr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marca j cambia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un pequeño monto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... La elasticidad cruzada 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D61F-95C8-4E32-9C1A-12FCC24290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j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.. la primera (i) es la influenciada por la segunda (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71880" y="3276720"/>
                <a:ext cx="48006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BFC1-F867-49A8-B6CF-85A3212C96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valente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86000" y="2795760"/>
                <a:ext cx="4648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0AF6-007F-4996-A63F-3C427C5778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cruzada de cada 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876920" y="1905120"/>
                <a:ext cx="20574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3809880"/>
                <a:ext cx="2743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6E95-1E4F-4510-A475-0D8FC78BF1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rincipios Básicos de Modelos de Part. Mc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Modelos de Participación de Mercado, deben se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tivos y predic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entado a utilidad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3DFE-627A-42B5-8903-39FFE9421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1) Compet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saber la efectividad de una acción de mktg sin considerar las acciones de la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una marca, pueden incluirla... pero en los modelos de PM es componente princip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Los modelos de PM buscan entender cómo los esfuerzos de mktg de cada marca influyen en los resultados de un mercado competitiv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F70B-B991-4740-94FC-D9CF8205C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2) Descriptivos y Predictivos</a:t>
            </a: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ólo la descripción de la influenca de cada instrumento de mtkg entrega una base para la planificación de mktg... No basta la predi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scripción permite entender el mercado..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sfuerzos tienen potenciales efectos en la competencia y potenciales edfectos en la expansión del mercad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9105-B371-4914-AB86-9C0C6B62D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3) Orientación a </a:t>
            </a:r>
            <a:r>
              <a:rPr b="1" lang="es-MX" sz="7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5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 PM ‡ Max </a:t>
            </a:r>
            <a:r>
              <a:rPr b="1" lang="es-CL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cordar que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as acciones de uno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pueden afectar a tod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3C55-1212-4467-A3BE-549760CF9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 continuació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esfuerzo de Marketing y PM (teorema básico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 modelos alternativos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aluación de Model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PM y probabilidad de ele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imetrías en mercados y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BAF7-3648-40EA-B970-C2C85FF60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3-08-25T21:41:37Z</dcterms:modified>
  <cp:revision>272</cp:revision>
  <dc:subject/>
  <dc:title>IN58B Ingeniería de Marketing</dc:title>
</cp:coreProperties>
</file>