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237-C243-4AB5-8AB8-A635DD57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6E4-4870-478F-85F4-D954C0D8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266-4751-4316-8774-7F86AF6F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9E4-A578-4480-BB11-6F5E9B5D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A50-6428-4722-8CB2-FD7B2B3E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8B5-46FF-4D4D-977C-82B4B4AD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E89-F240-4F0F-B680-6C6A3C98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0DC-FBC8-4502-8CD9-404910FC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31A-0265-4514-872C-443B5D9A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977-2A95-4C9A-A230-BAC136A2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213-F754-4DFF-9F53-C5677715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09A-0781-4063-BFFF-86F9A497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AC19-7B38-4788-BCE9-6B2ECFCD3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BA -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IB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B6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IB7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qué la marca Marlboro vale 50 mil millones de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B2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B1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B3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Administrador</cp:lastModifiedBy>
  <dcterms:modified xsi:type="dcterms:W3CDTF">2004-10-27T18:27:34Z</dcterms:modified>
  <cp:revision>44</cp:revision>
  <dc:subject/>
  <dc:title>Sin título de diapositiva</dc:title>
</cp:coreProperties>
</file>