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F0C5-59E3-4A13-8E76-35FE6D838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8036-8BAF-4BA0-B44D-B19260FE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217E-5E44-4987-B864-4A22B378A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CEB0-0CB4-42AC-9151-294A53E95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C62E-BA1D-4FC6-874F-E1A64CF2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83A3-A549-4BCD-9BD1-3D6DA20C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CD63-9C7B-46F6-90A4-8929E678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1FA9-D79B-4E69-A502-335E483D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C318-D810-4B32-B42B-54852758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DD5F-9A52-480B-A8A5-59C67017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7171-6DDA-402E-B716-FC2FF9FD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85CF-A0A1-4647-90D8-8353A59D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586B-9143-47D1-89E8-5E1EF1EE2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33cc"/>
                </a:solidFill>
                <a:latin typeface="Times New Roman"/>
              </a:rPr>
              <a:t>MARC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BA -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14400" y="2286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Vs. RECORD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DIB4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3152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8600"/>
            <a:ext cx="9144000" cy="62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CREACIÓN DE 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impedimento es la gran cantidad de información recibida por los consumidores                                                               (La sociedad sobre inform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quiere una base de ventas altas. Por eso muchas empresas prefieren usar un nombre en muchos mercado-productos.                                                                          (General Electric, Honda, Luchet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canales alternativos.                                      (promociones, patrocinio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4520" y="0"/>
            <a:ext cx="845496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ALIDAD PERCIB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 Performance Financi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s Otras Dimensiones Percep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se crea la Percepción de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819520"/>
            <a:ext cx="8381880" cy="38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ebe existir Calidad de ver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os errores se pa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lidad en  dimensión importante par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s importante entender que los consumidore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san pequeños trucos para evaluar la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n algunos casos se puede “capacitar” 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23920" y="228600"/>
          <a:ext cx="8696160" cy="592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228600"/>
                    <a:ext cx="869616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2057400" y="4952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gh Loss          Loss               Gain         High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579132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aker y Jacobson, Journal of Marketing Research, May 1994, pp191-2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5486400"/>
            <a:ext cx="11430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5486400"/>
            <a:ext cx="1371600" cy="228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53341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6360" y="611280"/>
            <a:ext cx="8454960" cy="38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EALT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La Lealtad es Ren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Como aumentar la Lealta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lubes, Programas de Frecuentes, Database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k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2680" y="108000"/>
            <a:ext cx="8378640" cy="60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ASOCIACIONES DE LA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 el elemento más importante del valor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rresponde a las distintas asociaciones que hace el consumidor al oir o ver el nombre de la marca. El conjunto de esas Asociaciones es la IMAGEN de la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tas asociaciones pueden incluir entre otro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a celeb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 sí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Lo importante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IDENTIDAD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. La Identidad gobierna las Asoci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DIB6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05360" cy="5180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POR QUÉ ES DIFICIL CONSTRUIR MARC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6360" y="458640"/>
            <a:ext cx="8531280" cy="51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E ES IDENTIDAD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 un conjunto UNICO  de asociaciones de marca que la estrategia aspira a crear o mantener. Estas Asociaciones representan lo que la marca significa y representa una promesa a los clientes de parte de los miembros de la organ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28880" y="609480"/>
            <a:ext cx="70866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MAGEN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es la Marca percibida actu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DENTIDAD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quiere la empresa que la Marca sea percibida por su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685800"/>
            <a:ext cx="914400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TRAMPAS EN LA IDENTIDAD DE MAR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Imagen de Marc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curre cuando existe una imagen posi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o tiende a ser lo que el cliente dice que 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magen de Marca Tác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traté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COMO AYUDAN LAS MARCAS A LOS CONSUMID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43000"/>
            <a:ext cx="8076960" cy="56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Simplifican la elección rutinar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si todas las semanas compro jabón, no tengo que tomar una decisión cada vez, simplemente “echo” Le Sancy en el car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ducen el riesgo en decisiones más complej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Cuando compro un equipo de audio la marca Sony me indica que ciertas cosas estoy seguro que NO me van a pas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na marca me puede producir beneficios emoci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r algo la gente compra Gucci, o anda mostrando la Marca de algunos de sus compr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n algún sentido de “pertenenc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”. (La gente que tiene un computador Apple siente cierto grado de identificación con otros que usan la misma marca, y eso les hace sentirse bi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533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458640"/>
            <a:ext cx="7997760" cy="78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Fijación en los 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que un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ciones de Identidades basadas en Atribu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permiten la diferenci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n fáciles de copi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umen un comportamiento r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n las estrategias de Extensión de Mar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ducen Flexibilidad Estratégica en mercados cambi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68200" y="304920"/>
            <a:ext cx="860760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UATRO PERSPECTIVAS DE LA IDENTIDAD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ORGAN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SI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3623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MODELO DE PLANEACIÓN DE LA IDENTID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DIB7" descr=""/>
          <p:cNvPicPr/>
          <p:nvPr/>
        </p:nvPicPr>
        <p:blipFill>
          <a:blip r:embed="rId1"/>
          <a:stretch/>
        </p:blipFill>
        <p:spPr>
          <a:xfrm>
            <a:off x="3733920" y="0"/>
            <a:ext cx="399708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8640" y="534960"/>
            <a:ext cx="8150400" cy="63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ón con la Clase Producto. (Nestlé Lácte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roblema con las Extens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Asociación con Atributos del producto (Peligro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Calidad/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País o Reg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6360" y="228600"/>
            <a:ext cx="8531280" cy="58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Organización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calizada en atributos de la organización y no del producto.(Caso Saturn, Banco de C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ersona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ersonalidad de una marca puede ser la base para una relación con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Símbo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símbolo puede proveer cohesión a la identidad y permitir mayor reconocimiento y record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POLITICA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2209680"/>
            <a:ext cx="74678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ún la mezcla de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arag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Línea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Doble (o Trip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1647720"/>
            <a:ext cx="685800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cada producto la empresa le asigna una marca y un posicionamiento especí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s: Detergentes OMO, DRIVE, SK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la política tradicional de empresas como Procter &amp; Gamble y L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NTAJA:  La empresa no “juega” su reputación en el resultado de un producto en el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ARAGU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793880"/>
            <a:ext cx="7925040" cy="32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marca Paraguas acoge a varias Categorías de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chas empresas usan su nombre como marca Paraguas. Daewoo, Sony, IBM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LÍ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47720"/>
            <a:ext cx="70106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un intermedio entre la marca Paraguas y la Marca por producto. Se usa sobretodo cuando el producto no es de mucho volumen de ventas.  Es muy costoso una marca disti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habla de extensión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 Salsa de Tomate Carozzi. Los refrescos en polvo son Cari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40" y="3808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JERARQUÍAS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1295280"/>
            <a:ext cx="76197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amplia que la o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uede haber varios niveles.                             (Nestlé,  La Lechera, Producto específ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da uno manda un mensaje disti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estlé....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Lechera....Natural/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cha Asada....  Producto específ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04840" y="914400"/>
            <a:ext cx="6934320" cy="47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Porqué la marca Marlboro vale 50 mil millones de U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i las marcas pueden ser un activo tan valioso, ¿porqué no se contabiliz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IB2" descr=""/>
          <p:cNvPicPr/>
          <p:nvPr/>
        </p:nvPicPr>
        <p:blipFill>
          <a:blip r:embed="rId1"/>
          <a:stretch/>
        </p:blipFill>
        <p:spPr>
          <a:xfrm>
            <a:off x="1181160" y="762120"/>
            <a:ext cx="67816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IB1" descr=""/>
          <p:cNvPicPr/>
          <p:nvPr/>
        </p:nvPicPr>
        <p:blipFill>
          <a:blip r:embed="rId1"/>
          <a:stretch/>
        </p:blipFill>
        <p:spPr>
          <a:xfrm>
            <a:off x="2666880" y="0"/>
            <a:ext cx="34815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8040" y="212760"/>
            <a:ext cx="8467920" cy="68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Valor de Marca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es un conjunto de Activos ligados al nombre o símbolo de una marca que agregan (o restan)  valor al producto o servicio entregado por la empres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4 categorías mayores de estos activ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CIENCIA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ALT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ONES DE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80880" y="26668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mo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DIB3" descr=""/>
          <p:cNvPicPr/>
          <p:nvPr/>
        </p:nvPicPr>
        <p:blipFill>
          <a:blip r:embed="rId1"/>
          <a:stretch/>
        </p:blipFill>
        <p:spPr>
          <a:xfrm>
            <a:off x="3124080" y="98280"/>
            <a:ext cx="534204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5840" y="611280"/>
            <a:ext cx="79218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NOCI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onoce usted esta mar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R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Marcas de esta clase Producto conoce us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Top of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4080" y="382680"/>
            <a:ext cx="868356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Marca Familiar tiene vent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2096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Mantequilla de man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971800"/>
            <a:ext cx="297180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2971800"/>
            <a:ext cx="335268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ON MARC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7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19:30:38Z</dcterms:created>
  <dc:creator>maximo bosch</dc:creator>
  <dc:description/>
  <dc:language>en-US</dc:language>
  <cp:lastModifiedBy>Administrador</cp:lastModifiedBy>
  <dcterms:modified xsi:type="dcterms:W3CDTF">2004-10-27T18:27:34Z</dcterms:modified>
  <cp:revision>44</cp:revision>
  <dc:subject/>
  <dc:title>Sin título de diapositiva</dc:title>
</cp:coreProperties>
</file>