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E000-521D-4F7A-B87E-7C6351B1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A27-9690-424D-BB1C-499A5B84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08B-0516-49B3-BDA8-8D119861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FC2A-FAC2-465E-8569-B4D38B96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AB7A-0FF2-48CD-B8DC-D94AB82B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7554-1B11-42FF-B55C-E5C0622D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E17-5A70-4A77-A860-0AFA58E7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1832-9D15-4DD1-B87D-F2091EC3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7EB-396C-4082-8AF1-2AE38F80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CC0F-EE02-466E-A737-E857CE13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C444-7AE1-4CBA-9A10-ACCE275A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1EB9-9FDC-45CC-A4F3-5B5BAA52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A19F-29CE-469D-96A6-DF67D9D2A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oficina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LUZ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cerdo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flechas3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dinero4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DINERO4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opera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dardos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xaminar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interrog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gente1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gente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Universidad De Chile</cp:lastModifiedBy>
  <cp:lastPrinted>2000-03-10T16:13:12Z</cp:lastPrinted>
  <dcterms:modified xsi:type="dcterms:W3CDTF">2001-10-18T15:16:40Z</dcterms:modified>
  <cp:revision>21</cp:revision>
  <dc:subject/>
  <dc:title>Sin título de diapositiva</dc:title>
</cp:coreProperties>
</file>